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7DF3A-0E11-420A-8B9D-F70DDC47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AA3FB-1EDC-4FB8-97F6-265EE5B6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35F0-4FCD-4C88-BC08-25288A8D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C9935-070D-4E74-B37E-7E54A55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7A86E-250B-420F-B1B5-64879635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9BD95-902F-4F0A-BE73-EBCE0C5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E020C-5F25-44B9-9615-FE0E728A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FE626-1187-4A1A-A8C9-9F13CB9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D6648-B726-4EE8-A63C-910894FF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7F037-BA32-4077-86DE-DE8F83E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AF4B4-2732-4081-AD8A-F9242144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3A94-1101-455F-BA71-5F62B82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D1F1-91FC-48A6-8369-7B4C1FBEB1D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7T16:00:24Z</dcterms:modified>
  <cp:revision>364</cp:revision>
  <dc:subject/>
  <dc:title>Formulación de Proyectos</dc:title>
</cp:coreProperties>
</file>