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DFAEF-68A9-4A28-AE9C-74028A6B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EA8AD-8A9E-4501-8244-EA53013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732B-5A23-4096-9A6E-6C28657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223BF-F295-408E-8F3B-131A52B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40241-69A8-47EB-B6D1-FADE73BA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B69DC-F8C3-42F0-BE89-950B043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4D82B-9296-47BA-9942-D342E33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958EB-6228-4ED9-AAB5-C85EA2C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E4E38-DD00-48B6-93B1-B96F542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2DC5-A68E-476D-ABB5-0B6C0EFE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71AC-6ACB-4C08-BE77-020B530A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93F5-0694-4F6F-A93B-301BCE5A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E0F3-55B3-4014-A3D9-96F9A730EFFE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8:20Z</dcterms:modified>
  <cp:revision>361</cp:revision>
  <dc:subject/>
  <dc:title>Formulación de Proyectos</dc:title>
</cp:coreProperties>
</file>