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7497-295D-4A5D-857E-50DDA4CA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E78-51D1-4BD8-8905-FD47954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63F-0DC3-4175-9598-CD04F0E7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1F4-FF80-40E9-AECF-3733BEA0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5AD-2FF9-4BC2-A881-D0879E46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FB9-394D-4BAF-8B24-7C444CE3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D98-A82C-47EE-BB4C-FD9D8CFB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186-0DBF-406B-9C68-FE360092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245-FD3A-414A-B542-A94EE9C1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3CD-03B8-4CB0-BFDA-1D24536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16C-02D4-49BB-A0E8-74E91880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FAA-43E0-4B5A-AC12-EBA3F6B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98EC-FD20-49C0-8A5D-494ACE67DD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fesor Claudio Jiménez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 o verdade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,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,25 / 100 = 10,25 % anual (tasa efectiva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Claudio Jiménez</cp:lastModifiedBy>
  <dcterms:modified xsi:type="dcterms:W3CDTF">2011-04-28T16:05:46Z</dcterms:modified>
  <cp:revision>25</cp:revision>
  <dc:subject/>
  <dc:title>Diapositiva 1</dc:title>
</cp:coreProperties>
</file>