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EC5E-59A3-4601-95B0-195B9AF1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80D-DE79-40EE-8E1F-35BA2917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B425-8A26-4998-AD9C-54AC55FC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000A-2BE4-41C5-8817-FF3E5F4E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339-6421-4D0D-B3FE-859CEFA5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634-293A-4AD4-820D-5BD7AEDC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C50-9BA4-493D-84AB-A6A16270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5A35-7751-4741-9C81-2F9E2851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2ACD-F695-452D-A24A-01EA85E7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0C21-1187-46B0-9160-BE78A654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469-2E26-44C8-A530-ED1397BF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B37C-760B-466D-99AB-DE4A1750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5ACF-D898-45D9-924D-7555B1F052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br>
              <a:rPr sz="4000"/>
            </a:br>
            <a:br>
              <a:rPr sz="40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ofesor Claudio Jiménez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066680" y="1447920"/>
          <a:ext cx="229572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22957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5"/>
          <p:cNvGraphicFramePr/>
          <p:nvPr/>
        </p:nvGraphicFramePr>
        <p:xfrm>
          <a:off x="3886200" y="1600200"/>
          <a:ext cx="4952880" cy="41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600200"/>
                    <a:ext cx="4952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3. Diagrama Flujo de Caja (DF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finición: DFC es un horizonte de tiempo en el cual se registran ingresos y egresos efectivos de dinero justo en el momento en que ocurren. Su utilidad es que nos permite hacer equivalencias entre valores presentes y valores futuros en cualquier instante de tiempo. Convenc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bajo es un egreso efectivo de dinero (E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rriba es un ingreso efectivo de dinero (I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asume que los ingresos y egresos efectivos de dinero son vencidos (al final del período) salvo que se diga lo contrario (anticip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lujo de Caja Neto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I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– E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FC de un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752480" y="5410080"/>
            <a:ext cx="5991120" cy="1262880"/>
            <a:chOff x="1752480" y="5410080"/>
            <a:chExt cx="5991120" cy="1262880"/>
          </a:xfrm>
        </p:grpSpPr>
        <p:sp>
          <p:nvSpPr>
            <p:cNvPr id="113" name="Line 5"/>
            <p:cNvSpPr/>
            <p:nvPr/>
          </p:nvSpPr>
          <p:spPr>
            <a:xfrm>
              <a:off x="1752480" y="6248160"/>
              <a:ext cx="571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7377120" y="6213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 flipV="1">
              <a:off x="1828800" y="541008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25146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9"/>
            <p:cNvSpPr/>
            <p:nvPr/>
          </p:nvSpPr>
          <p:spPr>
            <a:xfrm>
              <a:off x="40384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>
              <a:off x="32767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1"/>
            <p:cNvSpPr/>
            <p:nvPr/>
          </p:nvSpPr>
          <p:spPr>
            <a:xfrm>
              <a:off x="48769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>
              <a:off x="57150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>
              <a:off x="65530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de una 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Típ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752480" y="18288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1752480" y="18288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251460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3276720" y="12189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 flipV="1">
            <a:off x="4038480" y="990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4876920" y="9144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 flipV="1">
            <a:off x="571500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 flipV="1">
            <a:off x="65530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7429320" y="16002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752480" y="4419720"/>
            <a:ext cx="68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2971800" y="365760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4800600" y="32767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icip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4800600" y="403848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705720" y="327672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6781680" y="403848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2895480" y="51102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4800600" y="533880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800600" y="464832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itm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5"/>
          <p:cNvSpPr/>
          <p:nvPr/>
        </p:nvSpPr>
        <p:spPr>
          <a:xfrm flipV="1">
            <a:off x="2438280" y="40381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2438280" y="4800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 flipV="1">
            <a:off x="4267080" y="35049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4267080" y="4038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 flipV="1">
            <a:off x="4267080" y="49528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267080" y="54864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3"/>
          <p:cNvSpPr/>
          <p:nvPr/>
        </p:nvSpPr>
        <p:spPr>
          <a:xfrm>
            <a:off x="617220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4"/>
          <p:cNvSpPr/>
          <p:nvPr/>
        </p:nvSpPr>
        <p:spPr>
          <a:xfrm>
            <a:off x="61722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9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0"/>
          <p:cNvSpPr/>
          <p:nvPr/>
        </p:nvSpPr>
        <p:spPr>
          <a:xfrm>
            <a:off x="64771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6705720" y="472428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7086600" y="533412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préstamo a n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1981080" y="2438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1981080" y="175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457200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525680" y="161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715280" y="3214800"/>
            <a:ext cx="54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8306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33044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015520" y="2224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746440" y="20718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748160" y="3998880"/>
            <a:ext cx="221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VP *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41911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4939560" y="399888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pitalizar o deveng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1836720" y="5065560"/>
            <a:ext cx="21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P = 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/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>
            <a:off x="41911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5092200" y="510552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ualizar o descont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4. Tasas Efectivas v/s Nomi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rmalmente cuando se invierte o se pide prestado lo habitual es que se entregue el valor de una tasa que tiene un período que puede ser anual, semestral, trimestral, etc. y éste es el período de la tas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inversión o préstamo puede capitalizar o devengar intereses más de una vez en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eríodo en el cual se capitalizan los intereses se denomina período de capitalización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igual a p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, estamos frente a un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asa efectiva o verdader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. Ejemplo: i = 10% anual (pt) capitalizable anualmente (pc). En este caso, como pt = pc el pc se obvia y la tasa se menciona como i = 10% an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0.1) =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 / 100 = 10% anual (tasa efectiva o verdade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mayor que pc,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mos frente a u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tasa nominal o aparente. Ejemplo: i = 10% anual capitalizable semestralmente.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este caso, la tasa efectiva asociada a la tasa nominal que se informó es mayor a un 10% an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6 mes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10% / 2) = 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5 * (1 + 5%) = 110,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,25 / 100 = 10,25 % anual (tasa efectiva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la tasa efectiva o verdadera (10,25 % anual) es mayor que la tasa nominal informada (10 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mportante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das las ecuaciones del valor del dinero en el tiempo utilizan tasas efectivas. Por lo tanto, debemos transformar las tasas nominales que informa el mercado en tasa efectivas y esto lo podemos hacer a través de la siguiente ecuació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 1 + j / m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on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= tasa nominal (10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 = nº de veces que se capitaliza la tasa nominal en el pt (2 ve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/ m = tasa efectiva del pc (5% semest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tasa efectiva del pt (10, 25% an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clusión: mientras más veces se capitaliza la tasa nominal en el pt, la tasa efectiva asociada a esta tasa nominal es cada vez mayor. El caso extremo es cuando se capitalizan intereses segundo a segundo (capitalización continua, m tiende a infinito). Ejemplo: hay proyectos en que el stock de riqueza invertida crece instante a instante, entre ellos podemos mencionar la engorda de animales, el añejamiento de vinos, la crianza de aves, los proyectos forestales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j = 10 % anual capitalizable continuamente, m tiende a infinito y la ecuación para encontrar 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pt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j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anual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0.1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1 = 10,51%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cuación anterior tiene otra utilidad: “ nos permite establecer equivalencias entre tasa de interés efectivas de distintos períod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nuestro ejercicio en que j = 10 % anual capitalizable semestralmente lo que hicimos fue lo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0.05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10.25% (tasa efec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5. Intereses Interperiod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6. Tasas Spots y For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po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aquella tasa conocida e informada en el mercado al día de h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na tasa de interés a futuro no observable ni informada directamente en el mercado, pero que se puede calcular a partir de las tasas sp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bas tasas tienen que ser ef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 que se desea conocer con esta nueva distinción de tasas es la estructura temporal de las tasas de interés. No es lo mismo invertir a un año plazo que invertir a 10 años. Lo mismo para un présta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empre que se quiera calcular tasas forwards a partir de tasas spots, éstas deben llevarse a un período en común (por ejemplo: mensual, trimestral,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del Dinero en el Tiempo (VD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de Interés Simple y Com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agrama Flujo de Caja (DF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Efectivas y Nom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eses Interperio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Spots y For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lación, Flujos Reales y Nominales, Interés Real y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blas de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4"/>
          <p:cNvSpPr/>
          <p:nvPr/>
        </p:nvSpPr>
        <p:spPr>
          <a:xfrm>
            <a:off x="1219320" y="16002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25146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38098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12193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976320" y="1447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30976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58272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4422240" y="1386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1219320" y="1600200"/>
            <a:ext cx="1295280" cy="6094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816" h="384">
                <a:moveTo>
                  <a:pt x="0" y="0"/>
                </a:moveTo>
                <a:cubicBezTo>
                  <a:pt x="148" y="192"/>
                  <a:pt x="296" y="384"/>
                  <a:pt x="432" y="384"/>
                </a:cubicBezTo>
                <a:cubicBezTo>
                  <a:pt x="568" y="384"/>
                  <a:pt x="692" y="192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1219320" y="1600200"/>
            <a:ext cx="2590560" cy="144792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1632" h="912">
                <a:moveTo>
                  <a:pt x="0" y="0"/>
                </a:moveTo>
                <a:cubicBezTo>
                  <a:pt x="272" y="456"/>
                  <a:pt x="544" y="912"/>
                  <a:pt x="816" y="912"/>
                </a:cubicBezTo>
                <a:cubicBezTo>
                  <a:pt x="1088" y="912"/>
                  <a:pt x="1528" y="112"/>
                  <a:pt x="16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1759320" y="176688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2369160" y="252900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2908080" y="1219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1165320" y="3505320"/>
            <a:ext cx="675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1371600" y="3352680"/>
            <a:ext cx="5943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un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2 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forward a un período dentro de un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ump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 * ( 1 + 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= 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ordar qu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y que llevarlo al mismo período d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Por esto, ( 1 +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en la formula anterior está elevado al cuad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8. Tabla de Pago de Créd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se solicita un crédito y nos lo otorga cualquier institución financiera, adquirimos el compromiso a pagar intereses (costo del préstamo) y a devolver lo que nos prestaron (esto último se denomina amortización d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 = amortización + intereses (siempre se cancelan primero los intereses y luego se amortiza 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privada de proyectos los intereses son un costo del proyecto financiado y se reconocen como un egreso en el flujo de caja operacional antes de impuesto. La amortización del préstamo es un flujo de caja de capitales y se reconoce como un egr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social de proyectos los flujos asociados a la deuda (préstamo, intereses, ahorro de impuestos y amortizaciones) no son relevantes ya que es sólo una transferencia de recursos dentro del mismo sistema (Sociedad Chilen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pendiendo del sistema o forma de pago, los créditos se clasifican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s iguales (aquí debemos recordar la fórmula de anual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mortizaciones ig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ólo se cancelan los intereses de cada período y se amortiza el total de la deuda en el último período del crédi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amos un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stamo hoy = $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 = 5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) Cuotas iguales (ej.: Créditos hipotecarios con una garantía real como segunda fuente de pa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1941480" y="3581280"/>
            <a:ext cx="52214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) Amortizaciones Iguales (ej.: créditos agrícol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nto Amortización anual = Préstamo / n = 1.000 / 5 =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64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) Sólo intereses por período y la amortización total del préstamo en el último período del préstamo (Ej: líneas de crédito, Bo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6483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ejemplos anteriores son clásicos. Se pueden dar otras formas de pago derivadas de las anteri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de interé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(Ej.: créditos Corfo para estudios superi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e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celación anticipada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negoci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evaluación privada de proyectos y específicamente en el proyecto financiado, los préstamos tienen impacto vía ahorro de impuestos. No obstante, el sistema de pago a elegir va a depender de los flujos del proyecto (capacidad de pago) y del impacto del préstamo en el VAN del proyecto (mejor indicador de rentabilidad, lo verán más adel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1. Defin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es el cambio en la cantidad de dinero durante un período de tiempo d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inero hace Dinero”. 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depósito en 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fondo mut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dir u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se manifiesta en el Mercado a través de l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Tasas de Interé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asas de Interés son un concepto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amos el ejemplo de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rector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una emp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el mínimo rendimiento que se exige a los activos reales es la rentabilidad que obtendrían los accionistas en el mercado de capitales al realizar inversiones en activos financieros (Bonos y Acciones) de similar riesgo al de los activos reales. Esto se denomi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 del Capit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95280" y="2738520"/>
            <a:ext cx="1873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Re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6948360" y="2708280"/>
            <a:ext cx="16560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 en M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Financie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2994480" y="2938320"/>
            <a:ext cx="99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4791960" y="2997360"/>
            <a:ext cx="121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065400" y="1989000"/>
            <a:ext cx="77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2183760" y="378936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203640" y="371628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ernativ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gar al contado a 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292720" y="386064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accionistas Invierten por sí m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2339640" y="31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3419640" y="2419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414036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6156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 flipV="1">
            <a:off x="2627280" y="32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 flipV="1">
            <a:off x="4356000" y="3213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 flipV="1">
            <a:off x="6443640" y="328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7093080" y="429264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395280" y="407196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d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9"/>
          <p:cNvSpPr/>
          <p:nvPr/>
        </p:nvSpPr>
        <p:spPr>
          <a:xfrm>
            <a:off x="1116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0"/>
          <p:cNvSpPr/>
          <p:nvPr/>
        </p:nvSpPr>
        <p:spPr>
          <a:xfrm>
            <a:off x="788508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21844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os aspectos relevantes influyen en la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cisiones de Inversió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Financiamiento: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“El Riesgo y el Tiempo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VDT es valioso ya que da a conocer el efecto d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iem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esg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n tales deci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gunos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incipios Económicos – Financi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hoy vale más que un dólar mañana bajo la premisa de que hoy puedo invertir ese dólar para generar interes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seguro vale más que uno con riesgo” (no todas las inversiones tienen el mismo riesgo. Debemos comparar con alternativas de similar riesgo. Ej. Bonos del Banco Central v/s Proyecto Inmobili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8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384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inic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invierte) = Monto actual – Inversión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pide prestado) = Monto debido actualmente - Préstamo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: el interés se expresa como un porcentaje (%) de la suma original por unidad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es la unidad de tiempo de la  tasa de inte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una empresa invirtió $100.000 y obtuvo un total de $106.000 exactamente un año más tar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= $106.000 (monto actual) - $100.000 (inversión original) = $6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 = $6.000 (interés) / $100.000 (suma original) = 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=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asificación general de las Tasas de Interé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9640" y="3284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268360" y="234936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i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24000" y="4667400"/>
            <a:ext cx="1440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Compu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068720" y="3508200"/>
            <a:ext cx="129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 (Apare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852720" y="5489640"/>
            <a:ext cx="1511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Efectivas (Verdade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869080" y="579132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Forw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5869080" y="44942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p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96360" y="60786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7596360" y="386064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 flipV="1">
            <a:off x="1763640" y="285264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1765440" y="3860640"/>
            <a:ext cx="36828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 flipV="1">
            <a:off x="3564000" y="414288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9"/>
          <p:cNvSpPr/>
          <p:nvPr/>
        </p:nvSpPr>
        <p:spPr>
          <a:xfrm>
            <a:off x="3564000" y="494172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 flipV="1">
            <a:off x="5334120" y="5105520"/>
            <a:ext cx="507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3"/>
          <p:cNvSpPr/>
          <p:nvPr/>
        </p:nvSpPr>
        <p:spPr>
          <a:xfrm>
            <a:off x="5364000" y="5877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796000" y="253368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5796000" y="36450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6"/>
          <p:cNvSpPr/>
          <p:nvPr/>
        </p:nvSpPr>
        <p:spPr>
          <a:xfrm flipV="1">
            <a:off x="5410080" y="3123720"/>
            <a:ext cx="355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7"/>
          <p:cNvSpPr/>
          <p:nvPr/>
        </p:nvSpPr>
        <p:spPr>
          <a:xfrm>
            <a:off x="5364000" y="3860640"/>
            <a:ext cx="4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8"/>
          <p:cNvSpPr/>
          <p:nvPr/>
        </p:nvSpPr>
        <p:spPr>
          <a:xfrm>
            <a:off x="7596360" y="537372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9"/>
          <p:cNvSpPr/>
          <p:nvPr/>
        </p:nvSpPr>
        <p:spPr>
          <a:xfrm>
            <a:off x="7596360" y="46530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0"/>
          <p:cNvSpPr/>
          <p:nvPr/>
        </p:nvSpPr>
        <p:spPr>
          <a:xfrm flipV="1">
            <a:off x="7093080" y="422100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2"/>
          <p:cNvSpPr/>
          <p:nvPr/>
        </p:nvSpPr>
        <p:spPr>
          <a:xfrm>
            <a:off x="709308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3"/>
          <p:cNvSpPr/>
          <p:nvPr/>
        </p:nvSpPr>
        <p:spPr>
          <a:xfrm flipV="1">
            <a:off x="7093080" y="573372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4"/>
          <p:cNvSpPr/>
          <p:nvPr/>
        </p:nvSpPr>
        <p:spPr>
          <a:xfrm>
            <a:off x="7093080" y="6093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5"/>
          <p:cNvSpPr/>
          <p:nvPr/>
        </p:nvSpPr>
        <p:spPr>
          <a:xfrm>
            <a:off x="3733920" y="20574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3733920" y="27432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7"/>
          <p:cNvSpPr/>
          <p:nvPr/>
        </p:nvSpPr>
        <p:spPr>
          <a:xfrm flipV="1">
            <a:off x="3505320" y="2438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8"/>
          <p:cNvSpPr/>
          <p:nvPr/>
        </p:nvSpPr>
        <p:spPr>
          <a:xfrm>
            <a:off x="3505320" y="2590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2. Tasas de Interés Simples y Compue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80880" y="1447920"/>
            <a:ext cx="822960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no generan intereses. Sólo el principal (inversión o préstamo) genera intereses. De otra forma es aquel que no considera reinversión de los intereses ganados en perí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0 , VP = $100 e 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 VP + VP * i = $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P * i  (Observemos que sólo calculamos intereses sobre el principal origin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+ VP * i + VP * i = VP + 2 * VP * i =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n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n * VP * i ==&gt;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n *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Com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si generan intereses. El principal original más los intereses generan intereses. De otra forma se asume reinversión de los intereses obtenidos en peri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gamos que T = 0, VP = $100 e i = 10% an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=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* i Observemos ahora calculamos intereses sobre el principal original más los intereses generados en el añ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+ VP * i + VP * i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* i   ==&gt;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01:01:05Z</dcterms:created>
  <dc:creator>CHECHO</dc:creator>
  <dc:description/>
  <dc:language>en-US</dc:language>
  <cp:lastModifiedBy>Claudio Jiménez</cp:lastModifiedBy>
  <dcterms:modified xsi:type="dcterms:W3CDTF">2011-04-28T16:05:46Z</dcterms:modified>
  <cp:revision>25</cp:revision>
  <dc:subject/>
  <dc:title>Diapositiva 1</dc:title>
</cp:coreProperties>
</file>