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564-0BB3-4B44-B3FC-5B3D6B0C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BEC-0D12-49C7-B494-64087B6B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BA7-81FD-4D3A-88AB-EC2A98D6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1D6-3CE9-4CF8-A40D-9EC29C0A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19A-4C48-472A-A9B3-F5FBED9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8BD-91C0-47E6-99A8-8F89F871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A87-04BF-44B1-B6EA-883B1527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F6E-2124-423B-910F-0512CCE5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5BA-E824-4745-900B-9B9A691F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B3C-FE66-46F4-9E46-85416CD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AFC-E98B-45C3-873A-A0A0BCC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F80-77DE-464B-BBF8-E498BC6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C1BC-8C64-4CB0-BB85-31A6A76D77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fesor Claudio Jiménez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 o verdade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,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,25 / 100 = 10,25 % anual (tasa efectiva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Claudio Jiménez</cp:lastModifiedBy>
  <dcterms:modified xsi:type="dcterms:W3CDTF">2011-04-28T16:05:46Z</dcterms:modified>
  <cp:revision>25</cp:revision>
  <dc:subject/>
  <dc:title>Diapositiva 1</dc:title>
</cp:coreProperties>
</file>