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1E69-E5FE-482C-8167-2C0661C4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D575-49DA-4D97-B0F8-3E9237D7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6B7B-5388-452B-8C8E-007AEDB7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6CE7-6D2F-464D-9688-FAA7CF18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E95CF-D950-4851-A85A-EF65D7FCB3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7027F-D79C-41F7-954B-611B8C2B37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CF237-C49D-4440-98D8-A8CDE30E82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3D29A-18EF-4017-922E-158893067A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6636A-19F4-4603-A987-A0E4D0891C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DB370-A38C-48B7-94AA-10D36C42D1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C1BDC-10C6-4F0E-B670-320E3985AC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2940-9CC6-4752-8EB3-B4A82B90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D6008-23B9-4542-912F-7C3C441589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6ED1A-A17A-46C9-90B2-E99D45F7E7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0E39C-C73C-4DA0-9737-ECA07A849B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C7FA0-1D3B-43F5-AAE2-A744AD68683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B6E51-A9AA-4EBD-98B2-DE91944682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54CE-CBDB-4C6A-B326-79A77619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8D91-F0BE-4727-8FBA-D6CA9129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87B6-8D10-4DEB-8FBE-EAF734F6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10E0-ABC8-43C3-9587-CE7DB11E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4660-7A97-418A-A36A-E60A3CC9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6036-7ECF-44C8-9329-1DDC3BEB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53E8-33E9-45A1-AA8F-E35C3B82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3E12-5EF7-49B7-92E8-7D011A4F9BA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2 Subtítulo"/>
          <p:cNvSpPr/>
          <p:nvPr/>
        </p:nvSpPr>
        <p:spPr>
          <a:xfrm>
            <a:off x="357120" y="5357880"/>
            <a:ext cx="62150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2 Subtítulo"/>
          <p:cNvSpPr/>
          <p:nvPr/>
        </p:nvSpPr>
        <p:spPr>
          <a:xfrm>
            <a:off x="2071800" y="3929040"/>
            <a:ext cx="51433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Universidad de Ch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Departamento de Ingeniería Industr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2 Subtítulo"/>
          <p:cNvSpPr/>
          <p:nvPr/>
        </p:nvSpPr>
        <p:spPr>
          <a:xfrm>
            <a:off x="285840" y="428760"/>
            <a:ext cx="835812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IN4301 – Análisis y Matemáticas Financie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libri"/>
              </a:rPr>
              <a:t>Otoño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47520" y="6458040"/>
            <a:ext cx="550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843240" y="64638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2724-A99B-49C1-AF58-93046B199E6E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03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Auxiliar 2</a:t>
            </a:r>
            <a:br>
              <a:rPr sz="4400"/>
            </a:b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Análisis Estático del Bala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6843600" y="646416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4DE0-1877-4754-953B-6A053F33FA30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Estructura del Bala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FFB3-6046-4C46-B0BB-545BB846694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42920" y="1600200"/>
          <a:ext cx="6913800" cy="453060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.Y P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33"/>
          <p:cNvSpPr/>
          <p:nvPr/>
        </p:nvSpPr>
        <p:spPr>
          <a:xfrm>
            <a:off x="8028000" y="206064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95280" y="249228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35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4f81b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6"/>
          <p:cNvSpPr/>
          <p:nvPr/>
        </p:nvSpPr>
        <p:spPr>
          <a:xfrm>
            <a:off x="8032680" y="1557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7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8"/>
          <p:cNvSpPr/>
          <p:nvPr/>
        </p:nvSpPr>
        <p:spPr>
          <a:xfrm>
            <a:off x="328680" y="148428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9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40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4f81b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Estructura Activ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AC v/s AF, el porcentaje de la distribución tiene que ver con el giro de la empres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onsolidación del AF (AF no líquido / AFB),  si es consolidado es que tiende muy poco a la liquedez, ejemplos son los terrenos (no se deprecian) o los edificios que son muy consolidados. Si es muy consolidado se necesita correspondencia con el capital propio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Grado de Obsolescencia (Deprec. Acum. / AFB),  si es muy alto existira la necesidad de reponer activos y de contar con el flujo de caja para hacerlo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D8D2-DB45-4ECC-9FC5-76A47BF9B5A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Estructura Pasiv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Autofinanciación: Esto se refiere a la generación interna de recursos, es decir aporte de capitales, retención de utilidades, reservas, provisiones o incluso la depreciación. (restringir dividendos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Importante notar que la proporción entre capital propio vs reservas dependerá de los intereses de los accionista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Calidad del endeudamiento: se refiere a cuanto exigible es a CP o LP, se recomienda mejor LP que CP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Ratio de endeudamiento: Pasivos / Patrimoni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Recursos cíclicos v/s expresos: Los recursos cíclicos son los que se regeneran “automáticamente”. Interesa tener cíclicos debido a que generalmente son de adquisiciones y se renuevan por lo que es un pasivo sin fecha de vencimiento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FF72-4EE5-4C45-AC79-D10144A200AD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alibri"/>
              </a:rPr>
              <a:t>P1) Realice la estructura del balanc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B860-AF8A-4DE9-B0BC-B1F770040B5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2071800" y="1571760"/>
            <a:ext cx="507672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571800" y="1856880"/>
            <a:ext cx="1971720" cy="5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Solució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C401-BA01-40EF-B482-1389B2972A8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85840" y="142920"/>
            <a:ext cx="571500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2) Calcule los ratios de endeudamiento. Coment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3)Calcule la solidez patrimonial. Coment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4) Calcule la estructura general de la empresa, a que rubro cree que pertenec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5) Calcule el grado de consolidación y de obsolencia de la empresa. Comen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P6) A su juicio, cual es la calidad del endeudamient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72A6-C6B0-4987-9D36-F87C9BB3CC0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alibri"/>
              </a:rPr>
              <a:t>Solucion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2) Razón de endeudamiento 55,75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Razón deuda patrimonio 1,32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Razón estructura deuda 52,89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3) Solidez Patrimonial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Razón deuda patrimonio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4) Estructura del Activo 52,47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5) Grado de consolidación 66,38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Grado de obsolencia 18,42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6) % de LP 52,89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% de CP 47,11%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D330-FDE0-4C71-B9FD-B1ABF20A159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Análisis del Bala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28400" y="128556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Corresponde al análisis de los valores que muestra el balance genera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Lo que se busca es evaluar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Situación de liquidez o capacidad de pag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Calidad y cantidad del endeudamient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Capitalizació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Gestión de los activo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Nuestro caso particular es el análisis estático, que solo analiza las grandes agrupaciones de los activos y pasivo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1DE1-0323-4B24-810D-BBE13D6F3BD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Análisis Estático del Bala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Su principal objetivo es analizar la solidez patrimonia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Equilibrio financier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Endeudamient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También  se puede analizar la estructura del activ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AC v/s AF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Consolidación del  Activo fijo = AF no liquido  /  Act. Fijo  brut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Grado de obsolencia = Depreciación acumulada / Act. Fijo brut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A la vez se analiza la estructura del pasiv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Endeudamiento: exigible v/s capital propi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Capital propio: capital social pagado v/s autofinanciació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Capital ajeno (“calidad de la deuda”):  LP v/s C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Recursos ciclicos v/s expreso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CD2F-9AFA-47BE-88F5-BAA2F29294F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Análisis de Ratio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Existe también el análisis a través de Ratio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Las familias principales son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Liquidez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Endeudamient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Activida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Rentabilida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Para el caso del balance estático, solo los ratios de endeudamiento nos interesan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Cuando se ocupa este análisis es importante entender que el ratio por si solo no dice mucho, es necesario ocupar patrones de comparación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Calibri"/>
              </a:rPr>
              <a:t>Objetivos de la empres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Calibri"/>
              </a:rPr>
              <a:t>Promedio sectoria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Calibri"/>
              </a:rPr>
              <a:t>Evolución histórica, etc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0350-FCCA-4872-A201-8F0789C45A14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Ratios de Endeudamient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8923-EB05-4E7F-8295-D2334DD9FDD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Razón de endeudamiento= Pasivo Total / Activo tot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Razón deuda/patrimonio = Pasivo total / Patrimoni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Razón estructura deuda = Pasivo Largo Plazo / Pasivo tot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Razon cobertura de Intereses , no tenemos los datos para calcularlo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Pero ant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Recuerdan que son los activos circulantes y fijo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Recuerdan que son los créditos cíclicos y financiamiento expres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Que era la autofinanciació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La estructura del bala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Etc……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D8EA-1A15-46B3-AF62-CC23332D170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Activo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Activo Circulante: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Activos o recursos de la empresa que serán vendidos,  realizados o consumidos dentro de un año desde la fecha del  estado financiero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Ejemplos: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Disponible, depósitos a plazo, deudores por venta, documentos por cobrar,  existencias,  valores negociables,  gastos pagados por anticipado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Activo Fijo: Terrenos (no depreciables),  construcciones y obras de infraestructura,  maquinaria y equipos,  depreciación acumulada (menos)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oncepto económico: riqueza en funcionamiento para crear mas riquez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Principio financiero: tendencia a la liquidez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A597-22C0-42D6-8CFA-A5D5B44CB79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Pasivo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Pasivo circulante: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Aquellas obligaciones contraídas por la empresa que serán canceladas dentro del plazo de un año a contar de la fecha de los estados financiero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alibri"/>
              </a:rPr>
              <a:t>Ejemplos: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Obligaciones con bancos a C.P., parte de las obligaciones a  LP que vence antes de 1 año,  obligaciones con el público a CP., cuentas por pagar,  documentos por pagar, provisiones,  ingresos percibidos por anticipado,  impuestos por pagar, etc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Pasivos de largo plazo: Obligaciones con bancos e instituciones financieras,  obligaciones con el público (bonos), documentos por pagar, acreedores varios, etc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oncepto económico: El pasivo es la lista de agentes económicos, dueños del activo, a ser retribuido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Principio financiero: tendencia a la exigibilida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F273-F258-44DE-BBF7-A40103E85E83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Calibri"/>
              </a:rPr>
              <a:t>Patrimoni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Capital y Reserv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Utilidades (pérdidas) acumulada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Utilidades (pérdidas) del Ejercici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Menos los dividendos o retiros de Utilidad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Concepto:  capital propio, propietarios de pleno derech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Principio financiero: ????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CA69-9C00-4383-861B-FCD6720B39C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6:42:40Z</dcterms:created>
  <dc:creator>glhuilli</dc:creator>
  <dc:description/>
  <dc:language>en-US</dc:language>
  <cp:lastModifiedBy>Alumno</cp:lastModifiedBy>
  <dcterms:modified xsi:type="dcterms:W3CDTF">2010-04-07T14:27:10Z</dcterms:modified>
  <cp:revision>361</cp:revision>
  <dc:subject/>
  <dc:title>Bases de Datos: Teoría y Aplicaciones</dc:title>
</cp:coreProperties>
</file>