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59210-4655-4561-84B7-693994FA6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AA407-62E0-42B2-80F5-7234F1189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8EE9F-6D28-4227-8FA4-2D6339355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95331-CA21-4CF0-96F9-217F1F853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A67092-B215-4681-BE84-ABC4906F9F4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A627B7-89B0-4DCB-8335-BAB89E24E39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6D7470-6C72-4461-9523-4828BECDC0E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EE3B3A-443C-41EB-A573-7B80364C6E1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91E66F-E89D-4902-AC75-6C518D072E7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B7F054-2000-40E0-9175-4FAD7332B62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B63334-2A96-471C-A985-A72383F5634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CFD14-65E3-4069-B3E8-7CFE22D62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BC7667-53F2-4CE9-8979-B0B86F23A65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1716C1-466B-4CCF-A0EB-1FAE7116D0C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092475-937F-4F15-9837-63CBCD40632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F80B0B-B85D-4C9B-B153-E68359EC354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8BC3F6-8836-4905-BB64-58B0CF4B065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3A619-FB07-4205-8504-57C303F76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0F1A5-ED60-41C3-81E6-D6FF674C0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3636D-00E6-4829-A2E5-460C361D1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96FF1-7D49-4289-AEEC-60686D7CB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7CFEC-94C8-431E-9400-16FD569BE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4D24F-D7F3-4501-8723-CD8EA1FBE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5B4B5-F294-47B3-AE7D-EA73913C7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E6AB4-345E-434A-8AD0-F765F0A515F5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2 Subtítulo"/>
          <p:cNvSpPr/>
          <p:nvPr/>
        </p:nvSpPr>
        <p:spPr>
          <a:xfrm>
            <a:off x="357120" y="5357880"/>
            <a:ext cx="621504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2 Subtítulo"/>
          <p:cNvSpPr/>
          <p:nvPr/>
        </p:nvSpPr>
        <p:spPr>
          <a:xfrm>
            <a:off x="2071800" y="3929040"/>
            <a:ext cx="514332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Calibri"/>
              </a:rPr>
              <a:t>Universidad de Chi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Calibri"/>
              </a:rPr>
              <a:t>Departamento de Ingeniería Industrial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2 Subtítulo"/>
          <p:cNvSpPr/>
          <p:nvPr/>
        </p:nvSpPr>
        <p:spPr>
          <a:xfrm>
            <a:off x="285840" y="428760"/>
            <a:ext cx="835812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Calibri"/>
              </a:rPr>
              <a:t>IN4301 – Análisis y Matemáticas Financier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Calibri"/>
              </a:rPr>
              <a:t>Otoño 20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4"/>
          </p:nvPr>
        </p:nvSpPr>
        <p:spPr>
          <a:xfrm>
            <a:off x="47520" y="6458040"/>
            <a:ext cx="5500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6843240" y="646380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E76F7-E8BE-4591-8884-35172EFE501B}" type="slidenum">
              <a:rPr b="1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14240" y="2030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ff"/>
                </a:solidFill>
                <a:latin typeface="Calibri"/>
              </a:rPr>
              <a:t>Auxiliar 2</a:t>
            </a:r>
            <a:br>
              <a:rPr sz="4400"/>
            </a:br>
            <a:r>
              <a:rPr b="0" lang="es-MX" sz="4400" spc="-1" strike="noStrike">
                <a:solidFill>
                  <a:srgbClr val="ffffff"/>
                </a:solidFill>
                <a:latin typeface="Calibri"/>
              </a:rPr>
              <a:t>Análisis Estático del Balanc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" name="3 Marcador de número de diapositiva"/>
          <p:cNvSpPr/>
          <p:nvPr/>
        </p:nvSpPr>
        <p:spPr>
          <a:xfrm>
            <a:off x="6843600" y="646416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E6165-A7EB-4C53-ABAE-DFB4125FBFAB}" type="slidenum">
              <a:rPr b="1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Calibri"/>
              </a:rPr>
              <a:t>Estructura del Balanc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3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4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49E7A-A4AA-4339-8786-9CA71D47FB1E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1042920" y="1600200"/>
          <a:ext cx="6913800" cy="4530600"/>
        </p:xfrm>
        <a:graphic>
          <a:graphicData uri="http://schemas.openxmlformats.org/drawingml/2006/table">
            <a:tbl>
              <a:tblPr/>
              <a:tblGrid>
                <a:gridCol w="3360960"/>
                <a:gridCol w="3552840"/>
              </a:tblGrid>
              <a:tr h="1133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CTIVO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AS.Y PAT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CTIVO CIRCULANT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ASIVO CIRCULANT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133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CTIVO FIJ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ASIVO LARGO PLAZ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OTROS ACTIVO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ATRIMONI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1" name="Rectangle 33"/>
          <p:cNvSpPr/>
          <p:nvPr/>
        </p:nvSpPr>
        <p:spPr>
          <a:xfrm>
            <a:off x="8028000" y="2060640"/>
            <a:ext cx="3808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Arial"/>
              </a:rPr>
              <a:t>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Arial"/>
              </a:rPr>
              <a:t>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Rectangle 34"/>
          <p:cNvSpPr/>
          <p:nvPr/>
        </p:nvSpPr>
        <p:spPr>
          <a:xfrm>
            <a:off x="395280" y="2492280"/>
            <a:ext cx="423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Arial"/>
              </a:rPr>
              <a:t>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Arial"/>
              </a:rPr>
              <a:t>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Arial"/>
              </a:rPr>
              <a:t>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Arial"/>
              </a:rPr>
              <a:t>Z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Line 35"/>
          <p:cNvSpPr/>
          <p:nvPr/>
        </p:nvSpPr>
        <p:spPr>
          <a:xfrm>
            <a:off x="8610480" y="1828800"/>
            <a:ext cx="0" cy="4495680"/>
          </a:xfrm>
          <a:prstGeom prst="line">
            <a:avLst/>
          </a:prstGeom>
          <a:ln w="76320">
            <a:solidFill>
              <a:srgbClr val="4f81bd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Rectangle 36"/>
          <p:cNvSpPr/>
          <p:nvPr/>
        </p:nvSpPr>
        <p:spPr>
          <a:xfrm>
            <a:off x="8032680" y="1557360"/>
            <a:ext cx="358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Book Antiqua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37"/>
          <p:cNvSpPr/>
          <p:nvPr/>
        </p:nvSpPr>
        <p:spPr>
          <a:xfrm>
            <a:off x="8029440" y="5877000"/>
            <a:ext cx="282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Book Antiqua"/>
              </a:rPr>
              <a:t>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Rectangle 38"/>
          <p:cNvSpPr/>
          <p:nvPr/>
        </p:nvSpPr>
        <p:spPr>
          <a:xfrm>
            <a:off x="328680" y="1484280"/>
            <a:ext cx="358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Book Antiqua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Rectangle 39"/>
          <p:cNvSpPr/>
          <p:nvPr/>
        </p:nvSpPr>
        <p:spPr>
          <a:xfrm>
            <a:off x="396720" y="5805360"/>
            <a:ext cx="282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Book Antiqua"/>
              </a:rPr>
              <a:t>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40"/>
          <p:cNvSpPr/>
          <p:nvPr/>
        </p:nvSpPr>
        <p:spPr>
          <a:xfrm>
            <a:off x="304920" y="1981080"/>
            <a:ext cx="0" cy="3962520"/>
          </a:xfrm>
          <a:prstGeom prst="line">
            <a:avLst/>
          </a:prstGeom>
          <a:ln w="76320">
            <a:solidFill>
              <a:srgbClr val="4f81bd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Calibri"/>
              </a:rPr>
              <a:t>Estructura Activo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-3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alibri"/>
              </a:rPr>
              <a:t>AC v/s AF, el porcentaje de la distribución tiene que ver con el giro de la empresa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alibri"/>
              </a:rPr>
              <a:t>Consolidación del AF (AF no líquido / AFB),  si es consolidado es que tiende muy poco a la liquedez, ejemplos son los terrenos (no se deprecian) o los edificios que son muy consolidados. Si es muy consolidado se necesita correspondencia con el capital propio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alibri"/>
              </a:rPr>
              <a:t>Grado de Obsolescencia (Deprec. Acum. / AFB),  si es muy alto existira la necesidad de reponer activos y de contar con el flujo de caja para hacerlo.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3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4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B4A08-B021-465D-A922-97D047E81194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Calibri"/>
              </a:rPr>
              <a:t>Estructura Pasivo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Calibri"/>
              </a:rPr>
              <a:t>Autofinanciación: Esto se refiere a la generación interna de recursos, es decir aporte de capitales, retención de utilidades, reservas, provisiones o incluso la depreciación. (restringir dividendos)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Calibri"/>
              </a:rPr>
              <a:t>Importante notar que la proporción entre capital propio vs reservas dependerá de los intereses de los accionistas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Calibri"/>
              </a:rPr>
              <a:t>Calidad del endeudamiento: se refiere a cuanto exigible es a CP o LP, se recomienda mejor LP que CP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Calibri"/>
              </a:rPr>
              <a:t>Ratio de endeudamiento: Pasivos / Patrimonio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Calibri"/>
              </a:rPr>
              <a:t>Recursos cíclicos v/s expresos: Los recursos cíclicos son los que se regeneran “automáticamente”. Interesa tener cíclicos debido a que generalmente son de adquisiciones y se renuevan por lo que es un pasivo sin fecha de vencimiento.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3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4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16B51-64B2-41E0-AFE9-F47164177FE5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Calibri"/>
              </a:rPr>
              <a:t>P1) Realice la estructura del balance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3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4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487E5-21AC-4C26-B571-B8F7C6068CE6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2" descr=""/>
          <p:cNvPicPr/>
          <p:nvPr/>
        </p:nvPicPr>
        <p:blipFill>
          <a:blip r:embed="rId1"/>
          <a:stretch/>
        </p:blipFill>
        <p:spPr>
          <a:xfrm>
            <a:off x="2071800" y="1571760"/>
            <a:ext cx="5076720" cy="46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6571800" y="1856880"/>
            <a:ext cx="1971720" cy="5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Calibri"/>
              </a:rPr>
              <a:t>Solució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2" name="3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4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E9A79-8BD9-4CA3-AEB2-9A007A793CCF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285840" y="142920"/>
            <a:ext cx="5715000" cy="65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457200" y="500040"/>
            <a:ext cx="822960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Calibri"/>
              </a:rPr>
              <a:t>P2) Calcule los ratios de endeudamiento. Comente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Calibri"/>
              </a:rPr>
              <a:t>P3)Calcule la solidez patrimonial. Comente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Calibri"/>
              </a:rPr>
              <a:t>P4) Calcule la estructura general de la empresa, a que rubro cree que pertenece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Calibri"/>
              </a:rPr>
              <a:t>P5) Calcule el grado de consolidación y de obsolencia de la empresa. Coment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Calibri"/>
              </a:rPr>
              <a:t>P6) A su juicio, cual es la calidad del endeudamiento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3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4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001CF-C75D-4286-B282-C712AE45678F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Calibri"/>
              </a:rPr>
              <a:t>Solucion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Calibri"/>
              </a:rPr>
              <a:t>P2) Razón de endeudamiento 55,75%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294840" indent="-294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Calibri"/>
              </a:rPr>
              <a:t>Razón deuda patrimonio 1,32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294840" indent="-294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Calibri"/>
              </a:rPr>
              <a:t>Razón estructura deuda 52,89%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294840" indent="-294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294840" indent="-294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Calibri"/>
              </a:rPr>
              <a:t>P3) Solidez Patrimonial </a:t>
            </a:r>
            <a:r>
              <a:rPr b="0" lang="es-E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</a:t>
            </a:r>
            <a:r>
              <a:rPr b="0" lang="es-ES" sz="2000" spc="-1" strike="noStrike">
                <a:solidFill>
                  <a:srgbClr val="ffffff"/>
                </a:solidFill>
                <a:latin typeface="Calibri"/>
              </a:rPr>
              <a:t> Razón deuda patrimonio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294840" indent="-294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294840" indent="-294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Calibri"/>
              </a:rPr>
              <a:t>P4) Estructura del Activo 52,47%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294840" indent="-294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294840" indent="-294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Calibri"/>
              </a:rPr>
              <a:t>P5) Grado de consolidación 66,38%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294840" indent="-294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Calibri"/>
              </a:rPr>
              <a:t>Grado de obsolencia 18,42%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294840" indent="-294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294840" indent="-294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Calibri"/>
              </a:rPr>
              <a:t>P6) % de LP 52,89%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294840" indent="-294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Calibri"/>
              </a:rPr>
              <a:t>% de CP 47,11%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294840" indent="-294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294840" indent="-294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3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4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E7586-AC94-4634-B539-1AB9CC021E12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Calibri"/>
              </a:rPr>
              <a:t>Análisis del Balanc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28400" y="1285560"/>
            <a:ext cx="835812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alibri"/>
              </a:rPr>
              <a:t>Corresponde al análisis de los valores que muestra el balance general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alibri"/>
              </a:rPr>
              <a:t>Lo que se busca es evaluar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alibri"/>
              </a:rPr>
              <a:t>Situación de liquidez o capacidad de pago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alibri"/>
              </a:rPr>
              <a:t>Calidad y cantidad del endeudamiento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alibri"/>
              </a:rPr>
              <a:t>Capitalización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alibri"/>
              </a:rPr>
              <a:t>Gestión de los activo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alibri"/>
              </a:rPr>
              <a:t>Nuestro caso particular es el análisis estático, que solo analiza las grandes agrupaciones de los activos y pasivos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B85DB-C427-4CA2-88CB-627DDA36F04A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Calibri"/>
              </a:rPr>
              <a:t>Análisis Estático del Balanc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Calibri"/>
              </a:rPr>
              <a:t>Su principal objetivo es analizar la solidez patrimonial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20720" indent="-277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Calibri"/>
              </a:rPr>
              <a:t>Equilibrio financiero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20720" indent="-277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Calibri"/>
              </a:rPr>
              <a:t>Endeudamiento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Calibri"/>
              </a:rPr>
              <a:t>También  se puede analizar la estructura del activo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20720" indent="-277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Calibri"/>
              </a:rPr>
              <a:t>AC v/s AF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20720" indent="-277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Calibri"/>
              </a:rPr>
              <a:t>Consolidación del  Activo fijo = AF no liquido  /  Act. Fijo  bruto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20720" indent="-277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Calibri"/>
              </a:rPr>
              <a:t>Grado de obsolencia = Depreciación acumulada / Act. Fijo bruto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Calibri"/>
              </a:rPr>
              <a:t>A la vez se analiza la estructura del pasivo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20720" indent="-277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Calibri"/>
              </a:rPr>
              <a:t>Endeudamiento: exigible v/s capital propio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20720" indent="-277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Calibri"/>
              </a:rPr>
              <a:t>Capital propio: capital social pagado v/s autofinanciación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20720" indent="-277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Calibri"/>
              </a:rPr>
              <a:t>Capital ajeno (“calidad de la deuda”):  LP v/s CP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1108440" indent="-2214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Calibri"/>
              </a:rPr>
              <a:t>Recursos ciclicos v/s expresos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" name="3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4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E4EF4-4447-4331-B36F-90BCEB7F645D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Calibri"/>
              </a:rPr>
              <a:t>Análisis de Ratio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Calibri"/>
              </a:rPr>
              <a:t>Existe también el análisis a través de Ratios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Calibri"/>
              </a:rPr>
              <a:t>Las familias principales son: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Calibri"/>
              </a:rPr>
              <a:t>Liquidez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Calibri"/>
              </a:rPr>
              <a:t>Endeudamiento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Calibri"/>
              </a:rPr>
              <a:t>Actividad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Calibri"/>
              </a:rPr>
              <a:t>Rentabilidad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Calibri"/>
              </a:rPr>
              <a:t>Para el caso del balance estático, solo los ratios de endeudamiento nos interesan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Calibri"/>
              </a:rPr>
              <a:t>Cuando se ocupa este análisis es importante entender que el ratio por si solo no dice mucho, es necesario ocupar patrones de comparación: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Calibri"/>
              </a:rPr>
              <a:t>Objetivos de la empresa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Calibri"/>
              </a:rPr>
              <a:t>Promedio sectorial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Calibri"/>
              </a:rPr>
              <a:t>Evolución histórica, etc.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" name="3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4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34C4D-7B41-4564-8458-9D52C97821DB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Calibri"/>
              </a:rPr>
              <a:t>Ratios de Endeudamiento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3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4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E55B4-919D-4071-92C7-E70527EBEC33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Calibri"/>
              </a:rPr>
              <a:t>Razón de endeudamiento= Pasivo Total / Activo tota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Calibri"/>
              </a:rPr>
              <a:t>Razón deuda/patrimonio = Pasivo total / Patrimonio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Calibri"/>
              </a:rPr>
              <a:t>Razón estructura deuda = Pasivo Largo Plazo / Pasivo tota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Calibri"/>
              </a:rPr>
              <a:t>Razon cobertura de Intereses , no tenemos los datos para calcularlo </a:t>
            </a:r>
            <a:r>
              <a:rPr b="0" lang="es-CL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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Calibri"/>
              </a:rPr>
              <a:t>Pero ant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Calibri"/>
              </a:rPr>
              <a:t>Recuerdan que son los activos circulantes y fijos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Calibri"/>
              </a:rPr>
              <a:t>Recuerdan que son los créditos cíclicos y financiamiento expreso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Calibri"/>
              </a:rPr>
              <a:t>Que era la autofinanciació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Calibri"/>
              </a:rPr>
              <a:t>La estructura del balanc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Calibri"/>
              </a:rPr>
              <a:t>Etc……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3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4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35B86-58EB-4030-A262-8AF6DC8945EE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Calibri"/>
              </a:rPr>
              <a:t>Activo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Calibri"/>
              </a:rPr>
              <a:t>Activo Circulante: </a:t>
            </a:r>
            <a:r>
              <a:rPr b="0" lang="es-ES_tradnl" sz="2000" spc="-1" strike="noStrike">
                <a:solidFill>
                  <a:srgbClr val="ffffff"/>
                </a:solidFill>
                <a:latin typeface="Calibri"/>
              </a:rPr>
              <a:t>Activos o recursos de la empresa que serán vendidos,  realizados o consumidos dentro de un año desde la fecha del  estado financiero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alibri"/>
              </a:rPr>
              <a:t>Ejemplos: </a:t>
            </a:r>
            <a:r>
              <a:rPr b="0" lang="es-ES_tradnl" sz="2000" spc="-1" strike="noStrike">
                <a:solidFill>
                  <a:srgbClr val="ffffff"/>
                </a:solidFill>
                <a:latin typeface="Calibri"/>
              </a:rPr>
              <a:t>Disponible, depósitos a plazo, deudores por venta, documentos por cobrar,  existencias,  valores negociables,  gastos pagados por anticipado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alibri"/>
              </a:rPr>
              <a:t>Activo Fijo: Terrenos (no depreciables),  construcciones y obras de infraestructura,  maquinaria y equipos,  depreciación acumulada (menos)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alibri"/>
              </a:rPr>
              <a:t>Concepto económico: riqueza en funcionamiento para crear mas riqueza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alibri"/>
              </a:rPr>
              <a:t>Principio financiero: tendencia a la liquidez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3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4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4078E-7DBA-467C-BFD0-6D50585DB265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Calibri"/>
              </a:rPr>
              <a:t>Pasivo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Calibri"/>
              </a:rPr>
              <a:t>Pasivo circulante: </a:t>
            </a:r>
            <a:r>
              <a:rPr b="0" lang="es-ES_tradnl" sz="2000" spc="-1" strike="noStrike">
                <a:solidFill>
                  <a:srgbClr val="ffffff"/>
                </a:solidFill>
                <a:latin typeface="Calibri"/>
              </a:rPr>
              <a:t>Aquellas obligaciones contraídas por la empresa que serán canceladas dentro del plazo de un año a contar de la fecha de los estados financieros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13160" indent="-27432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Calibri"/>
              </a:rPr>
              <a:t>Ejemplos: </a:t>
            </a:r>
            <a:r>
              <a:rPr b="0" lang="es-ES_tradnl" sz="2000" spc="-1" strike="noStrike">
                <a:solidFill>
                  <a:srgbClr val="ffffff"/>
                </a:solidFill>
                <a:latin typeface="Calibri"/>
              </a:rPr>
              <a:t>Obligaciones con bancos a C.P., parte de las obligaciones a  LP que vence antes de 1 año,  obligaciones con el público a CP., cuentas por pagar,  documentos por pagar, provisiones,  ingresos percibidos por anticipado,  impuestos por pagar, etc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13160" indent="-27432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alibri"/>
              </a:rPr>
              <a:t>Pasivos de largo plazo: Obligaciones con bancos e instituciones financieras,  obligaciones con el público (bonos), documentos por pagar, acreedores varios, etc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alibri"/>
              </a:rPr>
              <a:t>Concepto económico: El pasivo es la lista de agentes económicos, dueños del activo, a ser retribuidos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alibri"/>
              </a:rPr>
              <a:t>Principio financiero: tendencia a la exigibilidad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13160" indent="-27432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" name="3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4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072DB-25FE-413F-AEE4-7C23E04A8160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Calibri"/>
              </a:rPr>
              <a:t>Patrimonio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Calibri"/>
              </a:rPr>
              <a:t>Capital y Reserva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Calibri"/>
              </a:rPr>
              <a:t>Utilidades (pérdidas) acumulada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Calibri"/>
              </a:rPr>
              <a:t>Utilidades (pérdidas) del Ejercicio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Calibri"/>
              </a:rPr>
              <a:t>Menos los dividendos o retiros de Utilidad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Calibri"/>
              </a:rPr>
              <a:t>Concepto:  capital propio, propietarios de pleno derecho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Calibri"/>
              </a:rPr>
              <a:t>Principio financiero: ?????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3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4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336E2-4586-4002-B4AB-3C94B3EA85DD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6T16:42:40Z</dcterms:created>
  <dc:creator>glhuilli</dc:creator>
  <dc:description/>
  <dc:language>en-US</dc:language>
  <cp:lastModifiedBy>Alumno</cp:lastModifiedBy>
  <dcterms:modified xsi:type="dcterms:W3CDTF">2010-04-07T14:27:10Z</dcterms:modified>
  <cp:revision>361</cp:revision>
  <dc:subject/>
  <dc:title>Bases de Datos: Teoría y Aplicaciones</dc:title>
</cp:coreProperties>
</file>