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A7B-2CEA-435E-8954-38A6A5B8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AFE-6A98-4363-B745-126B56FF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BAB-01D8-405A-9FD6-775BA55D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7FE-55A5-446E-B325-09D322B0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8259E-7607-421A-A8C8-95719C4CAE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C302A-E9D3-4BFC-BEC4-00CB2C0935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02F16-2A2C-49CB-A765-1E7BD32D04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89464-E79A-4E1D-94B4-A93F40DC45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7407A-DF04-499B-880D-3F95E70365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7F67F-1129-4CDF-9188-5C0E8A68C0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18438-B7BF-4DE8-9239-E830D40DF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0F3B-F272-4F7D-A119-9E07A541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05665-55D7-4585-B1F1-0C5FC8D0D9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F23B9-23CD-4820-AE80-3EC6A2B451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324A5-B661-4168-AB62-206E8CEA0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34BE8-925C-4ED1-8C31-276BCA25D9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FA2CF-7175-4D86-92A7-F0DEA50A8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E27-30A6-4B67-B36B-2492079C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2E7-EFB3-456B-8158-5488AEAE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61F-3176-4C78-8ABA-EE3F4BB9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A49-3855-4C3E-9926-AB8355B6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338-9F26-46A4-9807-9BF1A60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F23-3D96-48BA-9D59-7CB2810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508-0348-4905-BAC9-86727949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EE16-07C5-41A2-9E20-76AB665DD79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Subtítulo"/>
          <p:cNvSpPr/>
          <p:nvPr/>
        </p:nvSpPr>
        <p:spPr>
          <a:xfrm>
            <a:off x="357120" y="5357880"/>
            <a:ext cx="621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2 Subtítulo"/>
          <p:cNvSpPr/>
          <p:nvPr/>
        </p:nvSpPr>
        <p:spPr>
          <a:xfrm>
            <a:off x="2071800" y="3929040"/>
            <a:ext cx="5143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Departamento de Ingeniería Indust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2 Subtítulo"/>
          <p:cNvSpPr/>
          <p:nvPr/>
        </p:nvSpPr>
        <p:spPr>
          <a:xfrm>
            <a:off x="285840" y="428760"/>
            <a:ext cx="8358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IN4301 – Análisis y Matemáticas Financi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Otoño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47520" y="6458040"/>
            <a:ext cx="55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43240" y="64638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6CCC-1176-4336-880B-D0A879E73A4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Auxiliar 2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Análisis Estático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843600" y="64641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511-0E87-411D-AC6B-7ECEBECDC25E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C576-C21A-4A74-B132-7C2D29ABFBB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42920" y="1600200"/>
          <a:ext cx="6913800" cy="453060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33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4f81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0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4f81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Act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 v/s AF, el porcentaje de la distribución tiene que ver con el giro de la empre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solidación del AF (AF no líquido / AFB),  si es consolidado es que tiende muy poco a la liquedez, ejemplos son los terrenos (no se deprecian) o los edificios que son muy consolidados. Si es muy consolidado se necesita correspondencia con el capital propi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Grado de Obsolescencia (Deprec. Acum. / AFB),  si es muy alto existira la necesidad de reponer activos y de contar con el flujo de caja para hacerlo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CE7-1396-475E-9152-8912F14A824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Pas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utofinanciación: Esto se refiere a la generación interna de recursos, es decir aporte de capitales, retención de utilidades, reservas, provisiones o incluso la depreciación. (restringir dividendos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Importante notar que la proporción entre capital propio vs reservas dependerá de los intereses de los accionist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lidad del endeudamiento: se refiere a cuanto exigible es a CP o LP, se recomienda mejor LP que CP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atio de endeudamiento: Pasivos / Patrimon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cursos cíclicos v/s expresos: Los recursos cíclicos son los que se regeneran “automáticamente”. Interesa tener cíclicos debido a que generalmente son de adquisiciones y se renuevan por lo que es un pasivo sin fecha de vencimiento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825E-9FA7-4585-8D45-1AE959E957D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alibri"/>
              </a:rPr>
              <a:t>P1) Realice la estructura del balanc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DF82-EDFA-4B3A-96D6-B0F52F816B4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071800" y="1571760"/>
            <a:ext cx="50767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71800" y="1856880"/>
            <a:ext cx="197172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956E-5B66-4A30-80AA-2EE894038A9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57150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2) Calcule los ratios de endeudamiento. Comen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3)Calcule la solidez patrimonial. Comen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4) Calcule la estructura general de la empresa, a que rubro cree que pertene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5) Calcule el grado de consolidación y de obsolencia de la empresa. Com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6) A su juicio, cual es la calidad del endeudamien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995C-CE71-4C9F-9B7D-7CB4ABFB62B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olucion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2) Razón de endeudamiento 55,75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azón deuda patrimonio 1,32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azón estructura deuda 52,89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3) Solidez Patrimonial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Razón deuda patrimonio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4) Estructura del Activo 52,47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5) Grado de consolidación 66,38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Grado de obsolencia 18,42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6) % de LP 52,89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% de CP 47,11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B6A4-9D8F-4907-ADFE-FF555E7A4D6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400" y="128556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rresponde al análisis de los valores que muestra el balance gener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 que se busca es evaluar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Situación de liquidez o capacidad de pag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lidad y cantidad del endeudamien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pitalizació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Gestión de los activ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Nuestro caso particular es el análisis estático, que solo analiza las grandes agrupaciones de los activos y pasiv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7A1F-71CD-404D-8DBC-C14B96F5115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Estático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 principal objetivo es analizar la solidez patrimoni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quilibrio financie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También  se puede analizar la estructura del activ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 v/s A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onsolidación del  Activo fijo = AF no liquido  /  Act. Fijo  bru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Grado de obsolencia = Depreciación acumulada / Act. Fijo bru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A la vez se analiza la estructura del pasiv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: exigible v/s capital prop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pital propio: capital social pagado v/s autofinanciació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pital ajeno (“calidad de la deuda”):  LP v/s C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cursos ciclicos v/s expres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C0B-FDF6-4027-9C20-A38644C499A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de Rati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xiste también el análisis a través de Rati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Las familias principales so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Liquide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Para el caso del balance estático, solo los ratios de endeudamiento nos interesa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uando se ocupa este análisis es importante entender que el ratio por si solo no dice mucho, es necesario ocupar patrones de comparació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Objetivos de la empres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Promedio sectoria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Evolución histórica,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9F56-598D-443E-B272-1DD28C111F5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Ratios de Endeudamient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2C64-E5E7-4FCC-84D6-AF0CD877EF5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de endeudamiento= Pasivo Total / Activo to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deuda/patrimonio = Pasivo total / Patrimon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estructura deuda = Pasivo Largo Plazo / Pasivo to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on cobertura de Intereses , no tenemos los datos para calcularl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ero ant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ecuerdan que son los activos circulantes y fij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ecuerdan que son los créditos cíclicos y financiamiento expres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Que era la autofinanci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La estructura del bal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Etc…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98F1-5159-423E-B06A-65E86FA9F25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ctiv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tivo Circulante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tivos o recursos de la empresa que serán vendidos,  realizados o consumidos dentro de un año desde la fecha del  estado financier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Ejemplos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ponible, depósitos a plazo, deudores por venta, documentos por cobrar,  existencias,  valores negociables,  gastos pagados por anticipad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tivo Fijo: Terrenos (no depreciables),  construcciones y obras de infraestructura,  maquinaria y equipos,  depreciación acumulada (menos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cepto económico: riqueza en funcionamiento para crear mas riquez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incipio financiero: tendencia a la liquidez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896D-74AC-473E-8435-02CB3837692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asiv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Pasivo circulante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quellas obligaciones contraídas por la empresa que serán canceladas dentro del plazo de un año a contar de la fecha de los estados financier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jemplos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Obligaciones con bancos a C.P., parte de las obligaciones a  LP que vence antes de 1 año,  obligaciones con el público a CP., cuentas por pagar,  documentos por pagar, provisiones,  ingresos percibidos por anticipado,  impuestos por pagar, et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sivos de largo plazo: Obligaciones con bancos e instituciones financieras,  obligaciones con el público (bonos), documentos por pagar, acreedores varios,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cepto económico: El pasivo es la lista de agentes económicos, dueños del activo, a ser retribuid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incipio financiero: tendencia a la exigibilida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C0D0-A6DC-4B95-9171-84CEAFC5E74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atrimon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Concepto:  capital propio, propietarios de pleno derech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Principio financiero: ?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F42F-1BF6-4F32-A23E-86F9F0FF2D3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6:42:40Z</dcterms:created>
  <dc:creator>glhuilli</dc:creator>
  <dc:description/>
  <dc:language>en-US</dc:language>
  <cp:lastModifiedBy>Alumno</cp:lastModifiedBy>
  <dcterms:modified xsi:type="dcterms:W3CDTF">2010-04-07T14:27:10Z</dcterms:modified>
  <cp:revision>361</cp:revision>
  <dc:subject/>
  <dc:title>Bases de Datos: Teoría y Aplicaciones</dc:title>
</cp:coreProperties>
</file>