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07A-C3A4-4269-9522-3944324B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423-15CA-4F25-9F69-AB1B02F1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197-D106-4EC1-9213-2FBCC06D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C54-DCA3-43D8-A4EA-95EBFD82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512D1-8834-4088-B065-6F30F9738E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23AE3-48F4-44DF-9415-EAC2A1C2A6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9183F-C472-4DD3-A44B-315BB92199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659B5-69BD-4D04-96A1-D0EBA7FFC6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6A970-8783-4BBD-932E-F77C9FFE59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1DB55-B9DC-4A26-BCE0-974BABA658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4F985-4F09-423B-B7DB-CBDE9AA44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635-B316-4E47-8663-215AACF6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D80F2-A9F9-4138-9FED-2C5F78D3AF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0CDA7-5306-48C8-9657-641F45AA1E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B04E2-833A-4D27-8864-8D828BE35F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7FBE1-1595-48EC-A1EA-7E2DE36FB6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6C824-132E-4942-8F7E-E18E43121E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7D0-370D-4707-9363-7373EF4A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8E7-B163-476C-8D59-2AB5A50C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846-263A-4492-A13E-EA3F21F8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580-EC31-4132-8576-EB7463CC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EDB-6B7D-4D2C-A4D8-E371A83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A23-201F-4A32-BBA2-8D19A51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D11-8B7A-4A60-A23C-BCCD0E94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46E-D596-4ABC-ADC7-E62F129C2E9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Subtítulo"/>
          <p:cNvSpPr/>
          <p:nvPr/>
        </p:nvSpPr>
        <p:spPr>
          <a:xfrm>
            <a:off x="357120" y="535788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2 Subtítulo"/>
          <p:cNvSpPr/>
          <p:nvPr/>
        </p:nvSpPr>
        <p:spPr>
          <a:xfrm>
            <a:off x="2071800" y="3929040"/>
            <a:ext cx="5143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Departamento de Ingeniería Indust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2 Subtítulo"/>
          <p:cNvSpPr/>
          <p:nvPr/>
        </p:nvSpPr>
        <p:spPr>
          <a:xfrm>
            <a:off x="285840" y="428760"/>
            <a:ext cx="8358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IN4301 – Análisis y Matemáticas Financi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Otoño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47520" y="6458040"/>
            <a:ext cx="55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43240" y="64638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E25F-6572-4B5C-98C2-314004575C2A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uxiliar 2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843600" y="64641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050F-C975-45BC-BC74-03795EBF2208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C80F-019E-4384-B31C-D3FA7BB953E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42920" y="1600200"/>
          <a:ext cx="6913800" cy="453060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33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0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Act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 v/s AF, el porcentaje de la distribución tiene que ver con el giro de la empre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solidación del AF (AF no líquido / AFB),  si es consolidado es que tiende muy poco a la liquedez, ejemplos son los terrenos (no se deprecian) o los edificios que son muy consolidados. Si es muy consolidado se necesita correspondencia con el capital propi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Grado de Obsolescencia (Deprec. Acum. / AFB),  si es muy alto existira la necesidad de reponer activos y de contar con el flujo de caja para hacerl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070B-099E-46E5-A3DF-759F7C5F02A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Pas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utofinanciación: Esto se refiere a la generación interna de recursos, es decir aporte de capitales, retención de utilidades, reservas, provisiones o incluso la depreciación. (restringir dividend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Importante notar que la proporción entre capital propio vs reservas dependerá de los intereses de los accionist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lidad del endeudamiento: se refiere a cuanto exigible es a CP o LP, se recomienda mejor LP que CP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atio de endeudamiento: Pasivos / Patrimon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íclicos v/s expresos: Los recursos cíclicos son los que se regeneran “automáticamente”. Interesa tener cíclicos debido a que generalmente son de adquisiciones y se renuevan por lo que es un pasivo sin fecha de vencimient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C73E-D1E3-43E6-9BDD-CC515A0AF23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alibri"/>
              </a:rPr>
              <a:t>P1) Realice la estructura del balanc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B7A-9A20-484C-B9DA-3629FDEA1A0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071800" y="1571760"/>
            <a:ext cx="50767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71800" y="1856880"/>
            <a:ext cx="197172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9C61-E7A8-4272-A28A-DB70EB7CFF7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57150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2) Calcule los ratios de endeudamiento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3)Calcule la solidez patrimonial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4) Calcule la estructura general de la empresa, a que rubro cree que pertene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5) Calcule el grado de consolidación y de obsolencia de la empresa. Com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6) A su juicio, cual es la calidad del endeudamien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B123-7B61-4E9F-B4C2-B6E07407E04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olucio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2) Razón de endeudamiento 55,75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deuda patrimonio 1,32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estructura deuda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3) Solidez Patrimonial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Razón deuda patrimonio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4) Estructura del Activo 52,47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5) Grado de consolidación 66,38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Grado de obsolencia 18,42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6) % de LP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% de CP 47,11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4A84-FDAD-4667-BBB5-78B8E012ED0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400" y="12855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rresponde al análisis de los valores que muestra el balance gener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 que se busca es evaluar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Situación de liquidez o capacidad de pag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lidad y cantidad del endeudami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pitalizació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Gestión de los activ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Nuestro caso particular es el análisis estático, que solo analiza las grandes agrupaciones de los activos y pasiv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5AD1-1FD9-4E64-AF7D-5FAA43C408D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 principal objetivo es analizar la solidez patrimoni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quilibrio financie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También  se puede analizar la estructura del act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 v/s A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onsolidación del  Activo fijo = AF no liquido  /  Act. Fijo 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Grado de obsolencia = Depreciación acumulada / Act. Fijo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A la vez se analiza la estructura del pas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: exigible v/s capital prop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propio: capital social pagado v/s autofinanciació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ajeno (“calidad de la deuda”):  LP v/s C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iclicos v/s expres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4241-8051-4DF7-971F-99A80990F05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 Rati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xiste también el análisis a través de Rati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as familias principales so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iquide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ra el caso del balance estático, solo los ratios de endeudamiento nos interesa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uando se ocupa este análisis es importante entender que el ratio por si solo no dice mucho, es necesario ocupar patrones de comparació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Objetivos de la empres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Promedio sectoria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Evolución histórica,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82DE-A2DB-484C-A3EC-1F6482CE492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Ratios de Endeudamient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0276-ABA4-4C91-875C-71A98EA3215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 endeudamiento= Pasivo Total / Act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uda/patrimonio = Pasivo total / Patrimon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estructura deuda = Pasivo Largo Plazo / Pas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on cobertura de Intereses , no tenemos los datos para calcularl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ero ant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activos circulantes y fij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créditos cíclicos y financiamiento expres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Que era la autofinanci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La estructura del bal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Etc…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7134-2C19-4E6F-9637-ADAECB133C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ct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s o recursos de la empresa que serán vendidos,  realizados o consumidos dentro de un año desde la fecha del  estado financier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ponible, depósitos a plazo, deudores por venta, documentos por cobrar,  existencias,  valores negociables,  gastos pagados por anticipad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 Fijo: Terrenos (no depreciables),  construcciones y obras de infraestructura,  maquinaria y equipos,  depreciación acumulada (men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riqueza en funcionamiento para crear mas riquez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liquidez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B31B-5E5E-4209-BD2C-61C2733F962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s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s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quellas obligaciones contraídas por la empresa que serán canceladas dentro del plazo de un año a contar de la fecha de los estados financier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Obligaciones con bancos a C.P., parte de las obligaciones a  LP que vence antes de 1 año,  obligaciones con el público a CP., cuentas por pagar,  documentos por pagar, provisiones,  ingresos percibidos por anticipado,  impuestos por pagar, et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sivos de largo plazo: Obligaciones con bancos e instituciones financieras,  obligaciones con el público (bonos), documentos por pagar, acreedores varios,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El pasivo es la lista de agentes económicos, dueños del activo, a ser retribuid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exigibilida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96A0-E1E8-4F2F-BB6D-E83606EA09F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trimon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oncepto:  capital propio, propietarios de pleno derech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Principio financiero: ?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199D-EAA4-4E67-B5CF-FE87B0C958C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6:42:40Z</dcterms:created>
  <dc:creator>glhuilli</dc:creator>
  <dc:description/>
  <dc:language>en-US</dc:language>
  <cp:lastModifiedBy>Alumno</cp:lastModifiedBy>
  <dcterms:modified xsi:type="dcterms:W3CDTF">2010-04-07T14:27:10Z</dcterms:modified>
  <cp:revision>361</cp:revision>
  <dc:subject/>
  <dc:title>Bases de Datos: Teoría y Aplicaciones</dc:title>
</cp:coreProperties>
</file>