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65F-B6B3-4BF0-9E79-782B831B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B95-CFCF-46CD-9E1E-54103EC9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BCB-D1A6-44E6-8790-ED41A18F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6ED-47D6-4A6E-842B-94BFBB23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53E73-96C9-4D3B-826D-EE426AD4B7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76C6E-5A89-4521-B674-F765601C97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F767A-DF1A-4649-BB78-1AF550DA00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E6F5E-40A4-4F8A-B14D-270E332CE3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4EA1C-F870-407F-926F-A4DAA81F75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48424-C998-4ADC-A831-A2514F8FCA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023BD-3C8B-4055-94AD-D82A8BBAA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9A0-6B39-43AA-9629-BAA657E6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4D7A3-CDD0-4504-B57C-C42D4960A3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0F125-C7F5-49DA-A2B4-57C2D313BC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17BEA-ECF0-482B-BB22-BDA0239A2B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434F8-0931-42E3-8ABB-1221C19CDB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D708F-E5D5-4EF6-9833-AB1338C120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042-C457-463D-8203-A7E85703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83D-6520-4974-A3B5-1B33FC71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00D-CF2A-428E-930F-38418440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CFF-8BEE-4EDB-9D79-F1F0E618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08C-4E93-4610-91DB-7F27078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995-118C-4489-95B7-EB0EA04E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FA0-F3FA-4578-AAA7-1E931CB9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A44A-2804-4224-9E67-9591F9E671E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Subtítulo"/>
          <p:cNvSpPr/>
          <p:nvPr/>
        </p:nvSpPr>
        <p:spPr>
          <a:xfrm>
            <a:off x="357120" y="5357880"/>
            <a:ext cx="6215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2 Subtítulo"/>
          <p:cNvSpPr/>
          <p:nvPr/>
        </p:nvSpPr>
        <p:spPr>
          <a:xfrm>
            <a:off x="2071800" y="3929040"/>
            <a:ext cx="5143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Departamento de Ingeniería Indust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2 Subtítulo"/>
          <p:cNvSpPr/>
          <p:nvPr/>
        </p:nvSpPr>
        <p:spPr>
          <a:xfrm>
            <a:off x="285840" y="428760"/>
            <a:ext cx="8358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IN4301 – Análisis y Matemáticas Financi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Otoño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47520" y="6458040"/>
            <a:ext cx="55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843240" y="64638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7BC8-A4EB-40D3-9754-59A5352127FC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Auxiliar 2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Análisis Estático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843600" y="64641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F42D-1771-45E2-A893-45F6E0C35FFA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1982-863D-49D2-98A2-26DFAE8C3A2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42920" y="1600200"/>
          <a:ext cx="6913800" cy="453060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33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4f81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0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4f81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Activ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 v/s AF, el porcentaje de la distribución tiene que ver con el giro de la empres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solidación del AF (AF no líquido / AFB),  si es consolidado es que tiende muy poco a la liquedez, ejemplos son los terrenos (no se deprecian) o los edificios que son muy consolidados. Si es muy consolidado se necesita correspondencia con el capital propi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Grado de Obsolescencia (Deprec. Acum. / AFB),  si es muy alto existira la necesidad de reponer activos y de contar con el flujo de caja para hacerlo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E1DD-1FB0-440B-B3F0-75B26C71E5B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Pasiv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utofinanciación: Esto se refiere a la generación interna de recursos, es decir aporte de capitales, retención de utilidades, reservas, provisiones o incluso la depreciación. (restringir dividendos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Importante notar que la proporción entre capital propio vs reservas dependerá de los intereses de los accionist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lidad del endeudamiento: se refiere a cuanto exigible es a CP o LP, se recomienda mejor LP que CP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atio de endeudamiento: Pasivos / Patrimon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cursos cíclicos v/s expresos: Los recursos cíclicos son los que se regeneran “automáticamente”. Interesa tener cíclicos debido a que generalmente son de adquisiciones y se renuevan por lo que es un pasivo sin fecha de vencimiento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51D5-BA98-4CA4-A423-8D329BFA702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alibri"/>
              </a:rPr>
              <a:t>P1) Realice la estructura del balanc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7923-AFBB-46F0-9A4E-2906C5C85B1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071800" y="1571760"/>
            <a:ext cx="50767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571800" y="1856880"/>
            <a:ext cx="197172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1188-1D4B-45E6-ABE3-45944A26E87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57150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2) Calcule los ratios de endeudamiento. Comen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3)Calcule la solidez patrimonial. Comen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4) Calcule la estructura general de la empresa, a que rubro cree que pertene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5) Calcule el grado de consolidación y de obsolencia de la empresa. Comen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6) A su juicio, cual es la calidad del endeudamient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C514-1A27-43E8-B628-DC455F37E7D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Solucion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2) Razón de endeudamiento 55,75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azón deuda patrimonio 1,32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azón estructura deuda 52,89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3) Solidez Patrimonial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Razón deuda patrimonio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4) Estructura del Activo 52,47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5) Grado de consolidación 66,38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Grado de obsolencia 18,42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6) % de LP 52,89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% de CP 47,11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9DFD-61A3-4CA1-84AC-F8BCE9110A4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400" y="128556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rresponde al análisis de los valores que muestra el balance gener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 que se busca es evaluar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Situación de liquidez o capacidad de pag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alidad y cantidad del endeudamient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apitalizació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Gestión de los activ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Nuestro caso particular es el análisis estático, que solo analiza las grandes agrupaciones de los activos y pasiv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3A3A-9832-47F8-AB11-39418D133BA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Estático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 principal objetivo es analizar la solidez patrimoni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quilibrio financier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También  se puede analizar la estructura del activ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 v/s A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onsolidación del  Activo fijo = AF no liquido  /  Act. Fijo  bru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Grado de obsolencia = Depreciación acumulada / Act. Fijo bru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A la vez se analiza la estructura del pasiv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: exigible v/s capital prop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pital propio: capital social pagado v/s autofinanciació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pital ajeno (“calidad de la deuda”):  LP v/s C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cursos ciclicos v/s expres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F0A7-0566-4AD7-AF0E-857FEB610C1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de Rati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xiste también el análisis a través de Rati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Las familias principales so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Liquidez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ntabilida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Para el caso del balance estático, solo los ratios de endeudamiento nos interesa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uando se ocupa este análisis es importante entender que el ratio por si solo no dice mucho, es necesario ocupar patrones de comparació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Objetivos de la empres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Promedio sectoria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Evolución histórica, etc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8C81-EF32-4BA6-B928-1F15B5DB05B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Ratios de Endeudamient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9313-7A8B-4D1B-9ADE-BD9F511DEBA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de endeudamiento= Pasivo Total / Activo to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deuda/patrimonio = Pasivo total / Patrimon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estructura deuda = Pasivo Largo Plazo / Pasivo to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on cobertura de Intereses , no tenemos los datos para calcularl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ero ant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ecuerdan que son los activos circulantes y fij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ecuerdan que son los créditos cíclicos y financiamiento expres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Que era la autofinanci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La estructura del bal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Etc…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E748-4C31-470C-AA5D-180B1F09D40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ctiv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tivo Circulante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tivos o recursos de la empresa que serán vendidos,  realizados o consumidos dentro de un año desde la fecha del  estado financier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Ejemplos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ponible, depósitos a plazo, deudores por venta, documentos por cobrar,  existencias,  valores negociables,  gastos pagados por anticipad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tivo Fijo: Terrenos (no depreciables),  construcciones y obras de infraestructura,  maquinaria y equipos,  depreciación acumulada (menos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cepto económico: riqueza en funcionamiento para crear mas riquez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rincipio financiero: tendencia a la liquidez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0DC0-EAA4-4B7F-89F8-393C95EC519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asiv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Pasivo circulante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quellas obligaciones contraídas por la empresa que serán canceladas dentro del plazo de un año a contar de la fecha de los estados financier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jemplos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Obligaciones con bancos a C.P., parte de las obligaciones a  LP que vence antes de 1 año,  obligaciones con el público a CP., cuentas por pagar,  documentos por pagar, provisiones,  ingresos percibidos por anticipado,  impuestos por pagar, et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sivos de largo plazo: Obligaciones con bancos e instituciones financieras,  obligaciones con el público (bonos), documentos por pagar, acreedores varios,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cepto económico: El pasivo es la lista de agentes económicos, dueños del activo, a ser retribuid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rincipio financiero: tendencia a la exigibilida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B7D8-EC2B-4E32-8BF9-8F4B2DB674E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atrimon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Concepto:  capital propio, propietarios de pleno derech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Principio financiero: ?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C9FC-2E19-4ECE-9D46-C97576A544A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6:42:40Z</dcterms:created>
  <dc:creator>glhuilli</dc:creator>
  <dc:description/>
  <dc:language>en-US</dc:language>
  <cp:lastModifiedBy>Alumno</cp:lastModifiedBy>
  <dcterms:modified xsi:type="dcterms:W3CDTF">2010-04-07T14:27:10Z</dcterms:modified>
  <cp:revision>361</cp:revision>
  <dc:subject/>
  <dc:title>Bases de Datos: Teoría y Aplicaciones</dc:title>
</cp:coreProperties>
</file>