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F604D-6203-4BDE-A3DE-39778CBE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1D1FE-8203-4DB0-8C18-282C4E85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23350-1148-46F0-965A-9EC70A2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0A70B-2AED-497C-990C-327C75D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C15D9-C69D-4BD6-97C4-5F8BEE80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1D9D1-7F99-4FBA-901C-2FAD058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5A902-B0FE-42B1-ABE7-F9B7E381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8095F-5C35-4C68-AB2C-C927034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034F5-DD4A-4C67-9933-A446B199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04793-2108-4CE7-A64B-40FCF20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3A04E-DD5B-4D5A-9360-BC297120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B473A-8FC7-42D9-A1E7-5846EAF8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AE81-B7F2-40E1-B0AE-AFB8B7E8C2B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Clases de Necesidade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anente: Se mantiene a lo largo del año, no necesariamente con un monto constante, pero está presente cada m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nsitoria: se produce en un momento concre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4 áreas de reflexión estratégica a la hora de buscar recursos para cubrir la necesidad financiera prev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nvers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dificación de obje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) Buscar en el Presupuesto de Tesorería la Necesidad Financiera máxima acumulada (no la acumulada a final de añ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) Calcular ROAp (previsional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Ap = (BAIT prev + Atipicos prev.) / Act. Tot. N. Prev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i) Analizar apalancamiento; comparar ROAp con tipo de interés. Si ROAp &gt; i pensar en exigible, caso contrario pensar en 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v) Analizar ratios de endeudamiento histórico (E) y calidad del endeudamiento para ver factibilidad de nuevos préstam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) Calcular el Cash Flow Libre para analizar si podemos atender nuevos présta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Libre = BPT + Deprec. + Provisiones - Amortizac. Créditos (Actuales) - Inversiones Previstas - Pagos de Dividendos ya comprometi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) Análisis detallado de las alternativas de recur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indicadores con el nuevo financiamiento (el determinado en vi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PT t+1 = (BAITprev - Nuevos Gtos. Fin.) (1-T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.P. t+1 = C.P.prev. + BPT t+1 + Ampliaciones de Capital (si se determinan en vi) - Dividendos ( si se determinó pagarlos en vi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E t+1 = BPT t+1 / C.P.t+1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=</a:t>
            </a:r>
            <a:r>
              <a:rPr b="0" lang="es-ES_tradnl" sz="2000" spc="-1" strike="noStrike" u="sng">
                <a:solidFill>
                  <a:srgbClr val="4d4d4d"/>
                </a:solidFill>
                <a:uFillTx/>
                <a:latin typeface="Verdana"/>
              </a:rPr>
              <a:t>Exigible CP y LP prev. + Nueva deuda definida en v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.P t+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ecisión Capital propio vs. Exigible no es meramente técnica, es una decisión estratégica en la que incide el grado de aversión al riesgo   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: Las reservas NO son recursos de CP, las reservas son Utilidades ya aplicadas (autofinanciamiento ya realiz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(Ampliación de Capital): Factible que se apruebe según políticas de dividendo histór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de Medio y Largo Plazo, en general están sujetos a financiamiento de AF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veedores: No deberíamos considerarlo salvo en caso desesperado por que ya los consideramos en las previsiones. Si fuera necesario recurrir a ellos ¿Tengo poder negociador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ing: Arriendo con compromiso de compra, no escrédito pero es una forma de financiar Activo Fijo, tiene además ventajas fisc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eback (retroleasing): Leasing con un equipo que ya poseo, lo vendo y lo recupero arrendando con leasing. Así genero efectiv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de Documentos: Es el recurso por excelencia. Deberíamos intentar partir por aquí ¿Por qué? Recordar solidez patrimonial, el descuento se adapta mejor a las necesidades de circulante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toring; El “Factor” es una empresa que nos administra los clientes: les facturan, nos llevan la contabilidad, les cobran, nos anticipan el cobro y obviamente nos cobran por ell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mpuestos y Dividendos son semiautomáticos porque sólo son recursos cuando hay uti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a Exportaciones obviamente sólo sirven en el caso que exporte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ursos de vencimiento expreso: SOLO PUEDEN USARSE PARA PUNTAS DE TESORERIA, NECESIDADES TRANSITO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de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ondos de Inversión en Desarrollo de Empresas (FIDE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ursos de ac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ólo enajenación de activos, también gestión (Ej.: descuentos a clientes por pago anticip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concluido el análisis nos faltan recursos =&gt; Modificar los objetivos y volver a hacer la Planificación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11T02:20:10Z</dcterms:modified>
  <cp:revision>376</cp:revision>
  <dc:subject/>
  <dc:title>Análisis Financiero</dc:title>
</cp:coreProperties>
</file>