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4E923-32DA-4A94-85D6-DF6ADA26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FC771-3E2F-4266-96E4-EF92E6B7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58F60-A571-4326-B815-498E3548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80B66-F9BB-4238-AB04-D2AE2204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D0B51-9002-496D-BFFB-D72A5609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1CEAE-0EC7-42E3-A3A7-CFD72E22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4C4F4-0220-4D98-9DE4-40E77205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DF7DD-0E6C-4A00-A2F6-C87DB559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07C20-EDBD-41C3-896B-60C5AB08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79160-32A3-4A8C-A266-4CD75A37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0EF66-EC49-4184-A487-C878603A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F98D2-6CE2-47AB-8B21-D103D326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3357-AE16-4641-9D3F-F7C001874D9B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esupuesto Ordinario (Current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r relacionados con la explotación (funcionales). Ej.:Movim. relacionados con ventas, compras,y  producción. El pasivo NO ya que su estructura no determina el nivel de explotación-oper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habituales, rutina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traordinario (Capital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pertenecer al ámbito de explot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inhabitu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4358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bro a Clientes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entas a Clientes:NADA, no es mov. de dine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a Proveedores de M.P.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Proveedores Industriales: Ppto. Extraordinario (no se compran máquinas habitualmente, es una inversión en A.F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Publicidad: Si es habitual será Ppto Ordinario, si es ocasional será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un crédito:Pago Pasivo =&gt;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1028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1295280"/>
            <a:ext cx="8569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136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financiero del IV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63160" indent="-126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puede calcular a partir del Estado de Resulta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ueva norma de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empresa trabajaba con un saldo X de Caja y Bancos, y se decide para el futuro trabajar con Y =&gt; Nueva Norma de Liquidez = Y-X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gt; 0 =&gt; Aumenta Nec. Financiera Tot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lt; 0 =&gt; Disminuye Necesidad Fin. Tot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ECESIDAD FINANCIERA TOTAL = PRESUPUESTO ORDINARIO + PRESUPUESTO EXTRAORDINARIO + EFECTO FINANCIERO DEL IVA +    NUEVA NORMA DE LIQUIDEZ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e le llama Necesidad Financiera pero no necesariamente es negativo , puede ser excedente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 el último de los tres documentos previsionales que debería elaborar la Gerencia de Finanzas (los otros dos: Estado Previsional (o Proforma) de Resultados, y Presupuesto de Tesorerí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Fijo Previsional = A.F. actual + Plan de Inversiones - Enajenaciones de A.F. prev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Circulant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Stock de M.P., el Stock de P.C., el Stock de P.A. y Clientes salen de los cuadros de Movimientos Previsional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ponible sale del Presupuesto de Tesorería (Nueva Norma de Liquidez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ayoría de los ítems no se modifican respecto a lo actual, ya que las nuevas fuentes de financiamiento se analizarán en el tema de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: El act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: Idem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.P.= Exig LP actual - Vencimientos próximo añ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.P = Exig CP actual - Vencimientos + Pasos de LP a C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Nuevos créditos? NO, es parte de la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: Sale del Mov. Previsional del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videndos a pagar = 0 (la Estrategia Financiera determinará si se paga o n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ncos por descuentos = 0 (Idem anteri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 acumulada = La actual + La del Estado Previsional de Resultados - Enajenaciones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7720" y="304920"/>
            <a:ext cx="5308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2692440" y="1417680"/>
            <a:ext cx="382896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63480" y="1413000"/>
            <a:ext cx="81680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eneficio Previsto =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del Estado de Resultado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revisional Acumulad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987560" y="4197240"/>
            <a:ext cx="3111480" cy="1359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0360" y="455148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lm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505320" y="4281480"/>
            <a:ext cx="0" cy="1268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065680" y="424656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: Act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13600" y="432288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PT: Pa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511240" y="4017960"/>
            <a:ext cx="2694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DEBE CUMPLI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 - PPT = 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 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(La del Presupues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: Ver cuadro “Análisis de Estados Previsionales Mensuales”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FASE FINANCIERO PROFUNDO = NECESIDAD FINANCIERA TOTAL + CASH-FLOW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= BPT + DEPRECIACION + PREVISIONE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500 ¿Motivos para brindar? NO, es lo lógico y normal. Si todos los pagos y cobros fueran al contado cash flow = Necesidad Financiera del Presupuesto de Tesorer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Presupuesto de Tesorería es el “afloramiento” del beneficio del cash flo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+ 300 (Excedente Financiero en este caso) =&gt; Desfase de 200, i.e., Hay 200 que no están aflorando en el  presupues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Si CF =500 y Necesidad Financiera = - 100 =&gt; Desfase Financiero = 600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que debemos cubrir con la Estrategia Financiera es la Necesidad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 que cuantificamos el desfase financier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or que nos sirve para identificar problemas en las proyecciones de gestión del circulante, políticas de cobros y pagos que pudieran estar entorpeciendo la tendencia a la liquidez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es desglosar las componentes de la Necesidad Financie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Financiero Ordinario = Necesidad/Excedente Presupuesto Ordinario + C.F. de Expl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 Explotación = BAIT (sin atípicos) + Depreciación de Funciona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2952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desfase en el Ordinario debemos analizar los plazos de cobros y pag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analizar con más detalle podemos usar el esquema de Origen y Aplicación comparando el Balance Previsional con el 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Extraordinar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24240" indent="-348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Extraordinario = Nec. Fin. Ppto. Extraordinario + Gastos Financieros + Atípic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rentesis: Equivalencias con otros estados financier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flujo de efec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quivalencia: Estado de flujo de efectivo = Presupuesto de Tesorería (O simplemente Tesorerí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única posible diferencia, es que se le suele denominar presupuesto a la predicción de flujo de efectivo para el siguiente año, mientras que el estado de flujo de efectivo es la contabilización de flujos ya generados en el último ejercic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ordenar y agrupar de distintas form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excluímos el efecto del IVA  de los flujos “ordinarios” o de operación, en Chile se presenta como parte del flujo operacio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incluímos dentro del flujo o presupuesto extraordinario los originados en actividades de financiamiento y los relacionados con inversiones, estos se suelen presentar por separad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316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o Flujo de Caja: ¡Distinto al estado de flujo de efectivo!, ¿Porqué?. El cash flow se deriva del estado de Resultados como CF = Utilidad + Depreciación + Provisiones + Otros Gastos del Estado de Resultados que no generan salidas de caja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Utilidad (primer término de la ecuación) es la del Estado de Resultados, por lo tanto se calcula a partir de ingresos y gastos determinados con el principio del devengo, no necesariamente cobros y pagos que entran o salen de caja, estos últimos son los considerados en el estado de flujo de efectivo (Presupuesto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Cash Flow es el potencial de incremento de riqueza, el Presupuesto o estado de flujo es el incremento real de riqueza. La diferencia (desfase financiero) es el monto de recursos que no se reflejan aun en caja debido a las politicas de cobros y pagos de la empres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Desarrollo del esquema de planificación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Estructura del Presupuesto de Tesorerí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Balance Previsiona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Clases de necesidades financier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6.Estrategia Financiera: Recursos para atender 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Clases de Necesidade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anente: Se mantiene a lo largo del año, no necesariamente con un monto constante, pero está presente cada m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nsitoria: se produce en un momento concre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Hay 4 áreas de reflexión estratégica a la hora de buscar recursos para cubrir la necesidad financiera prev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nversión d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odificación de obje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) Buscar en el Presupuesto de Tesorería la Necesidad Financiera máxima acumulada (no la acumulada a final de añ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i) Calcular ROAp (previsional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59600" indent="-379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Ap = (BAIT prev + Atipicos prev.) / Act. Tot. N. Prev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ii) Analizar apalancamiento; comparar ROAp con tipo de interés. Si ROAp &gt; i pensar en exigible, caso contrario pensar en Capital Prop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v) Analizar ratios de endeudamiento histórico (E) y calidad del endeudamiento para ver factibilidad de nuevos préstam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) Calcular el Cash Flow Libre para analizar si podemos atender nuevos préstam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Libre = BPT + Deprec. + Provisiones - Amortizac. Créditos (Actuales) - Inversiones Previstas - Pagos de Dividendos ya comprometi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) Análisis detallado de las alternativas de recurs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i) Recalcular indicadores con el nuevo financiamiento (el determinado en vi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PT t+1 = (BAITprev - Nuevos Gtos. Fin.) (1-T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.P. t+1 = C.P.prev. + BPT t+1 + Ampliaciones de Capital (si se determinan en vi) - Dividendos ( si se determinó pagarlos en vi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E t+1 = BPT t+1 / C.P.t+1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i) Recalcular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=</a:t>
            </a:r>
            <a:r>
              <a:rPr b="0" lang="es-ES_tradnl" sz="2000" spc="-1" strike="noStrike" u="sng">
                <a:solidFill>
                  <a:srgbClr val="4d4d4d"/>
                </a:solidFill>
                <a:uFillTx/>
                <a:latin typeface="Verdana"/>
              </a:rPr>
              <a:t>Exigible CP y LP prev. + Nueva deuda definida en v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.P t+1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ecisión Capital propio vs. Exigible no es meramente técnica, es una decisión estratégica en la que incide el grado de aversión al riesgo   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: Las reservas NO son recursos de CP, las reservas son Utilidades ya aplicadas (autofinanciamiento ya realizad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(Ampliación de Capital): Factible que se apruebe según políticas de dividendo histór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s de Medio y Largo Plazo, en general están sujetos a financiamiento de AF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oveedores: No deberíamos considerarlo salvo en caso desesperado por que ya los consideramos en las previsiones. Si fuera necesario recurrir a ellos ¿Tengo poder negociador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easing: Arriendo con compromiso de compra, no escrédito pero es una forma de financiar Activo Fijo, tiene además ventajas fisc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easeback (retroleasing): Leasing con un equipo que ya poseo, lo vendo y lo recupero arrendando con leasing. Así genero efectiv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de Documentos: Es el recurso por excelencia. Deberíamos intentar partir por aquí ¿Por qué? Recordar solidez patrimonial, el descuento se adapta mejor a las necesidades de circulante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actoring; El “Factor” es una empresa que nos administra los clientes: les facturan, nos llevan la contabilidad, les cobran, nos anticipan el cobro y obviamente nos cobran por ell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mpuestos y Dividendos son semiautomáticos porque sólo son recursos cuando hay uti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lanificar: Determinar metas, objetivos y formas de alcanzarl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Comercial: Previsiones de ventas =&gt; Presupuesto de ventas, Condiciones de pago de clientes =&gt; Efectos en Estado de Resultados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s a Exportaciones obviamente sólo sirven en el caso que exportem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ursos de vencimiento expreso: SOLO PUEDEN USARSE PARA PUNTAS DE TESORERIA, NECESIDADES TRANSITO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de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ondos de Inversión en Desarrollo de Empresas (FIDE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cursos de activ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ólo enajenación de activos, también gestión (Ej.: descuentos a clientes por pago anticipad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concluido el análisis nos faltan recursos =&gt; Modificar los objetivos y volver a hacer la Planificación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Operaciones: Planes de producción y de Compras de Materias Primas y formas de pago =&gt; Efectos en Balance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Finanzas:Debe generar el Estado de Resultados Previsional (proforma), el Balance Proforma y el Presupuesto de Tesorería Proform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La diferencia entre el Estado de Resultados y el Presupuesto de Tesorería está dado por la diferencia entre ventas y cobros y entre compras y pag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1700280" y="356076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sulta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1812960" y="4022640"/>
            <a:ext cx="18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4323960" y="3803760"/>
            <a:ext cx="705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=&gt;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033"/>
          <p:cNvSpPr/>
          <p:nvPr/>
        </p:nvSpPr>
        <p:spPr>
          <a:xfrm>
            <a:off x="1576440" y="5013360"/>
            <a:ext cx="187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034"/>
          <p:cNvSpPr/>
          <p:nvPr/>
        </p:nvSpPr>
        <p:spPr>
          <a:xfrm>
            <a:off x="1401840" y="5084640"/>
            <a:ext cx="210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supue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3736800" y="5241960"/>
            <a:ext cx="395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036"/>
          <p:cNvSpPr/>
          <p:nvPr/>
        </p:nvSpPr>
        <p:spPr>
          <a:xfrm>
            <a:off x="5264280" y="3511440"/>
            <a:ext cx="227304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037"/>
          <p:cNvSpPr/>
          <p:nvPr/>
        </p:nvSpPr>
        <p:spPr>
          <a:xfrm>
            <a:off x="5558040" y="348444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ov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038"/>
          <p:cNvSpPr/>
          <p:nvPr/>
        </p:nvSpPr>
        <p:spPr>
          <a:xfrm flipH="1">
            <a:off x="3722760" y="4815000"/>
            <a:ext cx="1319040" cy="5061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039"/>
          <p:cNvSpPr/>
          <p:nvPr/>
        </p:nvSpPr>
        <p:spPr>
          <a:xfrm>
            <a:off x="5264280" y="5035680"/>
            <a:ext cx="2273040" cy="9014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1040"/>
          <p:cNvSpPr/>
          <p:nvPr/>
        </p:nvSpPr>
        <p:spPr>
          <a:xfrm>
            <a:off x="5494680" y="5084640"/>
            <a:ext cx="135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1041"/>
          <p:cNvSpPr/>
          <p:nvPr/>
        </p:nvSpPr>
        <p:spPr>
          <a:xfrm>
            <a:off x="6400800" y="4738680"/>
            <a:ext cx="0" cy="20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42"/>
          <p:cNvSpPr/>
          <p:nvPr/>
        </p:nvSpPr>
        <p:spPr>
          <a:xfrm>
            <a:off x="160560" y="3789360"/>
            <a:ext cx="105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er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43"/>
          <p:cNvSpPr/>
          <p:nvPr/>
        </p:nvSpPr>
        <p:spPr>
          <a:xfrm>
            <a:off x="7612200" y="3408480"/>
            <a:ext cx="1388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44"/>
          <p:cNvSpPr/>
          <p:nvPr/>
        </p:nvSpPr>
        <p:spPr>
          <a:xfrm>
            <a:off x="3747960" y="5791320"/>
            <a:ext cx="13446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45"/>
          <p:cNvSpPr/>
          <p:nvPr/>
        </p:nvSpPr>
        <p:spPr>
          <a:xfrm>
            <a:off x="3769560" y="5770440"/>
            <a:ext cx="130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Previsional de Resultados: Se hace considerando el nivel de deuda y gastos financieros actuales =&gt; Necesidad Financiera a cubrir. En ese momento se determinan los nuevos niveles de deuda requeridos  y los gastos financieros previsionales para el Estado Previsional de Resultados defini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300600" indent="-300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Ordinario (corriente o circula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Extraordinario ( de Capital o fij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nanciero del IVA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de cambios en las políticas (normas) de liquidez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Existen criterios distintos para ordenar el presupues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11T02:20:10Z</dcterms:modified>
  <cp:revision>376</cp:revision>
  <dc:subject/>
  <dc:title>Análisis Financiero</dc:title>
</cp:coreProperties>
</file>