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DAB0E-D8C8-4CA5-91B4-8FA726CF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462A-B30E-42DC-A91B-FEC5B55D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F0D20-BB9D-404A-9AF9-FADB29FC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81A9D-6D73-49BE-A1CD-3DBDAC83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3D13D-14D8-4574-AE40-589D4AF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140AF-4B8C-4557-8CE7-821A3C5C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5F97A-8C5D-46E4-8B36-AA7AB629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D9AA-ADB8-4C22-B851-09ED732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A48BD-9DC6-48AD-8BAB-5F3EA061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87A33-8896-447E-A9BA-ED20A1A8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5D0D2-AFD5-41DE-8AB3-8A877FC3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96D1A-030E-4F64-BD63-F27BC582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6F44-EABF-40BF-97B5-99F993389784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Clases de Necesidade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anente: Se mantiene a lo largo del año, no necesariamente con un monto constante, pero está presente cada m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nsitoria: se produce en un momento concre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4 áreas de reflexión estratégica a la hora de buscar recursos para cubrir la necesidad financiera prev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nvers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dificación de obje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) Buscar en el Presupuesto de Tesorería la Necesidad Financiera máxima acumulada (no la acumulada a final de añ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) Calcular ROAp (previsional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Ap = (BAIT prev + Atipicos prev.) / Act. Tot. N. Prev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i) Analizar apalancamiento; comparar ROAp con tipo de interés. Si ROAp &gt; i pensar en exigible, caso contrario pensar en 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v) Analizar ratios de endeudamiento histórico (E) y calidad del endeudamiento para ver factibilidad de nuevos préstam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) Calcular el Cash Flow Libre para analizar si podemos atender nuevos présta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Libre = BPT + Deprec. + Provisiones - Amortizac. Créditos (Actuales) - Inversiones Previstas - Pagos de Dividendos ya comprometi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) Análisis detallado de las alternativas de recur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indicadores con el nuevo financiamiento (el determinado en vi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PT t+1 = (BAITprev - Nuevos Gtos. Fin.) (1-T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.P. t+1 = C.P.prev. + BPT t+1 + Ampliaciones de Capital (si se determinan en vi) - Dividendos ( si se determinó pagarlos en vi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E t+1 = BPT t+1 / C.P.t+1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=</a:t>
            </a:r>
            <a:r>
              <a:rPr b="0" lang="es-ES_tradnl" sz="2000" spc="-1" strike="noStrike" u="sng">
                <a:solidFill>
                  <a:srgbClr val="4d4d4d"/>
                </a:solidFill>
                <a:uFillTx/>
                <a:latin typeface="Verdana"/>
              </a:rPr>
              <a:t>Exigible CP y LP prev. + Nueva deuda definida en v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.P t+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ecisión Capital propio vs. Exigible no es meramente técnica, es una decisión estratégica en la que incide el grado de aversión al riesgo   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: Las reservas NO son recursos de CP, las reservas son Utilidades ya aplicadas (autofinanciamiento ya realiz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(Ampliación de Capital): Factible que se apruebe según políticas de dividendo histór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de Medio y Largo Plazo, en general están sujetos a financiamiento de AF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veedores: No deberíamos considerarlo salvo en caso desesperado por que ya los consideramos en las previsiones. Si fuera necesario recurrir a ellos ¿Tengo poder negociador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ing: Arriendo con compromiso de compra, no escrédito pero es una forma de financiar Activo Fijo, tiene además ventajas fisc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eback (retroleasing): Leasing con un equipo que ya poseo, lo vendo y lo recupero arrendando con leasing. Así genero efectiv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de Documentos: Es el recurso por excelencia. Deberíamos intentar partir por aquí ¿Por qué? Recordar solidez patrimonial, el descuento se adapta mejor a las necesidades de circulante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toring; El “Factor” es una empresa que nos administra los clientes: les facturan, nos llevan la contabilidad, les cobran, nos anticipan el cobro y obviamente nos cobran por ell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mpuestos y Dividendos son semiautomáticos porque sólo son recursos cuando hay uti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a Exportaciones obviamente sólo sirven en el caso que exporte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ursos de vencimiento expreso: SOLO PUEDEN USARSE PARA PUNTAS DE TESORERIA, NECESIDADES TRANSITO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de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ondos de Inversión en Desarrollo de Empresas (FIDE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ursos de ac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ólo enajenación de activos, también gestión (Ej.: descuentos a clientes por pago anticip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concluido el análisis nos faltan recursos =&gt; Modificar los objetivos y volver a hacer la Planificación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11T02:20:10Z</dcterms:modified>
  <cp:revision>376</cp:revision>
  <dc:subject/>
  <dc:title>Análisis Financiero</dc:title>
</cp:coreProperties>
</file>