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F62-37F9-4438-96D4-7124E48667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DA5-1E71-4136-8E24-6FF8D6557C3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AD0D8-FFF2-460D-B4D3-317F4ED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B60FD-EF8F-408F-89FC-B20E7DCE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E0E7A-CB78-470C-8870-EF3567C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F0E28-A747-4FA3-B692-8335AF31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E2F7-CD77-4DC5-9269-F7D59F79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C3141-066E-471E-AFD6-6C251F6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A6B5-AB5B-4098-A405-0CAFF86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7FD25-FCBA-4465-8F68-B37377ED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C2D2C-AD0C-451E-AFF3-0AF22A4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BE7C9-EBB9-4B32-8A75-0D37356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DB0B-92D8-4446-8580-67E4587F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98900-884E-4986-9C2B-B9A7A4C1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A457-7D2F-4BE5-A535-3590C1E324D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230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0040" indent="-230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, de impuestos y extrafuncional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30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35080" y="3435480"/>
            <a:ext cx="8445240" cy="2154240"/>
            <a:chOff x="235080" y="3435480"/>
            <a:chExt cx="8445240" cy="2154240"/>
          </a:xfrm>
        </p:grpSpPr>
        <p:sp>
          <p:nvSpPr>
            <p:cNvPr id="175" name="Rectangle 1028"/>
            <p:cNvSpPr/>
            <p:nvPr/>
          </p:nvSpPr>
          <p:spPr>
            <a:xfrm>
              <a:off x="6116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Line 1031"/>
            <p:cNvSpPr/>
            <p:nvPr/>
          </p:nvSpPr>
          <p:spPr>
            <a:xfrm flipV="1">
              <a:off x="2901960" y="5013360"/>
              <a:ext cx="1814400" cy="15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Line 1032"/>
            <p:cNvSpPr/>
            <p:nvPr/>
          </p:nvSpPr>
          <p:spPr>
            <a:xfrm flipV="1">
              <a:off x="471636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Line 1035"/>
            <p:cNvSpPr/>
            <p:nvPr/>
          </p:nvSpPr>
          <p:spPr>
            <a:xfrm>
              <a:off x="2292480" y="5562720"/>
              <a:ext cx="4151160" cy="27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Line 1036"/>
            <p:cNvSpPr/>
            <p:nvPr/>
          </p:nvSpPr>
          <p:spPr>
            <a:xfrm flipV="1">
              <a:off x="644364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n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se exige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7T16:02:58Z</dcterms:modified>
  <cp:revision>382</cp:revision>
  <dc:subject/>
  <dc:title>Análisis Financiero</dc:title>
</cp:coreProperties>
</file>