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9.xml.rels" ContentType="application/vnd.openxmlformats-package.relationships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move the slide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8C2A5-8EE9-42C5-BBAB-F03B0F239BE3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3 Marcador de número de diapositiva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C47A3D-A903-43EF-BBB0-53FB5EEFD61A}" type="slidenum">
              <a:rPr b="0" lang="es-ES_tradnl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172736A-D370-4871-9A82-F1F9AF08F8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36234CA-55DF-42EE-9E73-1CB7D7D64B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955FD9-CABF-4CEF-9A54-350AF10972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450D7C-7C4F-405E-A85C-ED11FA7257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8661B3-BB9D-4735-BEB9-D0AE13A807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11A260B-048C-402F-9085-DD38227278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4EDADEB-EE39-4701-A7BD-A2F772358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3C32E8D-3654-4A10-B2F1-FADE82183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13EAB5F-DFE9-4683-89B3-9BE1A5F05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0E5430E-ABC2-4D73-8855-A551E940F7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5126CDB-76BC-4364-846E-D51BDE4801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716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77080" y="126792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5662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716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77080" y="3900960"/>
            <a:ext cx="257616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C64B1-0090-47D3-BBF5-43E05C5FA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39280" y="368280"/>
            <a:ext cx="8001000" cy="284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0096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267920"/>
            <a:ext cx="39042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00960"/>
            <a:ext cx="8001000" cy="240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2" name="Line 5"/>
          <p:cNvSpPr/>
          <p:nvPr/>
        </p:nvSpPr>
        <p:spPr>
          <a:xfrm>
            <a:off x="609480" y="6524640"/>
            <a:ext cx="7925040" cy="0"/>
          </a:xfrm>
          <a:prstGeom prst="line">
            <a:avLst/>
          </a:prstGeom>
          <a:ln w="381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611280" y="6524280"/>
            <a:ext cx="7921440" cy="1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es-ES" sz="1200" spc="-1" strike="noStrike">
                <a:solidFill>
                  <a:srgbClr val="969696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" sz="1200" spc="-1" strike="noStrike">
                <a:solidFill>
                  <a:srgbClr val="969696"/>
                </a:solidFill>
                <a:latin typeface="Times New Roman"/>
              </a:rPr>
              <a:t>IN42A – EVALUACIÓN DE PROYEC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Line 13"/>
          <p:cNvSpPr/>
          <p:nvPr/>
        </p:nvSpPr>
        <p:spPr>
          <a:xfrm>
            <a:off x="755640" y="105264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11" descr="logo_new"/>
          <p:cNvPicPr/>
          <p:nvPr/>
        </p:nvPicPr>
        <p:blipFill>
          <a:blip r:embed="rId2"/>
          <a:stretch/>
        </p:blipFill>
        <p:spPr>
          <a:xfrm>
            <a:off x="2771640" y="189000"/>
            <a:ext cx="3745080" cy="857160"/>
          </a:xfrm>
          <a:prstGeom prst="rect">
            <a:avLst/>
          </a:prstGeom>
          <a:ln w="0">
            <a:noFill/>
          </a:ln>
        </p:spPr>
      </p:pic>
      <p:sp>
        <p:nvSpPr>
          <p:cNvPr id="42" name="Line 12"/>
          <p:cNvSpPr/>
          <p:nvPr/>
        </p:nvSpPr>
        <p:spPr>
          <a:xfrm>
            <a:off x="755640" y="3645000"/>
            <a:ext cx="7704000" cy="0"/>
          </a:xfrm>
          <a:prstGeom prst="line">
            <a:avLst/>
          </a:prstGeom>
          <a:ln w="8892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9280" y="368280"/>
            <a:ext cx="8001000" cy="61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cc3300"/>
                </a:solidFill>
                <a:latin typeface="Verdana"/>
              </a:rPr>
              <a:t>Click to edit the title text format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70000"/>
              <a:buFont typeface="Wingdings" charset="2"/>
              <a:buChar char="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4d4d4d"/>
              </a:buClr>
              <a:buSzPct val="60000"/>
              <a:buFont typeface="Wingdings" charset="2"/>
              <a:buChar char="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4d4d4d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4d4d4d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98CFD-1E85-4DA4-B2CF-E3F116C3C431}" type="slidenum">
              <a:rPr b="0" lang="es-ES" sz="1200" spc="-1" strike="noStrike">
                <a:solidFill>
                  <a:srgbClr val="4d4d4d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99640" y="2204640"/>
            <a:ext cx="7488360" cy="1366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600" spc="-1" strike="noStrike">
                <a:solidFill>
                  <a:srgbClr val="cc3300"/>
                </a:solidFill>
                <a:latin typeface="Verdana"/>
              </a:rPr>
              <a:t>IN4301</a:t>
            </a:r>
            <a:br>
              <a:rPr sz="3600"/>
            </a:br>
            <a:r>
              <a:rPr b="1" i="1" lang="es-ES_tradnl" sz="3200" spc="-1" strike="noStrike">
                <a:solidFill>
                  <a:srgbClr val="cc3300"/>
                </a:solidFill>
                <a:latin typeface="Verdana"/>
              </a:rPr>
              <a:t>Análisis y Matemáticas Financieras</a:t>
            </a:r>
            <a:endParaRPr b="1" lang="en-US" sz="32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457200" y="21337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0000"/>
          </a:bodyPr>
          <a:p>
            <a:pPr marL="375840" indent="-37584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 (Patrimonio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E = BPT / FP = BPT/ Vtas * Vtas/ FP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Margen global neto = BPT / Vtas. Neta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-3758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tación de Patrimonio= Vtas / FP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758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3" name="Rectangle 1028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457200" y="16765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9000"/>
          </a:bodyPr>
          <a:p>
            <a:pPr marL="324000" indent="-3240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324000" indent="-324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La rotación de FP depende del grado de aversión al riesg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Autofinanciación =&gt; Incremento de FP =&gt; Menor rentabilidad (ROE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626400" indent="-3009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i aumentamos “E” (deuda) =&gt; Aumenta rotación de FP pero cae el BPT. Por lo tanto el resultado no es claro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6" name="Rectangle 4"/>
          <p:cNvSpPr/>
          <p:nvPr/>
        </p:nvSpPr>
        <p:spPr>
          <a:xfrm>
            <a:off x="221760" y="5624640"/>
            <a:ext cx="2422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533520" y="236196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49000"/>
          </a:bodyPr>
          <a:p>
            <a:pPr marL="230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230040" indent="-230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n ausencia de endeudamiento, de impuestos y extrafuncionale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AIT = BPT =&gt; ROA =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444600" indent="-21348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.: BAIT=BPT=20 y FP=Act.Total Neto = 10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2300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53352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33000"/>
          </a:bodyPr>
          <a:p>
            <a:pPr marL="154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154800" indent="-154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j:Act Total Neto = 100, FP = 50 y Deuda = 50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és 10%/año=&gt; Gts. Financ.= 5 =&gt; BPT=15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 = 20% y ROE = 15/50 =30 %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299520" indent="-143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Conviene endeudarse (en este caso)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title"/>
          </p:nvPr>
        </p:nvSpPr>
        <p:spPr>
          <a:xfrm>
            <a:off x="1295280" y="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684360" y="754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4226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22640" indent="-4226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Hasta donde conviene endeudarse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upongamos ahora Interés de 25% anu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= 20/100= 20% 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E = (20-12,5)/50 =15% .....¡Disminuye!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16840" indent="-392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No conviene si i &gt; ROA &lt;=&gt; ROA &gt;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838080" y="10429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Efecto de la deuda: Lo que determina que el apalancamiento sea positivo es el tipo de interés (i). Recordemos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+) Rotación; aumenta Vtas./FP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35200" indent="-4014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(-) Margen; disminuye BPT/Vtas.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32000" indent="-4320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Cuando i &gt; ROA, el “efecto gasto financiero” sobre el margen anula el efecto rotación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320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685800" y="1341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7" name="Rectangle 4"/>
          <p:cNvSpPr/>
          <p:nvPr/>
        </p:nvSpPr>
        <p:spPr>
          <a:xfrm>
            <a:off x="1149480" y="2901960"/>
            <a:ext cx="4940280" cy="10540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8" name="Rectangle 5"/>
          <p:cNvSpPr/>
          <p:nvPr/>
        </p:nvSpPr>
        <p:spPr>
          <a:xfrm>
            <a:off x="2301840" y="3186000"/>
            <a:ext cx="25603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gt; i =&gt; ROE &gt; ROA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59" name="Rectangle 6"/>
          <p:cNvSpPr/>
          <p:nvPr/>
        </p:nvSpPr>
        <p:spPr>
          <a:xfrm>
            <a:off x="6503760" y="31100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osi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0" name="Rectangle 7"/>
          <p:cNvSpPr/>
          <p:nvPr/>
        </p:nvSpPr>
        <p:spPr>
          <a:xfrm>
            <a:off x="1149480" y="4425840"/>
            <a:ext cx="4940280" cy="97812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1" name="Rectangle 8"/>
          <p:cNvSpPr/>
          <p:nvPr/>
        </p:nvSpPr>
        <p:spPr>
          <a:xfrm>
            <a:off x="2482560" y="4786200"/>
            <a:ext cx="2500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&lt; i =&gt; ROA &gt; RO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2" name="Rectangle 9"/>
          <p:cNvSpPr/>
          <p:nvPr/>
        </p:nvSpPr>
        <p:spPr>
          <a:xfrm>
            <a:off x="6656040" y="4481640"/>
            <a:ext cx="19278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palancamien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ga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3" name="Rectangle 10"/>
          <p:cNvSpPr/>
          <p:nvPr/>
        </p:nvSpPr>
        <p:spPr>
          <a:xfrm>
            <a:off x="1752480" y="6326280"/>
            <a:ext cx="710748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/>
          </p:nvPr>
        </p:nvSpPr>
        <p:spPr>
          <a:xfrm>
            <a:off x="324000" y="169056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(Descomposición de Rentabilidad de F.P.)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Verdana"/>
              <a:buChar char=" 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Modelo ROE = f(ROA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BPT/FP = (BAIT + Atípicos)/ Act.T.N. * FAFF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onde FAFF: Factor de apalancamiento Financiero-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6" name="Rectangle 1028"/>
          <p:cNvSpPr/>
          <p:nvPr/>
        </p:nvSpPr>
        <p:spPr>
          <a:xfrm>
            <a:off x="2057400" y="5396040"/>
            <a:ext cx="487692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 =------------------ * --------------- * ---------------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7" name="Rectangle 1029"/>
          <p:cNvSpPr/>
          <p:nvPr/>
        </p:nvSpPr>
        <p:spPr>
          <a:xfrm>
            <a:off x="2687400" y="5091120"/>
            <a:ext cx="40737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. Tot. Neto         BAT                  BP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8" name="Rectangle 1030"/>
          <p:cNvSpPr/>
          <p:nvPr/>
        </p:nvSpPr>
        <p:spPr>
          <a:xfrm>
            <a:off x="2867040" y="5700600"/>
            <a:ext cx="40190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ondos P.         BAIT + Atíp.          BA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69" name="Rectangle 1031"/>
          <p:cNvSpPr/>
          <p:nvPr/>
        </p:nvSpPr>
        <p:spPr>
          <a:xfrm>
            <a:off x="920880" y="5035680"/>
            <a:ext cx="7073640" cy="135864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/>
          </p:nvPr>
        </p:nvSpPr>
        <p:spPr>
          <a:xfrm>
            <a:off x="685440" y="1523880"/>
            <a:ext cx="82789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5000"/>
          </a:bodyPr>
          <a:p>
            <a:pPr marL="44604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46040" indent="-44604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Descomposición del FAFF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F = FAF * Efecto Fiscal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01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FAF = (Act. T. N.)/ FP * BAT / (BAIT+Atíp.)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: Factor de apalancamiento financiero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FAF = Endeudamiento *Efecto Gts.Financiero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Recordar E`= Activo/FP = 1 + E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239480" indent="-37548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fecto Gastos Fin. = BAT / (BAIT + Atípicos)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862200" indent="-41436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fecto Fiscal = BPT / BAT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/>
          </p:nvPr>
        </p:nvSpPr>
        <p:spPr>
          <a:xfrm>
            <a:off x="60948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209376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SUMEN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grpSp>
        <p:nvGrpSpPr>
          <p:cNvPr id="174" name="Group 1039"/>
          <p:cNvGrpSpPr/>
          <p:nvPr/>
        </p:nvGrpSpPr>
        <p:grpSpPr>
          <a:xfrm>
            <a:off x="235080" y="3435480"/>
            <a:ext cx="8445240" cy="2154240"/>
            <a:chOff x="235080" y="3435480"/>
            <a:chExt cx="8445240" cy="2154240"/>
          </a:xfrm>
        </p:grpSpPr>
        <p:sp>
          <p:nvSpPr>
            <p:cNvPr id="175" name="Rectangle 1028"/>
            <p:cNvSpPr/>
            <p:nvPr/>
          </p:nvSpPr>
          <p:spPr>
            <a:xfrm>
              <a:off x="611640" y="3643200"/>
              <a:ext cx="6204240" cy="637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ROE = ROA * ENDEUDAMIENTO * IMPACTO   * IMPACTO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                                              </a:t>
              </a: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INANCIERO      FISCAL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6" name="Rectangle 1029"/>
            <p:cNvSpPr/>
            <p:nvPr/>
          </p:nvSpPr>
          <p:spPr>
            <a:xfrm>
              <a:off x="235080" y="3435480"/>
              <a:ext cx="8445240" cy="1206360"/>
            </a:xfrm>
            <a:prstGeom prst="rect">
              <a:avLst/>
            </a:prstGeom>
            <a:noFill/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 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7" name="Line 1030"/>
            <p:cNvSpPr/>
            <p:nvPr/>
          </p:nvSpPr>
          <p:spPr>
            <a:xfrm>
              <a:off x="2895480" y="4502160"/>
              <a:ext cx="0" cy="5205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8" name="Line 1031"/>
            <p:cNvSpPr/>
            <p:nvPr/>
          </p:nvSpPr>
          <p:spPr>
            <a:xfrm flipV="1">
              <a:off x="2901960" y="5013360"/>
              <a:ext cx="1814400" cy="1584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79" name="Line 1032"/>
            <p:cNvSpPr/>
            <p:nvPr/>
          </p:nvSpPr>
          <p:spPr>
            <a:xfrm flipV="1">
              <a:off x="4716360" y="4489200"/>
              <a:ext cx="0" cy="5461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0" name="Rectangle 1033"/>
            <p:cNvSpPr/>
            <p:nvPr/>
          </p:nvSpPr>
          <p:spPr>
            <a:xfrm>
              <a:off x="3908880" y="5091120"/>
              <a:ext cx="565560" cy="3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360" rIns="90360" tIns="44280" bIns="4428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4d4d4d"/>
                  </a:solidFill>
                  <a:latin typeface="Verdana"/>
                </a:rPr>
                <a:t>FAF</a:t>
              </a:r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1" name="Line 1034"/>
            <p:cNvSpPr/>
            <p:nvPr/>
          </p:nvSpPr>
          <p:spPr>
            <a:xfrm>
              <a:off x="2286000" y="4349880"/>
              <a:ext cx="0" cy="120636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2" name="Line 1035"/>
            <p:cNvSpPr/>
            <p:nvPr/>
          </p:nvSpPr>
          <p:spPr>
            <a:xfrm>
              <a:off x="2292480" y="5562720"/>
              <a:ext cx="4151160" cy="2700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800" bIns="-19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  <p:sp>
          <p:nvSpPr>
            <p:cNvPr id="183" name="Line 1036"/>
            <p:cNvSpPr/>
            <p:nvPr/>
          </p:nvSpPr>
          <p:spPr>
            <a:xfrm flipV="1">
              <a:off x="6443640" y="4565160"/>
              <a:ext cx="0" cy="1003320"/>
            </a:xfrm>
            <a:prstGeom prst="line">
              <a:avLst/>
            </a:prstGeom>
            <a:ln w="12600">
              <a:solidFill>
                <a:srgbClr val="4d4d4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4d4d4d"/>
                </a:solidFill>
                <a:latin typeface="Verdana"/>
              </a:endParaRPr>
            </a:p>
          </p:txBody>
        </p:sp>
      </p:grpSp>
      <p:sp>
        <p:nvSpPr>
          <p:cNvPr id="184" name="Rectangle 1037"/>
          <p:cNvSpPr/>
          <p:nvPr/>
        </p:nvSpPr>
        <p:spPr>
          <a:xfrm>
            <a:off x="4534560" y="5700600"/>
            <a:ext cx="6843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FAFF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5" name="Rectangle 1038"/>
          <p:cNvSpPr/>
          <p:nvPr/>
        </p:nvSpPr>
        <p:spPr>
          <a:xfrm>
            <a:off x="918720" y="6005520"/>
            <a:ext cx="73076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OTA: La Empresa sólo puede influir en el FAF, el FAFF es exógen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879560" y="304920"/>
            <a:ext cx="5384880" cy="7617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400" spc="-1" strike="noStrike">
                <a:solidFill>
                  <a:srgbClr val="cc3300"/>
                </a:solidFill>
                <a:latin typeface="Verdana"/>
              </a:rPr>
              <a:t>Temas del curso</a:t>
            </a:r>
            <a:endParaRPr b="1" lang="en-US" sz="34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267920"/>
            <a:ext cx="8001000" cy="504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 Introducción - Ordenamiento del Balance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Análisis Patrimonial Estát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 Análisis Patrimonial Dinámic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 Análisis de Circulante - Rotacione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 Análisis del Estado de Resultados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000" spc="-1" strike="noStrike">
                <a:solidFill>
                  <a:srgbClr val="4d4d4d"/>
                </a:solidFill>
                <a:latin typeface="Verdana"/>
              </a:rPr>
              <a:t>6. Análisis Rentabilidad,Rendimiento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7. Planificación Financiera de C/P.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/>
          </p:nvPr>
        </p:nvSpPr>
        <p:spPr>
          <a:xfrm>
            <a:off x="250920" y="1295280"/>
            <a:ext cx="864216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3000"/>
          </a:bodyPr>
          <a:p>
            <a:pPr marL="3898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4" marL="1737720" indent="0">
              <a:spcBef>
                <a:spcPts val="624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d4d4d"/>
              </a:solidFill>
              <a:latin typeface="Verdana"/>
            </a:endParaRPr>
          </a:p>
          <a:p>
            <a:pPr marL="389880" indent="-38988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egulación del FAF: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ROA 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 </a:t>
            </a: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Gestión de los ejecutivos de operaciones, marketing, finanzas, etc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: Políticas de crédito a clientes, innovaciones tecnológicas.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1" marL="753480" indent="-3618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E` y Gastos Financieros: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structura de pasivo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Decisiones de propietarios y aversión al riesgo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1082880" indent="-32796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Tipo de interés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 type="title"/>
          </p:nvPr>
        </p:nvSpPr>
        <p:spPr>
          <a:xfrm>
            <a:off x="1295280" y="13824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85800" y="1752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Detalle de rendimiento de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4.Detalle de rentabilidad de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5.El apalancamiento financiero (leverag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6.Return on Equity Breakdown (ROEB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¿Cómo analizar la cuenta de resultados una vez ordenada?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1.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7" name="Rectangle 1028"/>
          <p:cNvSpPr/>
          <p:nvPr/>
        </p:nvSpPr>
        <p:spPr>
          <a:xfrm>
            <a:off x="1530360" y="3511440"/>
            <a:ext cx="2044800" cy="11304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8" name="Rectangle 1029"/>
          <p:cNvSpPr/>
          <p:nvPr/>
        </p:nvSpPr>
        <p:spPr>
          <a:xfrm>
            <a:off x="1959840" y="3567240"/>
            <a:ext cx="15058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99" name="Rectangle 1030"/>
          <p:cNvSpPr/>
          <p:nvPr/>
        </p:nvSpPr>
        <p:spPr>
          <a:xfrm>
            <a:off x="1963800" y="4024440"/>
            <a:ext cx="15318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0" name="Rectangle 1031"/>
          <p:cNvSpPr/>
          <p:nvPr/>
        </p:nvSpPr>
        <p:spPr>
          <a:xfrm>
            <a:off x="4541400" y="3809880"/>
            <a:ext cx="418500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buClr>
                <a:srgbClr val="4d4d4d"/>
              </a:buClr>
              <a:buFont typeface="Symbol" charset="2"/>
              <a:buChar char="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Resultado 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4d4d4d"/>
                </a:solidFill>
                <a:latin typeface="Verdana"/>
              </a:rPr>
              <a:t>Operacional (BAIT)</a:t>
            </a:r>
            <a:endParaRPr b="0" lang="en-US" sz="36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1" name="Rectangle 1032"/>
          <p:cNvSpPr/>
          <p:nvPr/>
        </p:nvSpPr>
        <p:spPr>
          <a:xfrm>
            <a:off x="1530360" y="4959360"/>
            <a:ext cx="2044800" cy="977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2" name="Rectangle 1033"/>
          <p:cNvSpPr/>
          <p:nvPr/>
        </p:nvSpPr>
        <p:spPr>
          <a:xfrm>
            <a:off x="1717560" y="5014800"/>
            <a:ext cx="15940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F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3" name="Rectangle 1034"/>
          <p:cNvSpPr/>
          <p:nvPr/>
        </p:nvSpPr>
        <p:spPr>
          <a:xfrm>
            <a:off x="1407960" y="5396040"/>
            <a:ext cx="20955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.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4" name="Rectangle 1035"/>
          <p:cNvSpPr/>
          <p:nvPr/>
        </p:nvSpPr>
        <p:spPr>
          <a:xfrm>
            <a:off x="3733920" y="5243400"/>
            <a:ext cx="50292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&gt; Ingresos o Gastos  No Operacional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o Atí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/>
          </p:nvPr>
        </p:nvSpPr>
        <p:spPr>
          <a:xfrm>
            <a:off x="533520" y="13716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del activo = Return on Assets (ROA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7" name="Rectangle 4"/>
          <p:cNvSpPr/>
          <p:nvPr/>
        </p:nvSpPr>
        <p:spPr>
          <a:xfrm>
            <a:off x="844560" y="3054240"/>
            <a:ext cx="5931000" cy="151128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8" name="Rectangle 5"/>
          <p:cNvSpPr/>
          <p:nvPr/>
        </p:nvSpPr>
        <p:spPr>
          <a:xfrm>
            <a:off x="1097280" y="3567240"/>
            <a:ext cx="8550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09" name="Rectangle 6"/>
          <p:cNvSpPr/>
          <p:nvPr/>
        </p:nvSpPr>
        <p:spPr>
          <a:xfrm>
            <a:off x="2205720" y="3567240"/>
            <a:ext cx="312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0" name="Line 7"/>
          <p:cNvSpPr/>
          <p:nvPr/>
        </p:nvSpPr>
        <p:spPr>
          <a:xfrm>
            <a:off x="2825640" y="38098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1" name="Rectangle 8"/>
          <p:cNvSpPr/>
          <p:nvPr/>
        </p:nvSpPr>
        <p:spPr>
          <a:xfrm>
            <a:off x="3294720" y="3262320"/>
            <a:ext cx="194616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 + ATIPICO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2" name="Rectangle 9"/>
          <p:cNvSpPr/>
          <p:nvPr/>
        </p:nvSpPr>
        <p:spPr>
          <a:xfrm>
            <a:off x="2567160" y="39481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3" name="Rectangle 10"/>
          <p:cNvSpPr/>
          <p:nvPr/>
        </p:nvSpPr>
        <p:spPr>
          <a:xfrm>
            <a:off x="1431000" y="5091120"/>
            <a:ext cx="4910400" cy="63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N EL DENOMINADOR “NETO” SE REFIERE A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NETO DE DEPRECIACIONES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title"/>
          </p:nvPr>
        </p:nvSpPr>
        <p:spPr>
          <a:xfrm>
            <a:off x="1295280" y="35388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533520" y="83664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0" algn="ctr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dto. Específico (o técnico)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6" name="Rectangle 1028"/>
          <p:cNvSpPr/>
          <p:nvPr/>
        </p:nvSpPr>
        <p:spPr>
          <a:xfrm>
            <a:off x="844560" y="2673360"/>
            <a:ext cx="5931000" cy="158760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7" name="Rectangle 1029"/>
          <p:cNvSpPr/>
          <p:nvPr/>
        </p:nvSpPr>
        <p:spPr>
          <a:xfrm>
            <a:off x="905040" y="3110040"/>
            <a:ext cx="10872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D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8" name="Rectangle 1030"/>
          <p:cNvSpPr/>
          <p:nvPr/>
        </p:nvSpPr>
        <p:spPr>
          <a:xfrm>
            <a:off x="1957320" y="3110040"/>
            <a:ext cx="3524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=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19" name="Line 1031"/>
          <p:cNvSpPr/>
          <p:nvPr/>
        </p:nvSpPr>
        <p:spPr>
          <a:xfrm>
            <a:off x="2825640" y="3352680"/>
            <a:ext cx="326412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0" name="Rectangle 1032"/>
          <p:cNvSpPr/>
          <p:nvPr/>
        </p:nvSpPr>
        <p:spPr>
          <a:xfrm>
            <a:off x="3926160" y="2881440"/>
            <a:ext cx="68148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1" name="Rectangle 1033"/>
          <p:cNvSpPr/>
          <p:nvPr/>
        </p:nvSpPr>
        <p:spPr>
          <a:xfrm>
            <a:off x="2238480" y="3490920"/>
            <a:ext cx="423684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FUNCIONAL NET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2" name="Rectangle 1034"/>
          <p:cNvSpPr/>
          <p:nvPr/>
        </p:nvSpPr>
        <p:spPr>
          <a:xfrm>
            <a:off x="1050120" y="4495680"/>
            <a:ext cx="2514240" cy="146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tivo Total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- AF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AC extrafuncional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buClr>
                <a:srgbClr val="4d4d4d"/>
              </a:buClr>
              <a:buFont typeface="Verdana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preciación  Ac.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3" name="Rectangle 1035"/>
          <p:cNvSpPr/>
          <p:nvPr/>
        </p:nvSpPr>
        <p:spPr>
          <a:xfrm>
            <a:off x="844560" y="4349880"/>
            <a:ext cx="3111480" cy="2120760"/>
          </a:xfrm>
          <a:prstGeom prst="rect">
            <a:avLst/>
          </a:prstGeom>
          <a:noFill/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4" name="Line 1036"/>
          <p:cNvSpPr/>
          <p:nvPr/>
        </p:nvSpPr>
        <p:spPr>
          <a:xfrm>
            <a:off x="4648320" y="3968640"/>
            <a:ext cx="0" cy="135900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5" name="Line 1037"/>
          <p:cNvSpPr/>
          <p:nvPr/>
        </p:nvSpPr>
        <p:spPr>
          <a:xfrm>
            <a:off x="3968640" y="5334120"/>
            <a:ext cx="673200" cy="0"/>
          </a:xfrm>
          <a:prstGeom prst="line">
            <a:avLst/>
          </a:prstGeom>
          <a:ln w="12600">
            <a:solidFill>
              <a:srgbClr val="4d4d4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457200" y="1447920"/>
            <a:ext cx="777240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69800" indent="-469800">
              <a:spcBef>
                <a:spcPts val="700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8" name="Rectangle 4"/>
          <p:cNvSpPr/>
          <p:nvPr/>
        </p:nvSpPr>
        <p:spPr>
          <a:xfrm>
            <a:off x="1395360" y="2530440"/>
            <a:ext cx="6780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ROA  =  --------------  =  --------- * ---------------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29" name="Rectangle 5"/>
          <p:cNvSpPr/>
          <p:nvPr/>
        </p:nvSpPr>
        <p:spPr>
          <a:xfrm>
            <a:off x="2112840" y="222552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127800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1" name="Rectangle 7"/>
          <p:cNvSpPr/>
          <p:nvPr/>
        </p:nvSpPr>
        <p:spPr>
          <a:xfrm>
            <a:off x="4703760" y="2149560"/>
            <a:ext cx="9572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BAIT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2" name="Rectangle 8"/>
          <p:cNvSpPr/>
          <p:nvPr/>
        </p:nvSpPr>
        <p:spPr>
          <a:xfrm>
            <a:off x="4658040" y="291132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3" name="Rectangle 9"/>
          <p:cNvSpPr/>
          <p:nvPr/>
        </p:nvSpPr>
        <p:spPr>
          <a:xfrm>
            <a:off x="6706800" y="2149560"/>
            <a:ext cx="131220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Ventas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4" name="Rectangle 10"/>
          <p:cNvSpPr/>
          <p:nvPr/>
        </p:nvSpPr>
        <p:spPr>
          <a:xfrm>
            <a:off x="6316560" y="2911320"/>
            <a:ext cx="2625840" cy="51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4d4d4d"/>
                </a:solidFill>
                <a:latin typeface="Verdana"/>
              </a:rPr>
              <a:t>Act. func. Neto</a:t>
            </a:r>
            <a:endParaRPr b="0" lang="en-US" sz="2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5" name="Rectangle 11"/>
          <p:cNvSpPr/>
          <p:nvPr/>
        </p:nvSpPr>
        <p:spPr>
          <a:xfrm>
            <a:off x="1599480" y="4100400"/>
            <a:ext cx="6251400" cy="36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ROA = MARGEN DE VENTAS (%) * ROTACION DEL ACTIVO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6" name="Rectangle 12"/>
          <p:cNvSpPr/>
          <p:nvPr/>
        </p:nvSpPr>
        <p:spPr>
          <a:xfrm>
            <a:off x="1312920" y="4710240"/>
            <a:ext cx="5908680" cy="11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360" rIns="90360" tIns="44280" bIns="4428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El ROA es el rendimiento que debería cubrir el costo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promedio  ponderado  del  capital (WACC), es decir,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debería cubrir el costo del capital propio y el costo de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4d4d4d"/>
                </a:solidFill>
                <a:latin typeface="Verdana"/>
              </a:rPr>
              <a:t>la deuda.                                                                      </a:t>
            </a:r>
            <a:endParaRPr b="0" lang="en-US" sz="18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title"/>
          </p:nvPr>
        </p:nvSpPr>
        <p:spPr>
          <a:xfrm>
            <a:off x="1295280" y="21096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/>
          </p:nvPr>
        </p:nvSpPr>
        <p:spPr>
          <a:xfrm>
            <a:off x="533520" y="1523520"/>
            <a:ext cx="7772400" cy="2133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66000"/>
          </a:bodyPr>
          <a:p>
            <a:pPr marL="309960" indent="-30996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2. Detalle del rendimiento del activo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Los ROA que calculemos son buenos o malos en término relativos (comparados con otros del sector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1" marL="599040" indent="-28764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Interesa analizar las diferencias intersectoriales en la  descomposición del rendimiento (márgen y rotación)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1: Venta de antiguedades de colección; Alto Márgen y Baja Rotación 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  <a:p>
            <a:pPr lvl="2" marL="861120" indent="-260640">
              <a:spcBef>
                <a:spcPts val="575"/>
              </a:spcBef>
              <a:buClr>
                <a:srgbClr val="cc0000"/>
              </a:buClr>
              <a:buSzPct val="70000"/>
              <a:buFont typeface="Wingdings" charset="2"/>
              <a:buChar char="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300" spc="-1" strike="noStrike">
                <a:solidFill>
                  <a:srgbClr val="4d4d4d"/>
                </a:solidFill>
                <a:latin typeface="Verdana"/>
              </a:rPr>
              <a:t>Ej.2: Bombas de Bencina; Bajo Márgen y Altísima Rotación</a:t>
            </a:r>
            <a:endParaRPr b="0" lang="en-US" sz="23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/>
          </p:nvPr>
        </p:nvSpPr>
        <p:spPr>
          <a:xfrm>
            <a:off x="533160" y="12952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455400" indent="-455400" algn="ctr">
              <a:spcBef>
                <a:spcPts val="751"/>
              </a:spcBef>
              <a:buClr>
                <a:srgbClr val="cc0000"/>
              </a:buClr>
              <a:buSzPct val="75000"/>
              <a:buFont typeface="Monotype Sorts" charset="2"/>
              <a:buChar char="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3.Rentabilidad de los fondos propios           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tdad. F.P. = Return on Equity (ROE)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 algn="just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ROE = BPT / Fondos Propios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Se usa BPT porque es lo que realmente interesa a los accionistas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75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4d4d4d"/>
                </a:solidFill>
                <a:latin typeface="Verdana"/>
              </a:rPr>
              <a:t>¿De que depende la rentabilidad?</a:t>
            </a:r>
            <a:endParaRPr b="0" lang="en-US" sz="3000" spc="-1" strike="noStrike">
              <a:solidFill>
                <a:srgbClr val="4d4d4d"/>
              </a:solidFill>
              <a:latin typeface="Verdana"/>
            </a:endParaRPr>
          </a:p>
          <a:p>
            <a:pPr lvl="1" marL="880560" indent="-423000">
              <a:spcBef>
                <a:spcPts val="649"/>
              </a:spcBef>
              <a:buClr>
                <a:srgbClr val="cc0000"/>
              </a:buClr>
              <a:buSzPct val="70000"/>
              <a:buFont typeface="Wing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4d4d4d"/>
                </a:solidFill>
                <a:latin typeface="Verdana"/>
              </a:rPr>
              <a:t>Depende del mercado específico y sus riesgos, a mayor riesgo se exige mayor ROE</a:t>
            </a:r>
            <a:endParaRPr b="0" lang="en-US" sz="2600" spc="-1" strike="noStrike">
              <a:solidFill>
                <a:srgbClr val="4d4d4d"/>
              </a:solidFill>
              <a:latin typeface="Verdana"/>
            </a:endParaRPr>
          </a:p>
          <a:p>
            <a:pPr marL="455400" indent="-455400">
              <a:spcBef>
                <a:spcPts val="601"/>
              </a:spcBef>
              <a:buClr>
                <a:srgbClr val="cc0000"/>
              </a:buClr>
              <a:buSzPct val="75000"/>
              <a:buFont typeface="Wingdings" charset="2"/>
              <a:buChar char="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d4d4d"/>
                </a:solidFill>
                <a:latin typeface="Verdana"/>
              </a:rPr>
              <a:t>NOTA: ROA y ROE son aproximaciones del corto plazo a los retornos del CAPM</a:t>
            </a:r>
            <a:endParaRPr b="0" lang="en-US" sz="2400" spc="-1" strike="noStrike">
              <a:solidFill>
                <a:srgbClr val="4d4d4d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title"/>
          </p:nvPr>
        </p:nvSpPr>
        <p:spPr>
          <a:xfrm>
            <a:off x="1295280" y="282600"/>
            <a:ext cx="655344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cc3300"/>
                </a:solidFill>
                <a:latin typeface="Verdana"/>
              </a:rPr>
              <a:t>ANÁLISIS ECONOMICO II</a:t>
            </a:r>
            <a:endParaRPr b="1" lang="en-US" sz="3600" spc="-1" strike="noStrike">
              <a:solidFill>
                <a:srgbClr val="cc3300"/>
              </a:solidFill>
              <a:latin typeface="Verdan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0-03T04:43:44Z</dcterms:created>
  <dc:creator>Eduardo Contreras</dc:creator>
  <dc:description/>
  <dc:language>en-US</dc:language>
  <cp:lastModifiedBy>Claudio Jiménez</cp:lastModifiedBy>
  <cp:lastPrinted>2002-11-13T13:47:55Z</cp:lastPrinted>
  <dcterms:modified xsi:type="dcterms:W3CDTF">2011-04-07T16:02:58Z</dcterms:modified>
  <cp:revision>382</cp:revision>
  <dc:subject/>
  <dc:title>Análisis Financiero</dc:title>
</cp:coreProperties>
</file>