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move the slide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3CC4-2D62-4BB0-B516-6A02E006040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0D8B-EF6D-47EC-A2EA-5D0864CC9953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8FB2E-9D63-47C2-B61F-C7C843959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8A4B5-2A96-4BD1-907C-E6A8C079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C7242-E97D-4158-8CA7-3DDA3541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809B7-1178-49B6-B32F-5E669A68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07B67-F96F-460D-ACE4-07C72758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986AE-E481-4FFB-983A-08CEB23F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CF727-8F2C-49FD-8EA8-8CCD3911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923FD-EB6A-403B-84AD-DDE08A1C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4F0C7-F58F-419C-B1A3-02169830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A7848-E256-4857-9ACE-CECEC9A5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AFFB4-BCB2-44F4-BB2D-F13508587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32934-F331-444C-A559-F33107090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1A2B-2F50-4133-BABC-C174E2EB6172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5840" indent="-37584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Detalle de rentabilidad de  fondos propios (Patrimonio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5840" indent="-3758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ROE = BPT / FP = BPT/ Vtas * Vtas/ FP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75840" indent="-375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argen global neto = BPT / Vtas. Net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5840" indent="-375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ón de Patrimonio= Vtas / FP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5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3" name="Rectangle 1028"/>
          <p:cNvSpPr/>
          <p:nvPr/>
        </p:nvSpPr>
        <p:spPr>
          <a:xfrm>
            <a:off x="221760" y="562464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324000" indent="-3240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Detalle de rentabilidad de  fondos prop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24000" indent="-324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a rotación de FP depende del grado de aversión al riesg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626400" indent="-3009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utofinanciación =&gt; Incremento de FP =&gt; Menor rentabilidad (ROE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626400" indent="-3009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aumentamos “E” (deuda) =&gt; Aumenta rotación de FP pero cae el BPT. Por lo tanto el resultado no es clar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221760" y="562464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33520" y="2361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9000"/>
          </a:bodyPr>
          <a:p>
            <a:pPr marL="230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230040" indent="-230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n ausencia de endeudamiento, de impuestos y extrafuncionale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444600" indent="-213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BAIT = BPT =&gt; ROA = RO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444600" indent="-213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.: BAIT=BPT=20 y FP=Act.Total Neto = 100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230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3520" y="1828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3000"/>
          </a:bodyPr>
          <a:p>
            <a:pPr marL="154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54800" indent="-154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Conviene endeudarse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:Act Total Neto = 100, FP = 50 y Deuda = 50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és 10%/año=&gt; Gts. Financ.= 5 =&gt; BPT=15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A = 20/100 = 20% y ROE = 15/50 =30 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nviene endeudarse (en este caso)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4360" y="75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226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fecto de la deuda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(+) Rotación; aumenta Vtas./F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(-) Margen; disminuye BPT/Vt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Hasta donde conviene endeudarse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upongamos ahora Interés de 25% anu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A = 20/100= 20%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E = (20-12,5)/50 =15% .....¡Disminuye!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conviene si i &gt; ROA &lt;=&gt; ROA &gt; RO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1042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32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fecto de la deuda: Lo que determina que el apalancamiento sea positivo es el tipo de interés (i). Recordemo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(+) Rotación; aumenta Vtas./F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(-) Margen; disminuye BPT/Vt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uando i &gt; ROA, el “efecto gasto financiero” sobre el margen anula el efecto rotación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SUME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149480" y="2901960"/>
            <a:ext cx="4940280" cy="10540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2301840" y="3186000"/>
            <a:ext cx="256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OA &gt; i =&gt; ROE &gt; RO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6503760" y="3110040"/>
            <a:ext cx="1927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palanca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si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1149480" y="4425840"/>
            <a:ext cx="4940280" cy="9781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2482560" y="4786200"/>
            <a:ext cx="250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OA &lt; i =&gt; ROA &gt; RO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6656040" y="4481640"/>
            <a:ext cx="1927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palanca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ega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1752480" y="6326280"/>
            <a:ext cx="7107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295280" y="13824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24000" y="169056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(Descomposición de Rentabilidad de F.P.)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odelo ROE = f(ROA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BPT/FP = (BAIT + Atípicos)/ Act.T.N. * FAF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onde FAFF: Factor de apalancamiento Financiero-Fisc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Rectangle 1028"/>
          <p:cNvSpPr/>
          <p:nvPr/>
        </p:nvSpPr>
        <p:spPr>
          <a:xfrm>
            <a:off x="2057400" y="5396040"/>
            <a:ext cx="487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AFF =------------------ * --------------- * ---------------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7" name="Rectangle 1029"/>
          <p:cNvSpPr/>
          <p:nvPr/>
        </p:nvSpPr>
        <p:spPr>
          <a:xfrm>
            <a:off x="2687400" y="5091120"/>
            <a:ext cx="4073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. Tot. Neto         BAT                  BP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Rectangle 1030"/>
          <p:cNvSpPr/>
          <p:nvPr/>
        </p:nvSpPr>
        <p:spPr>
          <a:xfrm>
            <a:off x="2867040" y="5700600"/>
            <a:ext cx="4019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ondos P.         BAIT + Atíp.          BA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Rectangle 1031"/>
          <p:cNvSpPr/>
          <p:nvPr/>
        </p:nvSpPr>
        <p:spPr>
          <a:xfrm>
            <a:off x="920880" y="5035680"/>
            <a:ext cx="7073640" cy="135864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440" y="15238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escomposición del FAFF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AFF = FAF * Efecto Fisc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FAF = (Act. T. N.)/ FP * BAT / (BAIT+Atíp.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AF: Factor de apalancamiento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AF = Endeudamiento *Efecto Gts.Financier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ordar E`= Activo/FP = 1 + 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fecto Gastos Fin. = BAT / (BAIT + Atípico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Fiscal = BPT / BAT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SUMEN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74" name="Group 1039"/>
          <p:cNvGrpSpPr/>
          <p:nvPr/>
        </p:nvGrpSpPr>
        <p:grpSpPr>
          <a:xfrm>
            <a:off x="235080" y="3435480"/>
            <a:ext cx="8445240" cy="2154240"/>
            <a:chOff x="235080" y="3435480"/>
            <a:chExt cx="8445240" cy="2154240"/>
          </a:xfrm>
        </p:grpSpPr>
        <p:sp>
          <p:nvSpPr>
            <p:cNvPr id="175" name="Rectangle 1028"/>
            <p:cNvSpPr/>
            <p:nvPr/>
          </p:nvSpPr>
          <p:spPr>
            <a:xfrm>
              <a:off x="611640" y="3643200"/>
              <a:ext cx="6204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OE = ROA * ENDEUDAMIENTO * IMPACTO   * IMPACT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                                               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INANCIERO      FISCAL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6" name="Rectangle 1029"/>
            <p:cNvSpPr/>
            <p:nvPr/>
          </p:nvSpPr>
          <p:spPr>
            <a:xfrm>
              <a:off x="235080" y="3435480"/>
              <a:ext cx="8445240" cy="120636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7" name="Line 1030"/>
            <p:cNvSpPr/>
            <p:nvPr/>
          </p:nvSpPr>
          <p:spPr>
            <a:xfrm>
              <a:off x="2895480" y="4502160"/>
              <a:ext cx="0" cy="5205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8" name="Line 1031"/>
            <p:cNvSpPr/>
            <p:nvPr/>
          </p:nvSpPr>
          <p:spPr>
            <a:xfrm flipV="1">
              <a:off x="2901960" y="5013360"/>
              <a:ext cx="1814400" cy="158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9" name="Line 1032"/>
            <p:cNvSpPr/>
            <p:nvPr/>
          </p:nvSpPr>
          <p:spPr>
            <a:xfrm flipV="1">
              <a:off x="4716360" y="4489200"/>
              <a:ext cx="0" cy="546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0" name="Rectangle 1033"/>
            <p:cNvSpPr/>
            <p:nvPr/>
          </p:nvSpPr>
          <p:spPr>
            <a:xfrm>
              <a:off x="3908880" y="5091120"/>
              <a:ext cx="565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AF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1" name="Line 1034"/>
            <p:cNvSpPr/>
            <p:nvPr/>
          </p:nvSpPr>
          <p:spPr>
            <a:xfrm>
              <a:off x="2286000" y="4349880"/>
              <a:ext cx="0" cy="12063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2" name="Line 1035"/>
            <p:cNvSpPr/>
            <p:nvPr/>
          </p:nvSpPr>
          <p:spPr>
            <a:xfrm>
              <a:off x="2292480" y="5562720"/>
              <a:ext cx="4151160" cy="270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3" name="Line 1036"/>
            <p:cNvSpPr/>
            <p:nvPr/>
          </p:nvSpPr>
          <p:spPr>
            <a:xfrm flipV="1">
              <a:off x="6443640" y="4565160"/>
              <a:ext cx="0" cy="10033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84" name="Rectangle 1037"/>
          <p:cNvSpPr/>
          <p:nvPr/>
        </p:nvSpPr>
        <p:spPr>
          <a:xfrm>
            <a:off x="4534560" y="5700600"/>
            <a:ext cx="68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AFF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5" name="Rectangle 1038"/>
          <p:cNvSpPr/>
          <p:nvPr/>
        </p:nvSpPr>
        <p:spPr>
          <a:xfrm>
            <a:off x="918720" y="6005520"/>
            <a:ext cx="7307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OTA: La Empresa sólo puede influir en el FAF, el FAFF es exógen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79560" y="304920"/>
            <a:ext cx="53848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6. Análisis Rentabilidad,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129528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89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73772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89880" indent="-3898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gulación del FAF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A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Gestión de los ejecutivos de operaciones, marketing, finanzas, etc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: Políticas de crédito a clientes, innovaciones tecnológic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` y Gastos Financiero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ructura de pas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cisiones de propietarios y aversión al riesg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ipo de interé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1295280" y="13824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Rendimient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Detalle de rendimiento de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Rentabilidad de fondos prop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Detalle de rentabilidad de fondos prop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El 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(ROEB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ómo analizar la cuenta de resultados una vez ordenada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Rendimient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1028"/>
          <p:cNvSpPr/>
          <p:nvPr/>
        </p:nvSpPr>
        <p:spPr>
          <a:xfrm>
            <a:off x="1530360" y="3511440"/>
            <a:ext cx="2044800" cy="11304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1029"/>
          <p:cNvSpPr/>
          <p:nvPr/>
        </p:nvSpPr>
        <p:spPr>
          <a:xfrm>
            <a:off x="1959840" y="3567240"/>
            <a:ext cx="1505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F func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Rectangle 1030"/>
          <p:cNvSpPr/>
          <p:nvPr/>
        </p:nvSpPr>
        <p:spPr>
          <a:xfrm>
            <a:off x="1963800" y="4024440"/>
            <a:ext cx="1531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 func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1031"/>
          <p:cNvSpPr/>
          <p:nvPr/>
        </p:nvSpPr>
        <p:spPr>
          <a:xfrm>
            <a:off x="4541400" y="3809880"/>
            <a:ext cx="4185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4d4d4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d4d4d"/>
                </a:solidFill>
                <a:latin typeface="Verdana"/>
              </a:rPr>
              <a:t>Resultado 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d4d4d"/>
                </a:solidFill>
                <a:latin typeface="Verdana"/>
              </a:rPr>
              <a:t>Operacional (BAIT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Rectangle 1032"/>
          <p:cNvSpPr/>
          <p:nvPr/>
        </p:nvSpPr>
        <p:spPr>
          <a:xfrm>
            <a:off x="1530360" y="4959360"/>
            <a:ext cx="2044800" cy="977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033"/>
          <p:cNvSpPr/>
          <p:nvPr/>
        </p:nvSpPr>
        <p:spPr>
          <a:xfrm>
            <a:off x="1717560" y="5014800"/>
            <a:ext cx="1594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F extrafun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Rectangle 1034"/>
          <p:cNvSpPr/>
          <p:nvPr/>
        </p:nvSpPr>
        <p:spPr>
          <a:xfrm>
            <a:off x="1407960" y="5396040"/>
            <a:ext cx="2095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 extrafun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1035"/>
          <p:cNvSpPr/>
          <p:nvPr/>
        </p:nvSpPr>
        <p:spPr>
          <a:xfrm>
            <a:off x="3733920" y="5243400"/>
            <a:ext cx="5029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=&gt; Ingresos o Gastos  No Operaciona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 Atípic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dto. del activo = Return on Assets (ROA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44560" y="3054240"/>
            <a:ext cx="5931000" cy="15112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1097280" y="3567240"/>
            <a:ext cx="855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D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2205720" y="3567240"/>
            <a:ext cx="312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2825640" y="3809880"/>
            <a:ext cx="32641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3294720" y="3262320"/>
            <a:ext cx="1946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IT + ATIPIC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2567160" y="3948120"/>
            <a:ext cx="423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TOTAL NE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1431000" y="5091120"/>
            <a:ext cx="4910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EL DENOMINADOR “NETO” SE REFIERE A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ETO DE DEPRECIACION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295280" y="35388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352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dto. Específico (o técnico)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Rectangle 1028"/>
          <p:cNvSpPr/>
          <p:nvPr/>
        </p:nvSpPr>
        <p:spPr>
          <a:xfrm>
            <a:off x="844560" y="2673360"/>
            <a:ext cx="5931000" cy="15876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Rectangle 1029"/>
          <p:cNvSpPr/>
          <p:nvPr/>
        </p:nvSpPr>
        <p:spPr>
          <a:xfrm>
            <a:off x="905040" y="3110040"/>
            <a:ext cx="108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D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Rectangle 1030"/>
          <p:cNvSpPr/>
          <p:nvPr/>
        </p:nvSpPr>
        <p:spPr>
          <a:xfrm>
            <a:off x="1957320" y="3110040"/>
            <a:ext cx="352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Line 1031"/>
          <p:cNvSpPr/>
          <p:nvPr/>
        </p:nvSpPr>
        <p:spPr>
          <a:xfrm>
            <a:off x="2825640" y="3352680"/>
            <a:ext cx="32641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Rectangle 1032"/>
          <p:cNvSpPr/>
          <p:nvPr/>
        </p:nvSpPr>
        <p:spPr>
          <a:xfrm>
            <a:off x="3926160" y="2881440"/>
            <a:ext cx="68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I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Rectangle 1033"/>
          <p:cNvSpPr/>
          <p:nvPr/>
        </p:nvSpPr>
        <p:spPr>
          <a:xfrm>
            <a:off x="2238480" y="3490920"/>
            <a:ext cx="423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UNCIONAL NE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Rectangle 1034"/>
          <p:cNvSpPr/>
          <p:nvPr/>
        </p:nvSpPr>
        <p:spPr>
          <a:xfrm>
            <a:off x="1050120" y="4495680"/>
            <a:ext cx="2514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Total         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AF extrafunc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 extrafunc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preciación  Ac.     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Rectangle 1035"/>
          <p:cNvSpPr/>
          <p:nvPr/>
        </p:nvSpPr>
        <p:spPr>
          <a:xfrm>
            <a:off x="844560" y="4349880"/>
            <a:ext cx="3111480" cy="2120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Line 1036"/>
          <p:cNvSpPr/>
          <p:nvPr/>
        </p:nvSpPr>
        <p:spPr>
          <a:xfrm>
            <a:off x="4648320" y="3968640"/>
            <a:ext cx="0" cy="13590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5" name="Line 1037"/>
          <p:cNvSpPr/>
          <p:nvPr/>
        </p:nvSpPr>
        <p:spPr>
          <a:xfrm>
            <a:off x="3968640" y="5334120"/>
            <a:ext cx="6732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2. Detalle del rendimiento del activ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395360" y="2530440"/>
            <a:ext cx="6780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ROA  =  --------------  =  --------- * ---------------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2112840" y="2225520"/>
            <a:ext cx="957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BAI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1278000" y="2911320"/>
            <a:ext cx="2625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Act. func. Net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4703760" y="2149560"/>
            <a:ext cx="957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BAI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4658040" y="2911320"/>
            <a:ext cx="1312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6706800" y="2149560"/>
            <a:ext cx="1312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6316560" y="2911320"/>
            <a:ext cx="2625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Act. func. Net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1599480" y="4100400"/>
            <a:ext cx="625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OA = MARGEN DE VENTAS (%) * ROTACION DEL 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1312920" y="4710240"/>
            <a:ext cx="59086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l ROA es el rendimiento que debería cubrir el cos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medio  ponderado  del  capital (WACC), es decir,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bería cubrir el costo del capital propio y el costo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a deuda.                                                                    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309960" indent="-309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Detalle del rendimient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99040" indent="-287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ROA que calculemos son buenos o malos en término relativos (comparados con otros del sector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99040" indent="-287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esa analizar las diferencias intersectoriales en la  descomposición del rendimiento (márgen y rotación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861120" indent="-260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1: Venta de antiguedades de colección; Alto Márgen y Baja Rotación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861120" indent="-260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2: Bombas de Bencina; Bajo Márgen y Altísima Rot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16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5400" indent="-4554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Rentabilidad de los fondos propios          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tdad. F.P. = Return on Equity (RO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 = BPT / Fondos Prop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usa BPT porque es lo que realmente interesa a los accionis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De que depende la rentabilidad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pende del mercado específico y sus riesgos, a mayor riesgo se exige mayor RO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NOTA: ROA y ROE son aproximaciones del corto plazo a los retornos del CAPM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Claudio Jiménez</cp:lastModifiedBy>
  <cp:lastPrinted>2002-11-13T13:47:55Z</cp:lastPrinted>
  <dcterms:modified xsi:type="dcterms:W3CDTF">2011-04-07T16:02:58Z</dcterms:modified>
  <cp:revision>382</cp:revision>
  <dc:subject/>
  <dc:title>Análisis Financiero</dc:title>
</cp:coreProperties>
</file>