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E8D4-9B6F-401D-80EE-BE99882683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5F37-897F-41C9-B928-02490A93945B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5CE38-C900-4B95-8308-FC1D9DEB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74479-55ED-4FCA-892B-6F14AD6A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A7D4B-EA06-4413-AE98-D68D13F5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32738-BE79-4574-979D-F7C361F1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58E06-00D9-48E8-9781-0585D746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E6D3E-1A2F-4221-BBAA-0FB81F8C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54B57-DE84-4B93-B431-40BAC1D0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BBD37-B0BB-4957-87D0-E9378304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B53F7-BD8F-46DB-87F9-63EE24A6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65CE3-8FE8-4C3D-B531-9938BD92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8A2C0-11FE-4F74-9EFA-25090128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F9DC0-609C-42ED-9DFF-3BE24F37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2311-9780-48DC-A303-C740CE89BC07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 (Patrimoni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E = BPT / FP = BPT/ Vtas * Vtas/ FP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rgen global neto = BPT / Vtas. Ne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Patrimonio= Vtas / F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1028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4000" indent="-324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24000" indent="-324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rotación de FP depende del grado de aversión al riesg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Incremento de FP =&gt; Menor rentabilidad (RO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aumentamos “E” (deuda) =&gt; Aumenta rotación de FP pero cae el BPT. Por lo tanto el resultado no es cla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marL="230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30040" indent="-230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ausencia de endeudamiento, de impuestos y extrafuncional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44600" indent="-213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IT = BPT =&gt; ROA =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44600" indent="-213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.: BAIT=BPT=20 y FP=Act.Total Neto = 10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230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Act Total Neto = 100, FP = 50 y Deuda = 5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és 10%/año=&gt; Gts. Financ.= 5 =&gt; BPT=1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 = 20% y ROE = 15/50 =30 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viene endeudarse (en este caso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4360" y="7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Hasta donde 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pongamos ahora Interés de 25% an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= 20%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 = (20-12,5)/50 =15% .....¡Disminuye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conviene si i &gt; ROA &lt;=&gt; ROA &gt;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10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 Lo que determina que el apalancamiento sea positivo es el tipo de interés (i). Recordem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ando i &gt; ROA, el “efecto gasto financiero” sobre el margen anula el efecto rotació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149480" y="2901960"/>
            <a:ext cx="4940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301840" y="3186000"/>
            <a:ext cx="256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gt; i =&gt; ROE &gt; RO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503760" y="31100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149480" y="4425840"/>
            <a:ext cx="4940280" cy="978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482560" y="47862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lt; i =&gt; ROA &gt; RO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656040" y="44816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752480" y="6326280"/>
            <a:ext cx="710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4000" y="16905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(Descomposición de Rentabilidad de F.P.)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delo ROE = f(RO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PT/FP = (BAIT + Atípicos)/ Act.T.N. * FAF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onde FAFF: Factor de apalancamiento Financiero-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Rectangle 1028"/>
          <p:cNvSpPr/>
          <p:nvPr/>
        </p:nvSpPr>
        <p:spPr>
          <a:xfrm>
            <a:off x="2057400" y="5396040"/>
            <a:ext cx="48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 =------------------ * --------------- * ---------------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1029"/>
          <p:cNvSpPr/>
          <p:nvPr/>
        </p:nvSpPr>
        <p:spPr>
          <a:xfrm>
            <a:off x="2687400" y="5091120"/>
            <a:ext cx="407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Tot. Neto         BAT                  BP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1030"/>
          <p:cNvSpPr/>
          <p:nvPr/>
        </p:nvSpPr>
        <p:spPr>
          <a:xfrm>
            <a:off x="2867040" y="5700600"/>
            <a:ext cx="401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s P.         BAIT + Atíp.          BA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031"/>
          <p:cNvSpPr/>
          <p:nvPr/>
        </p:nvSpPr>
        <p:spPr>
          <a:xfrm>
            <a:off x="920880" y="5035680"/>
            <a:ext cx="7073640" cy="13586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sición del FAF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F = FAF * Efecto 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FAF = (Act. T. N.)/ FP * BAT / (BAIT+Atíp.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: Factor de apalancamient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 = Endeudamiento *Efecto Gts.Financie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rdar E`= Activo/FP = 1 +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fecto Gastos Fin. = BAT / (BAIT + Atíp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scal = BPT / BAT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74" name="Group 1039"/>
          <p:cNvGrpSpPr/>
          <p:nvPr/>
        </p:nvGrpSpPr>
        <p:grpSpPr>
          <a:xfrm>
            <a:off x="235080" y="3435480"/>
            <a:ext cx="8445240" cy="2154240"/>
            <a:chOff x="235080" y="3435480"/>
            <a:chExt cx="8445240" cy="2154240"/>
          </a:xfrm>
        </p:grpSpPr>
        <p:sp>
          <p:nvSpPr>
            <p:cNvPr id="175" name="Rectangle 1028"/>
            <p:cNvSpPr/>
            <p:nvPr/>
          </p:nvSpPr>
          <p:spPr>
            <a:xfrm>
              <a:off x="611640" y="364320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1029"/>
            <p:cNvSpPr/>
            <p:nvPr/>
          </p:nvSpPr>
          <p:spPr>
            <a:xfrm>
              <a:off x="235080" y="343548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Line 1030"/>
            <p:cNvSpPr/>
            <p:nvPr/>
          </p:nvSpPr>
          <p:spPr>
            <a:xfrm>
              <a:off x="2895480" y="450216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Line 1031"/>
            <p:cNvSpPr/>
            <p:nvPr/>
          </p:nvSpPr>
          <p:spPr>
            <a:xfrm flipV="1">
              <a:off x="2901960" y="5013360"/>
              <a:ext cx="1814400" cy="158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Line 1032"/>
            <p:cNvSpPr/>
            <p:nvPr/>
          </p:nvSpPr>
          <p:spPr>
            <a:xfrm flipV="1">
              <a:off x="4716360" y="448920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1033"/>
            <p:cNvSpPr/>
            <p:nvPr/>
          </p:nvSpPr>
          <p:spPr>
            <a:xfrm>
              <a:off x="3908880" y="509112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Line 1034"/>
            <p:cNvSpPr/>
            <p:nvPr/>
          </p:nvSpPr>
          <p:spPr>
            <a:xfrm>
              <a:off x="2286000" y="434988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Line 1035"/>
            <p:cNvSpPr/>
            <p:nvPr/>
          </p:nvSpPr>
          <p:spPr>
            <a:xfrm>
              <a:off x="2292480" y="5562720"/>
              <a:ext cx="4151160" cy="27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Line 1036"/>
            <p:cNvSpPr/>
            <p:nvPr/>
          </p:nvSpPr>
          <p:spPr>
            <a:xfrm flipV="1">
              <a:off x="6443640" y="456516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84" name="Rectangle 1037"/>
          <p:cNvSpPr/>
          <p:nvPr/>
        </p:nvSpPr>
        <p:spPr>
          <a:xfrm>
            <a:off x="4534560" y="5700600"/>
            <a:ext cx="68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038"/>
          <p:cNvSpPr/>
          <p:nvPr/>
        </p:nvSpPr>
        <p:spPr>
          <a:xfrm>
            <a:off x="918720" y="6005520"/>
            <a:ext cx="73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La Empresa sólo puede influir en el FAF, el FAFF es exóge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79560" y="304920"/>
            <a:ext cx="5384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295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n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Detalle de rendimiento de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El 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(ROEB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analizar la cuenta de resultados una vez ordenada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29"/>
          <p:cNvSpPr/>
          <p:nvPr/>
        </p:nvSpPr>
        <p:spPr>
          <a:xfrm>
            <a:off x="1959840" y="3567240"/>
            <a:ext cx="150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1030"/>
          <p:cNvSpPr/>
          <p:nvPr/>
        </p:nvSpPr>
        <p:spPr>
          <a:xfrm>
            <a:off x="1963800" y="4024440"/>
            <a:ext cx="153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31"/>
          <p:cNvSpPr/>
          <p:nvPr/>
        </p:nvSpPr>
        <p:spPr>
          <a:xfrm>
            <a:off x="4541400" y="3809880"/>
            <a:ext cx="4185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Resultado 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Operacional (BAIT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033"/>
          <p:cNvSpPr/>
          <p:nvPr/>
        </p:nvSpPr>
        <p:spPr>
          <a:xfrm>
            <a:off x="1717560" y="5014800"/>
            <a:ext cx="1594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034"/>
          <p:cNvSpPr/>
          <p:nvPr/>
        </p:nvSpPr>
        <p:spPr>
          <a:xfrm>
            <a:off x="1407960" y="5396040"/>
            <a:ext cx="209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035"/>
          <p:cNvSpPr/>
          <p:nvPr/>
        </p:nvSpPr>
        <p:spPr>
          <a:xfrm>
            <a:off x="3733920" y="5243400"/>
            <a:ext cx="502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&gt; Ingresos o Gastos  No Operacion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 Atí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del activo = Return on Assets (RO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44560" y="3054240"/>
            <a:ext cx="5931000" cy="15112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097280" y="3567240"/>
            <a:ext cx="85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205720" y="3567240"/>
            <a:ext cx="31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2825640" y="38098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3294720" y="3262320"/>
            <a:ext cx="194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 + ATI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567160" y="39481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431000" y="5091120"/>
            <a:ext cx="491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DENOMINADOR “NETO” SE REFIERE 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TO DE DEPRECIA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95280" y="3538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Específico (o técnico)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028"/>
          <p:cNvSpPr/>
          <p:nvPr/>
        </p:nvSpPr>
        <p:spPr>
          <a:xfrm>
            <a:off x="844560" y="2673360"/>
            <a:ext cx="5931000" cy="1587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029"/>
          <p:cNvSpPr/>
          <p:nvPr/>
        </p:nvSpPr>
        <p:spPr>
          <a:xfrm>
            <a:off x="905040" y="3110040"/>
            <a:ext cx="108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1030"/>
          <p:cNvSpPr/>
          <p:nvPr/>
        </p:nvSpPr>
        <p:spPr>
          <a:xfrm>
            <a:off x="1957320" y="3110040"/>
            <a:ext cx="35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Line 1031"/>
          <p:cNvSpPr/>
          <p:nvPr/>
        </p:nvSpPr>
        <p:spPr>
          <a:xfrm>
            <a:off x="2825640" y="33526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1032"/>
          <p:cNvSpPr/>
          <p:nvPr/>
        </p:nvSpPr>
        <p:spPr>
          <a:xfrm>
            <a:off x="3926160" y="288144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1033"/>
          <p:cNvSpPr/>
          <p:nvPr/>
        </p:nvSpPr>
        <p:spPr>
          <a:xfrm>
            <a:off x="2238480" y="34909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UNCION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1034"/>
          <p:cNvSpPr/>
          <p:nvPr/>
        </p:nvSpPr>
        <p:spPr>
          <a:xfrm>
            <a:off x="1050120" y="4495680"/>
            <a:ext cx="2514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AF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Ac.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1035"/>
          <p:cNvSpPr/>
          <p:nvPr/>
        </p:nvSpPr>
        <p:spPr>
          <a:xfrm>
            <a:off x="844560" y="4349880"/>
            <a:ext cx="31114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Line 1036"/>
          <p:cNvSpPr/>
          <p:nvPr/>
        </p:nvSpPr>
        <p:spPr>
          <a:xfrm>
            <a:off x="4648320" y="3968640"/>
            <a:ext cx="0" cy="1359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Line 1037"/>
          <p:cNvSpPr/>
          <p:nvPr/>
        </p:nvSpPr>
        <p:spPr>
          <a:xfrm>
            <a:off x="3968640" y="5334120"/>
            <a:ext cx="6732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395360" y="2530440"/>
            <a:ext cx="678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A  =  --------------  =  --------- * ---------------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112840" y="222552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27800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703760" y="214956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658040" y="291132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706800" y="214956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631656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599480" y="4100400"/>
            <a:ext cx="625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= MARGEN DE VENTAS (%) * ROTACION DEL 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1312920" y="4710240"/>
            <a:ext cx="5908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l ROA es el rendimiento que debería cubrir el co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medio  ponderado  del  capital (WACC), es decir,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bería cubrir el costo del capital propio y el costo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deuda.                                                           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9960" indent="-309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ROA que calculemos son buenos o malos en término relativos (comparados con otros del sect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analizar las diferencias intersectoriales en la  descomposición del rendimiento (márgen y rot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1: Venta de antiguedades de colección; Alto Márgen y Baja Rot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2: Bombas de Bencina; Bajo Márgen y Altísima R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los fondos propios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tdad. F.P. = Return on Equity (RO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usa BPT porque es lo que realmente interesa a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De que depende la rentabi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ende del mercado específico y sus riesgos, a mayor riesgo se exige mayor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NOTA: ROA y ROE son aproximaciones del corto plazo a los retornos del CAPM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07T16:02:58Z</dcterms:modified>
  <cp:revision>382</cp:revision>
  <dc:subject/>
  <dc:title>Análisis Financiero</dc:title>
</cp:coreProperties>
</file>