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EAC76-2918-4E47-8476-5494F072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DD247-AD8E-4FEE-9659-B85C06BF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A6C08-E7FD-4CC9-A8B7-28B7F64A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EE98C-0C04-4821-B53B-9FF4C024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DE22A-DFDB-4DE8-B42E-9F261252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67173-9618-4A04-93A2-0187F1A8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B0FEF-ADCC-448F-A62D-C8A7D93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E1ECF-07FE-4B93-B212-93E68B82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9DE65-5CE5-438F-BB02-2EF7C1D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6C0FE-F508-4C59-BCD7-127D4A62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5E3F4-E237-4277-9633-33CE3C56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09890-34BA-4BFD-A0A8-82760144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4871-FBB2-4195-BC8E-0AB4707228DD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 o no operacion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 Utilidad o Beneficios Antes de Tasas (o impuestos) =&gt; BAT (Beneficio o Utilidad antes de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tilidad del ejercicio o Beneficio Post Tasas (o impuestos) =&gt;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752480" y="4221000"/>
            <a:ext cx="5840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828800" y="56386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n centro portador de costos es una unidad productiva de la empresa capaz de aglutinar cos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I&amp;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IT (Beneficio o Utilidad antes de Intereses y Tasas) En inglés EBI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981080" y="6021360"/>
            <a:ext cx="3478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0880" y="401796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sando este sistema no se sabe cual fué el monto de un cierto item de costo (personal, energia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iterio útil para asignar responsabilidad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í se requiere mas información, se podría abrir la clasificación natural en cualquiera de los centros de costos. (el problema que muchos de ellos serían cer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 sistema trata de reflejar los costos que genera la producción margi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Variable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Fijo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Imputable :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s para producir el producto y directamente relacionado con el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No Imputable :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 para producir el producto pero que no está relacionado directamente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 Variable Fabricación(*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gen Bruto de Fabric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sagregar en Mano de Obra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terias Primas, Energía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057400" y="4648320"/>
            <a:ext cx="3097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Bruto de Fabrica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 Variable Comercial (comisiones, transporte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Margen Bruto Comercial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de Contrib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No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BAIT (Resultado operacional o de explotación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995480" y="32004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905120" y="518148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995480" y="39625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995480" y="46483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05120" y="61722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I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Resultado de Explot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Costos e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antes de Impuest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 Sobre Benefic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BP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del ejeric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828800" y="4495680"/>
            <a:ext cx="48499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905120" y="5445000"/>
            <a:ext cx="4773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077560" y="6032520"/>
            <a:ext cx="4998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(*) Ingresos y Costos no operacio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8560" y="2712960"/>
            <a:ext cx="9011880" cy="4203720"/>
            <a:chOff x="88560" y="2712960"/>
            <a:chExt cx="9011880" cy="4203720"/>
          </a:xfrm>
        </p:grpSpPr>
        <p:sp>
          <p:nvSpPr>
            <p:cNvPr id="139" name="Rectangle 5"/>
            <p:cNvSpPr/>
            <p:nvPr/>
          </p:nvSpPr>
          <p:spPr>
            <a:xfrm>
              <a:off x="107280" y="2712960"/>
              <a:ext cx="8993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A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B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C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Tot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Ventas Neta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Vari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Margen de Contribución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No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esultado operacional o BAI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/- B/C Financieros y Atípic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antes de Impuestos o BA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Impuest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del ejercicio o BP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W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88560" y="3960720"/>
              <a:ext cx="8586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163080" y="479916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63080" y="563724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63080" y="647532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, sus ventajas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el desempeño de cada línea de produ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ilita el análisis global de gest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tomar decisiones correctivas o el cierre de productos no rent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para los distintos ámbitos sobre los cuales se ejerce control (producción, comercialización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la flexibilidad de la empresa ante variaciones de parámetros exógen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le asigna un 100 % al total de las ventas ne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da item de costo se expresa como porcentaje del valor de las ven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analiza, para un período, la incidencia de cada item de costo y su impacto en márgene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orte de cada producto al resulta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alancamiento Opera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s Fijos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izar las políticas a aplicar, por ejemp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el costo de mano de obra directa es alto =&gt; aumentar la eficiencia vía capacit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os costos de materias primas son relevantes  =&gt; buscar materias primas alternativas o mejorar la productividad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líneas de productos poco rentable =&gt; analizar si es problema de gestión o el producto está vie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33440" y="0"/>
            <a:ext cx="6477120" cy="1143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Arial Black"/>
              </a:rPr>
              <a:t>Caso Bestpharma S.A. Laboratorio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comparan, en base a los porcentajes,  dos estados de resultados de períodos distin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terminan y analizan las principales diferencias entre ell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fundamentan las variaciones, intentando buscar las causas y no solo describiendo los efe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lantea una estrategia para superar los errores y potenciar las ventaja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lmente, se debieran analizar las políticas a aplicar, por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l alza en costos directos de mano de obra ha sido importante =&gt; ¿Ha habido una caída en la eficiencia de la mano de obra o es que los salarios han tenido un alza proporcionalmente superior a los demás insumos?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en las ventas de un producto =&gt; ¿ Ha caído el precio o las unidades vendidas?, Si fueron la unidades vendida, ¿Nuestro precio es alto o el producto está en declive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os conceptos derivados del Estado de Resulta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palancamiento operacional y riesg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unto de quiebre (o punto muerto o breakeven point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*Q - Cv*Q - CF = 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CF / ( P - Cv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unto de quiebre en función del marg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- %Ventas = 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*(1-% de CV sobre ventas)=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= CF / Margen de contribu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 / Análisis Dinámic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finición Tradicional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ferencia entre Ingresos y Gast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o este enfoque hay tres ópticas distinta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Pública : Base de Imposi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La visión Empresarial : Base de Desarrollo Autofinanci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del Accionista de Bolsa: Base del Dividendo, indicador para comparación de prec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tres sistemas a estudiar difieren en las clasificaciones que se le dan a los Costos de Explotació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denaremos los costos según su naturalez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terias Prim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ranspor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no de Obr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sumos de Energ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53520" y="478008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de Expl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peracional = Beneficio Antes de Impuestos y Tasas (BAIT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843200" y="40384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913040" y="594360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960" y="3408480"/>
            <a:ext cx="23425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DC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337560" y="3027240"/>
            <a:ext cx="3839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 A                  Empresa B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6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8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2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1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21480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88168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580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148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9040" y="-360"/>
            <a:ext cx="416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teste (Y/N) si preferiría la empresa B considerando que su utilidad después de costos financieros es mayor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y que fijarse en el BAIT, ya que este es el motor de la empres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política financiera se puede cambiar, los costos financieros son función de est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Discernir entre Problemas Económicos y Problemas Financieros. BAIT v/s Costos Financier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uidado con los criterios de valoración de los costos de explotación. (Ejemplo: las dos empresas están usando distintos criterios de depreci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4T16:11:38Z</dcterms:modified>
  <cp:revision>372</cp:revision>
  <dc:subject/>
  <dc:title>Análisis Financiero</dc:title>
</cp:coreProperties>
</file>