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C3FD1-F936-458E-9E1D-E8D49607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E97F5-743D-446F-BCD7-4C6A2B06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2B54B-9ED3-4657-B1E5-C5236522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99E33-555A-4146-8BAD-352D7D65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5E014-C05F-4573-BA87-2EAA6623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3D1B6-4966-41DA-BABB-2244572F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17DAD-8F06-4FB2-9D72-2AA551AC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CDF1E-D6E7-4EEB-9B5C-4EB65993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E1F31-9DE9-49D7-B74D-B0C48769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530C6-4919-40B6-A0FD-8D1DF0CF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DC392-90F1-4790-B06D-AA516E0B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79E9B-57CF-40EF-86AB-D0AEF236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896A-9EF3-4060-863D-80AACF4BE246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eneficios Después de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Ingresos o Costos Atípicos o no operacion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ultado o Utilidad o Beneficios Antes de Tasas (o impuestos) =&gt; BAT (Beneficio o Utilidad antes de Impue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Impue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tilidad del ejercicio o Beneficio Post Tasas (o impuestos) =&gt;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1752480" y="4221000"/>
            <a:ext cx="584064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1828800" y="563868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n centro portador de costos es una unidad productiva de la empresa capaz de aglutinar cos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I&amp;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IT (Beneficio o Utilidad antes de Intereses y Tasas) En inglés EBI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1981080" y="6021360"/>
            <a:ext cx="3478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00880" y="4017960"/>
            <a:ext cx="1426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sto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4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sando este sistema no se sabe cual fué el monto de un cierto item de costo (personal, energia, etc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iterio útil para asignar responsabilidad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í se requiere mas información, se podría abrir la clasificación natural en cualquiera de los centros de costos. (el problema que muchos de ellos serían cer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41360" indent="-441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a sistema trata de reflejar los costos que genera la producción marginal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Costo Variable :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aría con el nivel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Costo Fijo :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varía con el nivel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91920" indent="-363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Costo Imputable :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necesarios para producir el producto y directamente relacionado con el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91920" indent="-363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Costo No Imputable :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necesario para producir el producto pero que no está relacionado directamente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212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 Ne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 Variable Fabricación(*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rgen Bruto de Fabric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*)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desagregar en Mano de Obra,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terias Primas, Energía,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2057400" y="4648320"/>
            <a:ext cx="3097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+ Margen Bruto de Fabrica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 Variable Comercial (comisiones, transporte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4" marL="1884240" indent="0">
              <a:spcBef>
                <a:spcPts val="587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Margen Bruto Comercial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s Fijos Imputables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4" marL="1884240" indent="0">
              <a:spcBef>
                <a:spcPts val="587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+ Margen de Contribu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s Fijos No Imputables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BAIT (Resultado operacional o de explotación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1995480" y="320040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1905120" y="518148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1995480" y="396252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1995480" y="464832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05120" y="617220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 BAI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Resultado de Explota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Costos e Ingres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Ingresos o Costos Atípicos(*)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 BA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Utilidad antes de Impuest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Impuestos Sobre Benefic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BP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Utilidad del ejerici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1828800" y="4495680"/>
            <a:ext cx="48499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1905120" y="5445000"/>
            <a:ext cx="4773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077560" y="6032520"/>
            <a:ext cx="499896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(*) Ingresos y Costos no operacional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88560" y="2712960"/>
            <a:ext cx="9011880" cy="4203720"/>
            <a:chOff x="88560" y="2712960"/>
            <a:chExt cx="9011880" cy="4203720"/>
          </a:xfrm>
        </p:grpSpPr>
        <p:sp>
          <p:nvSpPr>
            <p:cNvPr id="139" name="Rectangle 5"/>
            <p:cNvSpPr/>
            <p:nvPr/>
          </p:nvSpPr>
          <p:spPr>
            <a:xfrm>
              <a:off x="107280" y="2712960"/>
              <a:ext cx="8993160" cy="42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A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B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C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Tot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Ventas Neta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Vari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Fijos Imput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Margen de Contribución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Fijos No Imput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Z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esultado operacional o BAI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K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/- B/C Financieros y Atípico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tilidad antes de Impuestos o BA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Impuesto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I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tilidad del ejercicio o BP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W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88560" y="3960720"/>
              <a:ext cx="8586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163080" y="479916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163080" y="563724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163080" y="647532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41360" indent="-441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stema Marginalista, sus ventajas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conocer el desempeño de cada línea de produc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Facilita el análisis global de gest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tomar decisiones correctivas o el cierre de productos no renta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para los distintos ámbitos sobre los cuales se ejerce control (producción, comercialización, etc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conocer la flexibilidad de la empresa ante variaciones de parámetros exógen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280" y="1371600"/>
            <a:ext cx="8604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le asigna un 100 % al total de las ventas net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da item de costo se expresa como porcentaje del valor de las vent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analiza, para un período, la incidencia de cada item de costo y su impacto en márgenes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Financier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porte de cada producto al resultad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palancamiento Opera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s Fijos, 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2800" y="-360"/>
            <a:ext cx="5918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alizar las políticas a aplicar, por ejempl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el costo de mano de obra directa es alto =&gt; aumentar la eficiencia vía capacita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os costos de materias primas son relevantes  =&gt; buscar materias primas alternativas o mejorar la productividad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líneas de productos poco rentable =&gt; analizar si es problema de gestión o el producto está viej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333440" y="0"/>
            <a:ext cx="6477120" cy="114300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d4d4d"/>
                </a:solidFill>
                <a:latin typeface="Arial Black"/>
              </a:rPr>
              <a:t>Caso Bestpharma S.A. Laboratorio</a:t>
            </a:r>
            <a:endParaRPr b="0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Diná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comparan, en base a los porcentajes,  dos estados de resultados de períodos distin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determinan y analizan las principales diferencias entre ell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fundamentan las variaciones, intentando buscar las causas y no solo describiendo los efec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lantea una estrategia para superar los errores y potenciar las ventajas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Diná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lmente, se debieran analizar las políticas a aplicar, por 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l alza en costos directos de mano de obra ha sido importante =&gt; ¿Ha habido una caída en la eficiencia de la mano de obra o es que los salarios han tenido un alza proporcionalmente superior a los demás insumos?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en las ventas de un producto =&gt; ¿ Ha caído el precio o las unidades vendidas?, Si fueron la unidades vendida, ¿Nuestro precio es alto o el producto está en declive?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os conceptos derivados del Estado de Resultad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palancamiento operacional y riesgo operacion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unto de quiebre (o punto muerto o breakeven point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*Q - Cv*Q - CF = 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 = CF / ( P - Cv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unto de quiebre en función del marg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- %Ventas = C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*(1-% de CV sobre ventas)=C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= CF / Margen de contribu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concepto de Result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o 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 / Análisis Dinámic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concepto de Result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finición Tradicional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ferencia entre Ingresos y Gast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jo este enfoque hay tres ópticas distinta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visión Pública : Base de Imposi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La visión Empresarial : Base de Desarrollo Autofinanciad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visión del Accionista de Bolsa: Base del Dividendo, indicador para comparación de preci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tres sistemas a estudiar difieren en las clasificaciones que se le dan a los Costos de Explotación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denaremos los costos según su naturalez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aterias Prim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Transport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ano de Obr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sumos de Energí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53520" y="4780080"/>
            <a:ext cx="1426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sto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s de Explo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ultado Operacional = Beneficio Antes de Impuestos y Tasas (BAIT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Ingres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eneficios Después de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4"/>
          <p:cNvSpPr/>
          <p:nvPr/>
        </p:nvSpPr>
        <p:spPr>
          <a:xfrm>
            <a:off x="1843200" y="403848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913040" y="594360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empresa me conviene elegir 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16960" y="3408480"/>
            <a:ext cx="234252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+ Ventas Ne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ostos 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os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DC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337560" y="3027240"/>
            <a:ext cx="38390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 A                  Empresa B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6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8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2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18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214800" y="434340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5881680" y="434340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958000" y="541008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214800" y="541008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89040" y="-360"/>
            <a:ext cx="416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JO: TES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teste (Y/N) si preferiría la empresa B considerando que su utilidad después de costos financieros es mayor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empresa me conviene elegir 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Hay que fijarse en el BAIT, ya que este es el motor de la empres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 política financiera se puede cambiar, los costos financieros son función de est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Discernir entre Problemas Económicos y Problemas Financieros. BAIT v/s Costos Financier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uidado con los criterios de valoración de los costos de explotación. (Ejemplo: las dos empresas están usando distintos criterios de depreciación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4-04T16:11:38Z</dcterms:modified>
  <cp:revision>372</cp:revision>
  <dc:subject/>
  <dc:title>Análisis Financiero</dc:title>
</cp:coreProperties>
</file>