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80DE1-F816-44C2-B1E6-8F03EABE5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7AC7C-9BA7-4624-A9F3-0A51C1A5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CD1E9-F0CD-47A4-BAEF-676DF5D0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7A666-30E0-4446-ACFF-BE2FBF0D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EC71E-E415-4801-B187-F9C6CE21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91A3F-F62C-44C4-AE2B-67FDC26E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D7BCE-B4EE-4751-9008-D705A5BD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BB54F-D435-484B-B99F-AE0F3A8F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CF9D2-3C67-4256-8F12-CE888AC8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932B2-D741-4196-B49E-64713C03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2D98D-9F3C-4E58-A2FB-7483C961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84DDF-B2EA-43F6-AA45-BF92FAEA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E26A-D974-4B37-A55F-EFC35D71912A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gún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eneficios Después de Cost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/- Ingresos o Costos Atípicos o no operacion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sultado o Utilidad o Beneficios Antes de Tasas (o impuestos) =&gt; BAT (Beneficio o Utilidad antes de Impues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Impues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Utilidad del ejercicio o Beneficio Post Tasas (o impuestos) =&gt;BPT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1752480" y="4221000"/>
            <a:ext cx="584064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1828800" y="5638680"/>
            <a:ext cx="5840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403920" indent="-4039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0480" indent="-3751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entro portador de cos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Un centro portador de costos es una unidad productiva de la empresa capaz de aglutinar cos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 Vent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Departamento de Produc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Departamento de Vent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Departamento de I&amp;D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Etc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IT (Beneficio o Utilidad antes de Intereses y Tasas) En inglés EBIT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1981080" y="6021360"/>
            <a:ext cx="34783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200880" y="4017960"/>
            <a:ext cx="14266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ostos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plo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094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entro portador de cos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Usando este sistema no se sabe cual fué el monto de un cierto item de costo (personal, energia, etc.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riterio útil para asignar responsabilidad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í se requiere mas información, se podría abrir la clasificación natural en cualquiera de los centros de costos. (el problema que muchos de ellos serían cer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41360" indent="-4413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a sistema trata de reflejar los costos que genera la producción marginal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 algn="just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Costo Variable :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aría con el nivel de produc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 algn="just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Costo Fijo :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 varía con el nivel de produc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91920" indent="-363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Costo Imputable :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sto necesarios para producir el producto y directamente relacionado con el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91920" indent="-363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Costo No Imputable :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sto necesario para producir el producto pero que no está relacionado directamente.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212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19468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 Ventas Net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Costo Variable Fabricación(*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9468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argen Bruto de Fabric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*)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uede desagregar en Mano de Obra,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aterias Primas, Energía, etc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2057400" y="4648320"/>
            <a:ext cx="3097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+ Margen Bruto de Fabricación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- Costo Variable Comercial (comisiones, transporte)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4" marL="1884240" indent="0">
              <a:spcBef>
                <a:spcPts val="587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Margen Bruto Comercial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- Costos Fijos Imputables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4" marL="1884240" indent="0">
              <a:spcBef>
                <a:spcPts val="587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+ Margen de Contribución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- Costos Fijos No Imputables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BAIT (Resultado operacional o de explotación)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Line 4"/>
          <p:cNvSpPr/>
          <p:nvPr/>
        </p:nvSpPr>
        <p:spPr>
          <a:xfrm>
            <a:off x="1995480" y="320040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1905120" y="518148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1995480" y="396252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1995480" y="464832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1905120" y="617220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</a:t>
            </a: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 BAIT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Resultado de Explotación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/- Costos e Ingres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/- Ingresos o Costos Atípicos(*)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9468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</a:t>
            </a: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 BAT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Utilidad antes de Impuesto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Impuestos Sobre Benefici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BPT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Utilidad del ejerici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Line 4"/>
          <p:cNvSpPr/>
          <p:nvPr/>
        </p:nvSpPr>
        <p:spPr>
          <a:xfrm>
            <a:off x="1828800" y="4495680"/>
            <a:ext cx="48499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Line 5"/>
          <p:cNvSpPr/>
          <p:nvPr/>
        </p:nvSpPr>
        <p:spPr>
          <a:xfrm>
            <a:off x="1905120" y="5445000"/>
            <a:ext cx="4773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2077560" y="6032520"/>
            <a:ext cx="499896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(*) Ingresos y Costos no operacionale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88560" y="2712960"/>
            <a:ext cx="9011880" cy="4203720"/>
            <a:chOff x="88560" y="2712960"/>
            <a:chExt cx="9011880" cy="4203720"/>
          </a:xfrm>
        </p:grpSpPr>
        <p:sp>
          <p:nvSpPr>
            <p:cNvPr id="139" name="Rectangle 5"/>
            <p:cNvSpPr/>
            <p:nvPr/>
          </p:nvSpPr>
          <p:spPr>
            <a:xfrm>
              <a:off x="107280" y="2712960"/>
              <a:ext cx="8993160" cy="42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A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B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C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Total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+Ventas Neta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-Costos Variable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-Costos Fijos Imputable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+Margen de Contribución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-Costos Fijos No Imputable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Z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esultado operacional o BAIT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K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+/- B/C Financieros y Atípico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U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Utilidad antes de Impuestos o BAT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-Impuesto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I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Utilidad del ejercicio o BPT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W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Line 6"/>
            <p:cNvSpPr/>
            <p:nvPr/>
          </p:nvSpPr>
          <p:spPr>
            <a:xfrm>
              <a:off x="88560" y="3960720"/>
              <a:ext cx="85860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Line 7"/>
            <p:cNvSpPr/>
            <p:nvPr/>
          </p:nvSpPr>
          <p:spPr>
            <a:xfrm>
              <a:off x="163080" y="4799160"/>
              <a:ext cx="8585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163080" y="5637240"/>
              <a:ext cx="8585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163080" y="6475320"/>
              <a:ext cx="8585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41360" indent="-4413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stema Marginalista, sus ventajas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ermite conocer el desempeño de cada línea de produc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Facilita el análisis global de gest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ermite tomar decisiones correctivas o el cierre de productos no rentab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para los distintos ámbitos sobre los cuales se ejerce control (producción, comercialización, etc.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ermite conocer la flexibilidad de la empresa ante variaciones de parámetros exógen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280" y="1371600"/>
            <a:ext cx="8604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Estát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le asigna un 100 % al total de las ventas net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da item de costo se expresa como porcentaje del valor de las vent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analiza, para un período, la incidencia de cada item de costo y su impacto en márgenes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41160" indent="-3524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sto Financier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41160" indent="-3524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porte de cada producto al resultado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41160" indent="-3524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palancamiento Opera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41160" indent="-3524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stos Fijos, etc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2800" y="-360"/>
            <a:ext cx="5918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Estát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alizar las políticas a aplicar, por ejempl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el costo de mano de obra directa es alto =&gt; aumentar la eficiencia vía capacita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los costos de materias primas son relevantes  =&gt; buscar materias primas alternativas o mejorar la productividad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hay líneas de productos poco rentable =&gt; analizar si es problema de gestión o el producto está viej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1333440" y="0"/>
            <a:ext cx="6477120" cy="114300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d4d4d"/>
                </a:solidFill>
                <a:latin typeface="Arial Black"/>
              </a:rPr>
              <a:t>Caso Bestpharma S.A. Laboratorio</a:t>
            </a:r>
            <a:endParaRPr b="0" lang="en-US" sz="40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52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Dinám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comparan, en base a los porcentajes,  dos estados de resultados de períodos distin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determinan y analizan las principales diferencias entre ell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fundamentan las variaciones, intentando buscar las causas y no solo describiendo los efec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lantea una estrategia para superar los errores y potenciar las ventajas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Dinám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 algn="just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inalmente, se debieran analizar las políticas a aplicar, por ejemplo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i el alza en costos directos de mano de obra ha sido importante =&gt; ¿Ha habido una caída en la eficiencia de la mano de obra o es que los salarios han tenido un alza proporcionalmente superior a los demás insumos?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aen las ventas de un producto =&gt; ¿ Ha caído el precio o las unidades vendidas?, Si fueron la unidades vendida, ¿Nuestro precio es alto o el producto está en declive?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os conceptos derivados del Estado de Resultado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palancamiento operacional y riesgo operacional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unto de quiebre (o punto muerto o breakeven point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*Q - Cv*Q - CF = 0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Q = CF / ( P - Cv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unto de quiebre en función del marge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- %Ventas = C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*(1-% de CV sobre ventas)=C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= CF / Margen de contribu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El concepto de Result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gún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o centro portador de cos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Estático / Análisis Dinámic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El concepto de Result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finición Tradicional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iferencia entre Ingresos y Gasto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ajo este enfoque hay tres ópticas distinta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visión Pública : Base de Imposi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La visión Empresarial : Base de Desarrollo Autofinanciad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visión del Accionista de Bolsa: Base del Dividendo, indicador para comparación de preci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tres sistemas a estudiar difieren en las clasificaciones que se le dan a los Costos de Explotación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gún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rdenaremos los costos según su naturaleza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Materias Prima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Transport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Mano de Obr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nsumos de Energí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tc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53520" y="4780080"/>
            <a:ext cx="14266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ostos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plo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gún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 Vent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Costos de Explot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9468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sultado Operacional = Beneficio Antes de Impuestos y Tasas (BAIT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 Ingres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Cost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eneficios Después de Cost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Line 4"/>
          <p:cNvSpPr/>
          <p:nvPr/>
        </p:nvSpPr>
        <p:spPr>
          <a:xfrm>
            <a:off x="1843200" y="4038480"/>
            <a:ext cx="5840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Line 5"/>
          <p:cNvSpPr/>
          <p:nvPr/>
        </p:nvSpPr>
        <p:spPr>
          <a:xfrm>
            <a:off x="1913040" y="5943600"/>
            <a:ext cx="5840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Que empresa me conviene elegir ?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516960" y="3408480"/>
            <a:ext cx="234252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+ Ventas Ne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ostos Explo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ost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DCF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3337560" y="3027240"/>
            <a:ext cx="38390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mpresa A                  Empresa B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0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6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80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4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20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 2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18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3214800" y="4343400"/>
            <a:ext cx="811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5881680" y="4343400"/>
            <a:ext cx="811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5958000" y="5410080"/>
            <a:ext cx="811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3214800" y="5410080"/>
            <a:ext cx="811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89040" y="-360"/>
            <a:ext cx="416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JO: TES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teste (Y/N) si preferiría la empresa B considerando que su utilidad después de costos financieros es mayor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Que empresa me conviene elegir ?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Hay que fijarse en el BAIT, ya que este es el motor de la empres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 política financiera se puede cambiar, los costos financieros son función de est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Discernir entre Problemas Económicos y Problemas Financieros. BAIT v/s Costos Financier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uidado con los criterios de valoración de los costos de explotación. (Ejemplo: las dos empresas están usando distintos criterios de depreciación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Claudio Jiménez</cp:lastModifiedBy>
  <cp:lastPrinted>2002-11-13T13:47:55Z</cp:lastPrinted>
  <dcterms:modified xsi:type="dcterms:W3CDTF">2011-04-04T16:11:38Z</dcterms:modified>
  <cp:revision>372</cp:revision>
  <dc:subject/>
  <dc:title>Análisis Financiero</dc:title>
</cp:coreProperties>
</file>