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716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70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662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716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70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3DEFEB-5F9F-4375-8C18-1FBE3B8B8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84E526-5FB2-4997-A76E-2A89177F0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A8579E-50B2-4C7B-8B30-711F571DA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6D26CA-D727-4E12-83CF-9B4432785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FB995D-807F-4969-8532-6F093F36D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39280" y="368280"/>
            <a:ext cx="8001000" cy="284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561283-2D8F-469D-A713-37A3D670F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3514DD-9B4E-4A37-827D-27A762235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A5B1C9-357D-4DB7-9193-07DEDC5D6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9F9920-EAB5-41E5-8F98-7AE03F271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DA162C-A2CC-4B65-9B17-80BFCCD83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C3A665-EA6E-4BE8-B0AD-8F6A62B96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16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770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662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16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770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45198E-D7D6-45C7-87C7-64C0994A1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9280" y="368280"/>
            <a:ext cx="8001000" cy="284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3300"/>
                </a:solidFill>
                <a:latin typeface="Verdana"/>
              </a:rPr>
              <a:t>Click to edit the title text format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" name="Line 5"/>
          <p:cNvSpPr/>
          <p:nvPr/>
        </p:nvSpPr>
        <p:spPr>
          <a:xfrm>
            <a:off x="609480" y="6524640"/>
            <a:ext cx="7925040" cy="0"/>
          </a:xfrm>
          <a:prstGeom prst="line">
            <a:avLst/>
          </a:prstGeom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11280" y="6524280"/>
            <a:ext cx="792144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s-ES" sz="12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969696"/>
                </a:solidFill>
                <a:latin typeface="Times New Roman"/>
              </a:rPr>
              <a:t>IN42A – EVALUACIÓN DE PROYEC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Line 13"/>
          <p:cNvSpPr/>
          <p:nvPr/>
        </p:nvSpPr>
        <p:spPr>
          <a:xfrm>
            <a:off x="755640" y="1052640"/>
            <a:ext cx="7704000" cy="0"/>
          </a:xfrm>
          <a:prstGeom prst="line">
            <a:avLst/>
          </a:prstGeom>
          <a:ln w="889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1" descr="logo_new"/>
          <p:cNvPicPr/>
          <p:nvPr/>
        </p:nvPicPr>
        <p:blipFill>
          <a:blip r:embed="rId2"/>
          <a:stretch/>
        </p:blipFill>
        <p:spPr>
          <a:xfrm>
            <a:off x="2771640" y="189000"/>
            <a:ext cx="3745080" cy="857160"/>
          </a:xfrm>
          <a:prstGeom prst="rect">
            <a:avLst/>
          </a:prstGeom>
          <a:ln w="0">
            <a:noFill/>
          </a:ln>
        </p:spPr>
      </p:pic>
      <p:sp>
        <p:nvSpPr>
          <p:cNvPr id="42" name="Line 12"/>
          <p:cNvSpPr/>
          <p:nvPr/>
        </p:nvSpPr>
        <p:spPr>
          <a:xfrm>
            <a:off x="755640" y="3645000"/>
            <a:ext cx="7704000" cy="0"/>
          </a:xfrm>
          <a:prstGeom prst="line">
            <a:avLst/>
          </a:prstGeom>
          <a:ln w="889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3300"/>
                </a:solidFill>
                <a:latin typeface="Verdana"/>
              </a:rPr>
              <a:t>Click to edit the title text format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7B67A-772B-46E8-B36E-926A19DC9381}" type="slidenum">
              <a:rPr b="0" lang="es-ES" sz="12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99640" y="2204640"/>
            <a:ext cx="7488360" cy="1366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cc3300"/>
                </a:solidFill>
                <a:latin typeface="Verdana"/>
              </a:rPr>
              <a:t>IN4301</a:t>
            </a:r>
            <a:br>
              <a:rPr sz="3600"/>
            </a:br>
            <a:r>
              <a:rPr b="1" i="1" lang="es-ES_tradnl" sz="3200" spc="-1" strike="noStrike">
                <a:solidFill>
                  <a:srgbClr val="cc3300"/>
                </a:solidFill>
                <a:latin typeface="Verdana"/>
              </a:rPr>
              <a:t>Análisis y Matemáticas Financieras</a:t>
            </a:r>
            <a:endParaRPr b="1" lang="en-US" sz="32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436680" indent="-43668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2. Ordenamiento de Estados de resultados 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844200" indent="-4057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Según su Naturaleza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213560" indent="-367560">
              <a:spcBef>
                <a:spcPts val="575"/>
              </a:spcBef>
              <a:buClr>
                <a:srgbClr val="cc0000"/>
              </a:buClr>
              <a:buSzPct val="70000"/>
              <a:buFont typeface="Verdana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Beneficios Después de Costos Financiero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213560" indent="-367560">
              <a:spcBef>
                <a:spcPts val="575"/>
              </a:spcBef>
              <a:buClr>
                <a:srgbClr val="cc0000"/>
              </a:buClr>
              <a:buSzPct val="70000"/>
              <a:buFont typeface="Verdana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+/- Ingresos o Costos Atípicos o no operacionale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213560" indent="-367560">
              <a:spcBef>
                <a:spcPts val="575"/>
              </a:spcBef>
              <a:buClr>
                <a:srgbClr val="cc0000"/>
              </a:buClr>
              <a:buSzPct val="70000"/>
              <a:buFont typeface="Verdana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Resultado o Utilidad o Beneficios Antes de Tasas (o impuestos) =&gt; BAT (Beneficio o Utilidad antes de Impuesto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213560" indent="-367560">
              <a:spcBef>
                <a:spcPts val="575"/>
              </a:spcBef>
              <a:buClr>
                <a:srgbClr val="cc0000"/>
              </a:buClr>
              <a:buSzPct val="70000"/>
              <a:buFont typeface="Verdana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- Impuesto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213560" indent="-367560">
              <a:spcBef>
                <a:spcPts val="575"/>
              </a:spcBef>
              <a:buClr>
                <a:srgbClr val="cc0000"/>
              </a:buClr>
              <a:buSzPct val="70000"/>
              <a:buFont typeface="Verdana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Utilidad del ejercicio o Beneficio Post Tasas (o impuestos) =&gt;BPT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1" name="Line 4"/>
          <p:cNvSpPr/>
          <p:nvPr/>
        </p:nvSpPr>
        <p:spPr>
          <a:xfrm>
            <a:off x="1752480" y="4221000"/>
            <a:ext cx="584064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2" name="Line 5"/>
          <p:cNvSpPr/>
          <p:nvPr/>
        </p:nvSpPr>
        <p:spPr>
          <a:xfrm>
            <a:off x="1828800" y="5638680"/>
            <a:ext cx="584028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1308240" y="-360"/>
            <a:ext cx="65275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DE ESTADO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DE RESULTADOS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685800" y="1341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6000"/>
          </a:bodyPr>
          <a:p>
            <a:pPr marL="403920" indent="-40392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2. Ordenamiento de Estados de resultados 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780480" indent="-3751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Centro portador de costo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122120" indent="-339840" algn="just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Un centro portador de costos es una unidad productiva de la empresa capaz de aglutinar costos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122120" indent="-339840">
              <a:spcBef>
                <a:spcPts val="575"/>
              </a:spcBef>
              <a:buClr>
                <a:srgbClr val="cc0000"/>
              </a:buClr>
              <a:buSzPct val="70000"/>
              <a:buFont typeface="Verdana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+ Venta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122120" indent="-339840">
              <a:spcBef>
                <a:spcPts val="575"/>
              </a:spcBef>
              <a:buClr>
                <a:srgbClr val="cc0000"/>
              </a:buClr>
              <a:buSzPct val="70000"/>
              <a:buFont typeface="Verdana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- Departamento de Producción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122120" indent="-339840">
              <a:spcBef>
                <a:spcPts val="575"/>
              </a:spcBef>
              <a:buClr>
                <a:srgbClr val="cc0000"/>
              </a:buClr>
              <a:buSzPct val="70000"/>
              <a:buFont typeface="Verdana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- Departamento de Venta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122120" indent="-339840">
              <a:spcBef>
                <a:spcPts val="575"/>
              </a:spcBef>
              <a:buClr>
                <a:srgbClr val="cc0000"/>
              </a:buClr>
              <a:buSzPct val="70000"/>
              <a:buFont typeface="Verdana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- Departamento de I&amp;D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122120" indent="-339840">
              <a:spcBef>
                <a:spcPts val="575"/>
              </a:spcBef>
              <a:buClr>
                <a:srgbClr val="cc0000"/>
              </a:buClr>
              <a:buSzPct val="70000"/>
              <a:buFont typeface="Verdana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- Etc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122120" indent="-339840">
              <a:spcBef>
                <a:spcPts val="575"/>
              </a:spcBef>
              <a:buClr>
                <a:srgbClr val="cc0000"/>
              </a:buClr>
              <a:buSzPct val="70000"/>
              <a:buFont typeface="Verdana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BAIT (Beneficio o Utilidad antes de Intereses y Tasas) En inglés EBIT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5" name="Line 4"/>
          <p:cNvSpPr/>
          <p:nvPr/>
        </p:nvSpPr>
        <p:spPr>
          <a:xfrm>
            <a:off x="1981080" y="6021360"/>
            <a:ext cx="347832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6" name="Rectangle 5"/>
          <p:cNvSpPr/>
          <p:nvPr/>
        </p:nvSpPr>
        <p:spPr>
          <a:xfrm>
            <a:off x="200880" y="4017960"/>
            <a:ext cx="14266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Costos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de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Explotación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1308240" y="-360"/>
            <a:ext cx="65275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DE ESTADO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DE RESULTADOS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60948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436680" indent="-43668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2. Ordenamiento de Estados de resultados 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844200" indent="-4057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Centro portador de costo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213560" indent="-367560" algn="just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Usando este sistema no se sabe cual fué el monto de un cierto item de costo (personal, energia, etc.)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213560" indent="-367560" algn="just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Criterio útil para asignar responsabilidades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213560" indent="-367560" algn="just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Sí se requiere mas información, se podría abrir la clasificación natural en cualquiera de los centros de costos. (el problema que muchos de ellos serían cero)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title"/>
          </p:nvPr>
        </p:nvSpPr>
        <p:spPr>
          <a:xfrm>
            <a:off x="1308240" y="-360"/>
            <a:ext cx="65275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DE ESTADO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DE RESULTADOS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76212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441360" indent="-44136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Sistema Marginalista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226520" indent="-371520" algn="just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sta sistema trata de reflejar los costos que genera la producción marginal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226520" indent="-371520" algn="just">
              <a:spcBef>
                <a:spcPts val="575"/>
              </a:spcBef>
              <a:buClr>
                <a:srgbClr val="cc0000"/>
              </a:buClr>
              <a:buSzPct val="70000"/>
              <a:buFont typeface="Verdana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300" spc="-1" strike="noStrike">
                <a:solidFill>
                  <a:srgbClr val="4d4d4d"/>
                </a:solidFill>
                <a:latin typeface="Verdana"/>
              </a:rPr>
              <a:t>Costo Variable : 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Varía con el nivel de producción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226520" indent="-371520" algn="just">
              <a:spcBef>
                <a:spcPts val="575"/>
              </a:spcBef>
              <a:buClr>
                <a:srgbClr val="cc0000"/>
              </a:buClr>
              <a:buSzPct val="70000"/>
              <a:buFont typeface="Verdana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300" spc="-1" strike="noStrike">
                <a:solidFill>
                  <a:srgbClr val="4d4d4d"/>
                </a:solidFill>
                <a:latin typeface="Verdana"/>
              </a:rPr>
              <a:t>Costo Fijo : 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No varía con el nivel de producción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3" marL="1591920" indent="-36396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4d4d4d"/>
                </a:solidFill>
                <a:latin typeface="Verdana"/>
              </a:rPr>
              <a:t>Costo Imputable :</a:t>
            </a: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Costo necesarios para producir el producto y directamente relacionado con el.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3" marL="1591920" indent="-36396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4d4d4d"/>
                </a:solidFill>
                <a:latin typeface="Verdana"/>
              </a:rPr>
              <a:t>Costo No Imputable : </a:t>
            </a: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Costo necesario para producir el producto pero que no está relacionado directamente. 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title"/>
          </p:nvPr>
        </p:nvSpPr>
        <p:spPr>
          <a:xfrm>
            <a:off x="1308240" y="-360"/>
            <a:ext cx="65275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DE ESTADO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DE RESULTADOS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762120" y="1341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436680" indent="-43668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2. Ordenamiento de Estados de resultados 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844200" indent="-4057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Sistema Marginalista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4" marL="1946880" indent="0">
              <a:spcBef>
                <a:spcPts val="624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2" marL="1213560" indent="-367560">
              <a:spcBef>
                <a:spcPts val="575"/>
              </a:spcBef>
              <a:buClr>
                <a:srgbClr val="cc0000"/>
              </a:buClr>
              <a:buSzPct val="70000"/>
              <a:buFont typeface="Verdana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+ Ventas Neta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213560" indent="-367560">
              <a:spcBef>
                <a:spcPts val="575"/>
              </a:spcBef>
              <a:buClr>
                <a:srgbClr val="cc0000"/>
              </a:buClr>
              <a:buSzPct val="70000"/>
              <a:buFont typeface="Verdana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- Costo Variable Fabricación(*)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4" marL="1946880" indent="0">
              <a:spcBef>
                <a:spcPts val="624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2" marL="1213560" indent="-367560">
              <a:spcBef>
                <a:spcPts val="575"/>
              </a:spcBef>
              <a:buClr>
                <a:srgbClr val="cc0000"/>
              </a:buClr>
              <a:buSzPct val="70000"/>
              <a:buFont typeface="Verdana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Margen Bruto de Fabricación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21356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213560" indent="-367560">
              <a:spcBef>
                <a:spcPts val="575"/>
              </a:spcBef>
              <a:buClr>
                <a:srgbClr val="cc0000"/>
              </a:buClr>
              <a:buSzPct val="70000"/>
              <a:buFont typeface="Verdana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(*)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Se puede desagregar en Mano de Obra, 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Materias Primas, Energía, etc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3" name="Line 4"/>
          <p:cNvSpPr/>
          <p:nvPr/>
        </p:nvSpPr>
        <p:spPr>
          <a:xfrm>
            <a:off x="2057400" y="4648320"/>
            <a:ext cx="309708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title"/>
          </p:nvPr>
        </p:nvSpPr>
        <p:spPr>
          <a:xfrm>
            <a:off x="1308240" y="-360"/>
            <a:ext cx="65275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DE ESTADO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DE RESULTADOS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76212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422640" indent="-42264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2. Ordenamiento de Estados de resultados 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816840" indent="-3924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Sistema Marginalista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174320" indent="-355680">
              <a:spcBef>
                <a:spcPts val="476"/>
              </a:spcBef>
              <a:buClr>
                <a:srgbClr val="cc0000"/>
              </a:buClr>
              <a:buSzPct val="70000"/>
              <a:buFont typeface="Verdana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4d4d4d"/>
                </a:solidFill>
                <a:latin typeface="Verdana"/>
              </a:rPr>
              <a:t>+ Margen Bruto de Fabricación</a:t>
            </a: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lvl="2" marL="1174320" indent="-355680">
              <a:spcBef>
                <a:spcPts val="476"/>
              </a:spcBef>
              <a:buClr>
                <a:srgbClr val="cc0000"/>
              </a:buClr>
              <a:buSzPct val="70000"/>
              <a:buFont typeface="Verdana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4d4d4d"/>
                </a:solidFill>
                <a:latin typeface="Verdana"/>
              </a:rPr>
              <a:t>- Costo Variable Comercial (comisiones, transporte)</a:t>
            </a: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lvl="4" marL="1884240" indent="0">
              <a:spcBef>
                <a:spcPts val="587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lvl="2" marL="1174320" indent="-355680">
              <a:spcBef>
                <a:spcPts val="476"/>
              </a:spcBef>
              <a:buClr>
                <a:srgbClr val="cc0000"/>
              </a:buClr>
              <a:buSzPct val="70000"/>
              <a:buFont typeface="Verdana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4d4d4d"/>
                </a:solidFill>
                <a:latin typeface="Verdana"/>
              </a:rPr>
              <a:t>Margen Bruto Comercial</a:t>
            </a: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lvl="2" marL="1174320" indent="0">
              <a:spcBef>
                <a:spcPts val="476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lvl="2" marL="1174320" indent="-355680">
              <a:spcBef>
                <a:spcPts val="476"/>
              </a:spcBef>
              <a:buClr>
                <a:srgbClr val="cc0000"/>
              </a:buClr>
              <a:buSzPct val="70000"/>
              <a:buFont typeface="Verdana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4d4d4d"/>
                </a:solidFill>
                <a:latin typeface="Verdana"/>
              </a:rPr>
              <a:t>- Costos Fijos Imputables</a:t>
            </a: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lvl="4" marL="1884240" indent="0">
              <a:spcBef>
                <a:spcPts val="587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lvl="2" marL="1174320" indent="-355680">
              <a:spcBef>
                <a:spcPts val="476"/>
              </a:spcBef>
              <a:buClr>
                <a:srgbClr val="cc0000"/>
              </a:buClr>
              <a:buSzPct val="70000"/>
              <a:buFont typeface="Verdana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4d4d4d"/>
                </a:solidFill>
                <a:latin typeface="Verdana"/>
              </a:rPr>
              <a:t>+ Margen de Contribución</a:t>
            </a: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lvl="2" marL="1174320" indent="-355680">
              <a:spcBef>
                <a:spcPts val="476"/>
              </a:spcBef>
              <a:buClr>
                <a:srgbClr val="cc0000"/>
              </a:buClr>
              <a:buSzPct val="70000"/>
              <a:buFont typeface="Verdana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4d4d4d"/>
                </a:solidFill>
                <a:latin typeface="Verdana"/>
              </a:rPr>
              <a:t>- Costos Fijos No Imputables</a:t>
            </a: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lvl="2" marL="1174320" indent="-355680">
              <a:spcBef>
                <a:spcPts val="476"/>
              </a:spcBef>
              <a:buClr>
                <a:srgbClr val="cc0000"/>
              </a:buClr>
              <a:buSzPct val="70000"/>
              <a:buFont typeface="Verdana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4d4d4d"/>
                </a:solidFill>
                <a:latin typeface="Verdana"/>
              </a:rPr>
              <a:t>BAIT (Resultado operacional o de explotación)</a:t>
            </a: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6" name="Line 4"/>
          <p:cNvSpPr/>
          <p:nvPr/>
        </p:nvSpPr>
        <p:spPr>
          <a:xfrm>
            <a:off x="1995480" y="3200400"/>
            <a:ext cx="355428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7" name="Line 5"/>
          <p:cNvSpPr/>
          <p:nvPr/>
        </p:nvSpPr>
        <p:spPr>
          <a:xfrm>
            <a:off x="1905120" y="5181480"/>
            <a:ext cx="355428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8" name="Line 6"/>
          <p:cNvSpPr/>
          <p:nvPr/>
        </p:nvSpPr>
        <p:spPr>
          <a:xfrm>
            <a:off x="1995480" y="3962520"/>
            <a:ext cx="355428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9" name="Line 7"/>
          <p:cNvSpPr/>
          <p:nvPr/>
        </p:nvSpPr>
        <p:spPr>
          <a:xfrm>
            <a:off x="1995480" y="4648320"/>
            <a:ext cx="355428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30" name="Line 8"/>
          <p:cNvSpPr/>
          <p:nvPr/>
        </p:nvSpPr>
        <p:spPr>
          <a:xfrm>
            <a:off x="1905120" y="6172200"/>
            <a:ext cx="355428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1308240" y="-360"/>
            <a:ext cx="65275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DE ESTADO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DE RESULTADOS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60948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436680" indent="-43668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2. Ordenamiento de Estados de resultados 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844200" indent="-4057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Sistema Marginalista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213560" indent="-367560">
              <a:spcBef>
                <a:spcPts val="575"/>
              </a:spcBef>
              <a:buClr>
                <a:srgbClr val="cc0000"/>
              </a:buClr>
              <a:buSzPct val="70000"/>
              <a:buFont typeface="Verdana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+</a:t>
            </a:r>
            <a:r>
              <a:rPr b="1" lang="es-ES_tradnl" sz="2300" spc="-1" strike="noStrike">
                <a:solidFill>
                  <a:srgbClr val="4d4d4d"/>
                </a:solidFill>
                <a:latin typeface="Verdana"/>
              </a:rPr>
              <a:t> BAIT 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(Resultado de Explotación)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213560" indent="-367560">
              <a:spcBef>
                <a:spcPts val="575"/>
              </a:spcBef>
              <a:buClr>
                <a:srgbClr val="cc0000"/>
              </a:buClr>
              <a:buSzPct val="70000"/>
              <a:buFont typeface="Verdana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+/- Costos e Ingresos Financiero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213560" indent="-367560">
              <a:spcBef>
                <a:spcPts val="575"/>
              </a:spcBef>
              <a:buClr>
                <a:srgbClr val="cc0000"/>
              </a:buClr>
              <a:buSzPct val="70000"/>
              <a:buFont typeface="Verdana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+/- Ingresos o Costos Atípicos(*)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	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4" marL="1946880" indent="0">
              <a:spcBef>
                <a:spcPts val="624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2" marL="1213560" indent="-367560">
              <a:spcBef>
                <a:spcPts val="575"/>
              </a:spcBef>
              <a:buClr>
                <a:srgbClr val="cc0000"/>
              </a:buClr>
              <a:buSzPct val="70000"/>
              <a:buFont typeface="Verdana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+</a:t>
            </a:r>
            <a:r>
              <a:rPr b="1" lang="es-ES_tradnl" sz="2300" spc="-1" strike="noStrike">
                <a:solidFill>
                  <a:srgbClr val="4d4d4d"/>
                </a:solidFill>
                <a:latin typeface="Verdana"/>
              </a:rPr>
              <a:t> BAT 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(Utilidad antes de Impuestos)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213560" indent="-367560">
              <a:spcBef>
                <a:spcPts val="575"/>
              </a:spcBef>
              <a:buClr>
                <a:srgbClr val="cc0000"/>
              </a:buClr>
              <a:buSzPct val="70000"/>
              <a:buFont typeface="Verdana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- Impuestos Sobre Beneficio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213560" indent="-367560">
              <a:spcBef>
                <a:spcPts val="575"/>
              </a:spcBef>
              <a:buClr>
                <a:srgbClr val="cc0000"/>
              </a:buClr>
              <a:buSzPct val="70000"/>
              <a:buFont typeface="Verdana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300" spc="-1" strike="noStrike">
                <a:solidFill>
                  <a:srgbClr val="4d4d4d"/>
                </a:solidFill>
                <a:latin typeface="Verdana"/>
              </a:rPr>
              <a:t>BPT 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(Utilidad del ejericio)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33" name="Line 4"/>
          <p:cNvSpPr/>
          <p:nvPr/>
        </p:nvSpPr>
        <p:spPr>
          <a:xfrm>
            <a:off x="1828800" y="4495680"/>
            <a:ext cx="484992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34" name="Line 5"/>
          <p:cNvSpPr/>
          <p:nvPr/>
        </p:nvSpPr>
        <p:spPr>
          <a:xfrm>
            <a:off x="1905120" y="5445000"/>
            <a:ext cx="477360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35" name="Rectangle 6"/>
          <p:cNvSpPr/>
          <p:nvPr/>
        </p:nvSpPr>
        <p:spPr>
          <a:xfrm>
            <a:off x="2077560" y="6032520"/>
            <a:ext cx="4998960" cy="40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(*) Ingresos y Costos no operacionales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title"/>
          </p:nvPr>
        </p:nvSpPr>
        <p:spPr>
          <a:xfrm>
            <a:off x="1308240" y="-360"/>
            <a:ext cx="65275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DE ESTADO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DE RESULTADOS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4572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00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2. Ordenamiento de Estados de resultados 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Sistema Marginalista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</p:txBody>
      </p:sp>
      <p:grpSp>
        <p:nvGrpSpPr>
          <p:cNvPr id="138" name="Group 4"/>
          <p:cNvGrpSpPr/>
          <p:nvPr/>
        </p:nvGrpSpPr>
        <p:grpSpPr>
          <a:xfrm>
            <a:off x="88560" y="2712960"/>
            <a:ext cx="9011880" cy="4203720"/>
            <a:chOff x="88560" y="2712960"/>
            <a:chExt cx="9011880" cy="4203720"/>
          </a:xfrm>
        </p:grpSpPr>
        <p:sp>
          <p:nvSpPr>
            <p:cNvPr id="139" name="Rectangle 5"/>
            <p:cNvSpPr/>
            <p:nvPr/>
          </p:nvSpPr>
          <p:spPr>
            <a:xfrm>
              <a:off x="107280" y="2712960"/>
              <a:ext cx="8993160" cy="420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1" lang="es-ES_tradnl" sz="1800" spc="-1" strike="noStrike">
                  <a:solidFill>
                    <a:srgbClr val="4d4d4d"/>
                  </a:solidFill>
                  <a:latin typeface="Verdana"/>
                </a:rPr>
                <a:t>A</a:t>
              </a:r>
              <a:r>
                <a:rPr b="1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1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1" lang="es-ES_tradnl" sz="1800" spc="-1" strike="noStrike">
                  <a:solidFill>
                    <a:srgbClr val="4d4d4d"/>
                  </a:solidFill>
                  <a:latin typeface="Verdana"/>
                </a:rPr>
                <a:t>B</a:t>
              </a:r>
              <a:r>
                <a:rPr b="1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1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1" lang="es-ES_tradnl" sz="1800" spc="-1" strike="noStrike">
                  <a:solidFill>
                    <a:srgbClr val="4d4d4d"/>
                  </a:solidFill>
                  <a:latin typeface="Verdana"/>
                </a:rPr>
                <a:t>C</a:t>
              </a:r>
              <a:r>
                <a:rPr b="1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1" lang="es-ES_tradnl" sz="1800" spc="-1" strike="noStrike">
                  <a:solidFill>
                    <a:srgbClr val="4d4d4d"/>
                  </a:solidFill>
                  <a:latin typeface="Verdana"/>
                </a:rPr>
                <a:t>Total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+Ventas Netas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x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x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x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X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-Costos Variables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x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x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x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X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-Costos Fijos Imputables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x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x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x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X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+Margen de Contribución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y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y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y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Y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-Costos Fijos No Imputables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Z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Resultado operacional o BAIT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K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+/- B/C Financieros y Atípicos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U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Utilidad antes de Impuestos o BAT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R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-Impuestos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I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Utilidad del ejercicio o BPT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W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40" name="Line 6"/>
            <p:cNvSpPr/>
            <p:nvPr/>
          </p:nvSpPr>
          <p:spPr>
            <a:xfrm>
              <a:off x="88560" y="3960720"/>
              <a:ext cx="8586000" cy="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41" name="Line 7"/>
            <p:cNvSpPr/>
            <p:nvPr/>
          </p:nvSpPr>
          <p:spPr>
            <a:xfrm>
              <a:off x="163080" y="4799160"/>
              <a:ext cx="8585640" cy="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42" name="Line 8"/>
            <p:cNvSpPr/>
            <p:nvPr/>
          </p:nvSpPr>
          <p:spPr>
            <a:xfrm>
              <a:off x="163080" y="5637240"/>
              <a:ext cx="8585640" cy="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43" name="Line 9"/>
            <p:cNvSpPr/>
            <p:nvPr/>
          </p:nvSpPr>
          <p:spPr>
            <a:xfrm>
              <a:off x="163080" y="6475320"/>
              <a:ext cx="8585640" cy="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</p:grpSp>
      <p:sp>
        <p:nvSpPr>
          <p:cNvPr id="144" name="PlaceHolder 2"/>
          <p:cNvSpPr>
            <a:spLocks noGrp="1"/>
          </p:cNvSpPr>
          <p:nvPr>
            <p:ph type="title"/>
          </p:nvPr>
        </p:nvSpPr>
        <p:spPr>
          <a:xfrm>
            <a:off x="1308240" y="-360"/>
            <a:ext cx="65275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DE ESTADO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DE RESULTADOS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441360" indent="-44136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Sistema Marginalista, sus ventajas :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226520" indent="-37152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Permite conocer el desempeño de cada línea de productos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226520" indent="-37152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Facilita el análisis global de gestión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226520" indent="-37152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Permite tomar decisiones correctivas o el cierre de productos no rentables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226520" indent="-37152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Separa los distintos ámbitos sobre los cuales se ejerce control (producción, comercialización, etc.)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226520" indent="-37152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Permite conocer la flexibilidad de la empresa ante variaciones de parámetros exógenos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title"/>
          </p:nvPr>
        </p:nvSpPr>
        <p:spPr>
          <a:xfrm>
            <a:off x="1308240" y="-360"/>
            <a:ext cx="65275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DE ESTADO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DE RESULTADOS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539280" y="1371600"/>
            <a:ext cx="86043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427320" indent="-42732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3. Instrumentos de Análisis de Resultados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826200" indent="-3967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Análisis Estático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187280" indent="-35964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Se le asigna un 100 % al total de las ventas netas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187280" indent="-35964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Cada item de costo se expresa como porcentaje del valor de las ventas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187280" indent="-35964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Se analiza, para un período, la incidencia de cada item de costo y su impacto en márgenes. 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3" marL="1541160" indent="-3524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Costo Financiero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3" marL="1541160" indent="-3524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Aporte de cada producto al resultado 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3" marL="1541160" indent="-3524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Apalancamiento Operativo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3" marL="1541160" indent="-3524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Costos Fijos, etc.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1308240" y="-360"/>
            <a:ext cx="65275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DE ESTADO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DE RESULTADOS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12800" y="-360"/>
            <a:ext cx="5918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Temas del curs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1. Introducción - Ordenamiento del Balance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2. Análisis Patrimonial Estático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3. Análisis Patrimonial Dinámico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4. Análisis de Circulante - Rotaciones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4d4d4d"/>
                </a:solidFill>
                <a:latin typeface="Verdana"/>
              </a:rPr>
              <a:t>5. Análisis del Estado de Resultados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6. Análisis de Rentabilidad y Rendimiento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7. Planificación Financiera de C/P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685800" y="981000"/>
            <a:ext cx="82072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446040" indent="-44604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3. Instrumentos de Análisis de Resultados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862200" indent="-41436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Análisis Estático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862200" indent="-414360">
              <a:spcBef>
                <a:spcPts val="649"/>
              </a:spcBef>
              <a:buClr>
                <a:srgbClr val="cc0000"/>
              </a:buClr>
              <a:buSzPct val="70000"/>
              <a:buFont typeface="Verdan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Analizar las políticas a aplicar, por ejemplo 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239480" indent="-3754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Si el costo de mano de obra directa es alto =&gt; aumentar la eficiencia vía capacitación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239480" indent="-3754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Si los costos de materias primas son relevantes  =&gt; buscar materias primas alternativas o mejorar la productividad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239480" indent="-3754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Si hay líneas de productos poco rentable =&gt; analizar si es problema de gestión o el producto está viejo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title"/>
          </p:nvPr>
        </p:nvSpPr>
        <p:spPr>
          <a:xfrm>
            <a:off x="1308240" y="-360"/>
            <a:ext cx="65275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DE ESTADO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DE RESULTADOS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2"/>
          <p:cNvSpPr/>
          <p:nvPr/>
        </p:nvSpPr>
        <p:spPr>
          <a:xfrm>
            <a:off x="1333440" y="0"/>
            <a:ext cx="6477120" cy="1143000"/>
          </a:xfrm>
          <a:prstGeom prst="rect">
            <a:avLst/>
          </a:prstGeom>
          <a:noFill/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4d4d4d"/>
                </a:solidFill>
                <a:latin typeface="Arial Black"/>
              </a:rPr>
              <a:t>Caso Bestpharma S.A. Laboratorio</a:t>
            </a:r>
            <a:endParaRPr b="0" lang="en-US" sz="4000" spc="-1" strike="noStrike">
              <a:solidFill>
                <a:srgbClr val="4d4d4d"/>
              </a:solidFill>
              <a:latin typeface="Verdana"/>
            </a:endParaRPr>
          </a:p>
        </p:txBody>
      </p:sp>
      <p:pic>
        <p:nvPicPr>
          <p:cNvPr id="152" name="Picture 3" descr=""/>
          <p:cNvPicPr/>
          <p:nvPr/>
        </p:nvPicPr>
        <p:blipFill>
          <a:blip r:embed="rId1"/>
          <a:stretch/>
        </p:blipFill>
        <p:spPr>
          <a:xfrm>
            <a:off x="228600" y="1600200"/>
            <a:ext cx="8686800" cy="5257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427320" indent="-42732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3. Instrumentos de Análisis de Resultados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826200" indent="-3967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Análisis Dinámico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187280" indent="-35964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Se comparan, en base a los porcentajes,  dos estados de resultados de períodos distintos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187280" indent="-35964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Se determinan y analizan las principales diferencias entre ellos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187280" indent="-35964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Se fundamentan las variaciones, intentando buscar las causas y no solo describiendo los efectos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187280" indent="-35964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Se plantea una estrategia para superar los errores y potenciar las ventajas. 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title"/>
          </p:nvPr>
        </p:nvSpPr>
        <p:spPr>
          <a:xfrm>
            <a:off x="1308240" y="-360"/>
            <a:ext cx="65275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DE ESTADO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DE RESULTADOS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446040" indent="-44604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3. Instrumentos de Análisis de Resultados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862200" indent="-41436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Análisis Dinámico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862200" indent="-414360" algn="just">
              <a:spcBef>
                <a:spcPts val="649"/>
              </a:spcBef>
              <a:buClr>
                <a:srgbClr val="cc0000"/>
              </a:buClr>
              <a:buSzPct val="70000"/>
              <a:buFont typeface="Verdan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Finalmente, se debieran analizar las políticas a aplicar, por ejemplo :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446040" indent="-446040"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Si el alza en costos directos de mano de obra ha sido importante =&gt; ¿Ha habido una caída en la eficiencia de la mano de obra o es que los salarios han tenido un alza proporcionalmente superior a los demás insumos? 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446040" indent="-446040"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Caen las ventas de un producto =&gt; ¿ Ha caído el precio o las unidades vendidas?, Si fueron la unidades vendida, ¿Nuestro precio es alto o el producto está en declive?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title"/>
          </p:nvPr>
        </p:nvSpPr>
        <p:spPr>
          <a:xfrm>
            <a:off x="1308240" y="-360"/>
            <a:ext cx="65275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DE ESTADO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DE RESULTADOS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Dos conceptos derivados del Estado de Resultados: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Apalancamiento operacional y riesgo operacional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Punto de quiebre (o punto muerto o breakeven point)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P*Q - Cv*Q - CF = 0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Q = CF / ( P - Cv)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title"/>
          </p:nvPr>
        </p:nvSpPr>
        <p:spPr>
          <a:xfrm>
            <a:off x="1308240" y="-360"/>
            <a:ext cx="65275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DE ESTADO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DE RESULTADOS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Punto de quiebre en función del margen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Ventas - %Ventas = CF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Ventas *(1-% de CV sobre ventas)=CF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Ventas = CF / Margen de contribución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title"/>
          </p:nvPr>
        </p:nvSpPr>
        <p:spPr>
          <a:xfrm>
            <a:off x="1308240" y="-360"/>
            <a:ext cx="65275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DE ESTADO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DE RESULTADOS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08240" y="-360"/>
            <a:ext cx="65275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DE ESTADO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DE RESULTADOS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446040" indent="-44604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1. El concepto de Resultad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46040" indent="-44604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2. Ordenamiento de Estados de resultados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862200" indent="-41436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Según su Naturaleza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862200" indent="-41436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Como centro portador de costo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862200" indent="-41436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Sistema Marginalista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446040" indent="-44604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3. Instrumentos de Análisis de Resultados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862200" indent="-41436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Análisis Estático / Análisis Dinámico 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446040" indent="-44604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1. El concepto de Resultad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862200" indent="-414360" algn="just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Definición Tradicional :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239480" indent="-375480" algn="just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“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Diferencia entre Ingresos y Gastos”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1" marL="862200" indent="-414360" algn="just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Bajo este enfoque hay tres ópticas distintas 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239480" indent="-375480" algn="just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La visión Pública : Base de Imposición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239480" indent="-375480" algn="just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300" spc="-1" strike="noStrike">
                <a:solidFill>
                  <a:srgbClr val="4d4d4d"/>
                </a:solidFill>
                <a:latin typeface="Verdana"/>
              </a:rPr>
              <a:t>La visión Empresarial : Base de Desarrollo Autofinanciado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239480" indent="-375480" algn="just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La visión del Accionista de Bolsa: Base del Dividendo, indicador para comparación de precios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308240" y="-360"/>
            <a:ext cx="65275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DE ESTADO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DE RESULTADOS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685800" y="1197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9000"/>
          </a:bodyPr>
          <a:p>
            <a:pPr marL="417960" indent="-41796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2. Ordenamiento de Estados de resultados 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807840" indent="-388080" algn="just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Los tres sistemas a estudiar difieren en las clasificaciones que se le dan a los Costos de Explotación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807840" indent="-388080" algn="just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Según su Naturaleza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161360" indent="-351720" algn="just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Ordenaremos los costos según su naturaleza: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3" marL="1507320" indent="-344520" algn="just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Materias Primas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3" marL="1507320" indent="-344520" algn="just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Transportes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3" marL="1507320" indent="-344520" algn="just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Mano de Obra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3" marL="1507320" indent="-344520" algn="just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Consumos de Energía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3" marL="1507320" indent="-344520" algn="just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Etc.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353520" y="4780080"/>
            <a:ext cx="14266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Costos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de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Explotación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1308240" y="-360"/>
            <a:ext cx="65275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DE ESTADO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DE RESULTADOS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436680" indent="-43668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2. Ordenamiento de Estados de resultados 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844200" indent="-4057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Según su Naturaleza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213560" indent="-367560">
              <a:spcBef>
                <a:spcPts val="575"/>
              </a:spcBef>
              <a:buClr>
                <a:srgbClr val="cc0000"/>
              </a:buClr>
              <a:buSzPct val="70000"/>
              <a:buFont typeface="Verdana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+ Venta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213560" indent="-367560">
              <a:spcBef>
                <a:spcPts val="575"/>
              </a:spcBef>
              <a:buClr>
                <a:srgbClr val="cc0000"/>
              </a:buClr>
              <a:buSzPct val="70000"/>
              <a:buFont typeface="Verdana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- Costos de Explotación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4" marL="1946880" indent="0">
              <a:spcBef>
                <a:spcPts val="624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2" marL="1213560" indent="-367560">
              <a:spcBef>
                <a:spcPts val="575"/>
              </a:spcBef>
              <a:buClr>
                <a:srgbClr val="cc0000"/>
              </a:buClr>
              <a:buSzPct val="70000"/>
              <a:buFont typeface="Verdana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Resultado Operacional = Beneficio Antes de Impuestos y Tasas (BAIT)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213560" indent="-367560">
              <a:spcBef>
                <a:spcPts val="575"/>
              </a:spcBef>
              <a:buClr>
                <a:srgbClr val="cc0000"/>
              </a:buClr>
              <a:buSzPct val="70000"/>
              <a:buFont typeface="Verdana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+ Ingresos Financiero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213560" indent="-367560">
              <a:spcBef>
                <a:spcPts val="575"/>
              </a:spcBef>
              <a:buClr>
                <a:srgbClr val="cc0000"/>
              </a:buClr>
              <a:buSzPct val="70000"/>
              <a:buFont typeface="Verdana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- Costos Financiero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213560" indent="-367560">
              <a:spcBef>
                <a:spcPts val="575"/>
              </a:spcBef>
              <a:buClr>
                <a:srgbClr val="cc0000"/>
              </a:buClr>
              <a:buSzPct val="70000"/>
              <a:buFont typeface="Verdana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Beneficios Después de Costos Financiero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5" name="Line 4"/>
          <p:cNvSpPr/>
          <p:nvPr/>
        </p:nvSpPr>
        <p:spPr>
          <a:xfrm>
            <a:off x="1843200" y="4038480"/>
            <a:ext cx="584028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6" name="Line 5"/>
          <p:cNvSpPr/>
          <p:nvPr/>
        </p:nvSpPr>
        <p:spPr>
          <a:xfrm>
            <a:off x="1913040" y="5943600"/>
            <a:ext cx="584028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1308240" y="-360"/>
            <a:ext cx="65275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DE ESTADO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DE RESULTADOS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2. Ordenamiento de Estados de resultados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¿Que empresa me conviene elegir ? 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516960" y="3408480"/>
            <a:ext cx="2342520" cy="20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+ Ventas Neta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- Costos Explotación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BAIT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- Costos Financiero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BDCF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3337560" y="3027240"/>
            <a:ext cx="3839040" cy="228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Empresa A                  Empresa B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1000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1000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  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600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  800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  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400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  200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  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300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    20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  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100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  180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1" name="Line 6"/>
          <p:cNvSpPr/>
          <p:nvPr/>
        </p:nvSpPr>
        <p:spPr>
          <a:xfrm>
            <a:off x="3214800" y="4343400"/>
            <a:ext cx="81108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2" name="Line 7"/>
          <p:cNvSpPr/>
          <p:nvPr/>
        </p:nvSpPr>
        <p:spPr>
          <a:xfrm>
            <a:off x="5881680" y="4343400"/>
            <a:ext cx="81108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3" name="Line 8"/>
          <p:cNvSpPr/>
          <p:nvPr/>
        </p:nvSpPr>
        <p:spPr>
          <a:xfrm>
            <a:off x="5958000" y="5410080"/>
            <a:ext cx="81108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3214800" y="5410080"/>
            <a:ext cx="81108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1308240" y="-360"/>
            <a:ext cx="65275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DE ESTADO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DE RESULTADOS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489040" y="-360"/>
            <a:ext cx="4165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OJO: TEST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Conteste (Y/N) si preferiría la empresa B considerando que su utilidad después de costos financieros es mayor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685800" y="112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436680" indent="-43668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2. Ordenamiento de Estados de resultados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844200" indent="-4057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¿Que empresa me conviene elegir ? 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213560" indent="-367560" algn="just">
              <a:spcBef>
                <a:spcPts val="550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Hay que fijarse en el BAIT, ya que este es el motor de la empresa.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2" marL="1213560" indent="-367560" algn="just">
              <a:spcBef>
                <a:spcPts val="550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La política financiera se puede cambiar, los costos financieros son función de esta.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2" marL="1213560" indent="-367560" algn="just">
              <a:spcBef>
                <a:spcPts val="550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Discernir entre Problemas Económicos y Problemas Financieros. BAIT v/s Costos Financieros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2" marL="1213560" indent="-367560" algn="just">
              <a:spcBef>
                <a:spcPts val="550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Cuidado con los criterios de valoración de los costos de explotación. (Ejemplo: las dos empresas están usando distintos criterios de depreciación)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1308240" y="-360"/>
            <a:ext cx="65275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DE ESTADO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DE RESULTADOS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03T04:43:44Z</dcterms:created>
  <dc:creator>Eduardo Contreras</dc:creator>
  <dc:description/>
  <dc:language>en-US</dc:language>
  <cp:lastModifiedBy>Claudio Jiménez</cp:lastModifiedBy>
  <cp:lastPrinted>2002-11-13T13:47:55Z</cp:lastPrinted>
  <dcterms:modified xsi:type="dcterms:W3CDTF">2011-04-04T16:11:38Z</dcterms:modified>
  <cp:revision>372</cp:revision>
  <dc:subject/>
  <dc:title>Análisis Financiero</dc:title>
</cp:coreProperties>
</file>