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F84FA-A510-4573-BF98-3A0F1BFA3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8F331-4BE1-49BC-82C5-D3D66481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EF0E71-91F7-48E1-B162-886D1A10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F774A-305F-4CDD-B25A-660611599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450442-D44C-4920-870B-8AFE4416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47920-2334-4058-AE35-8DAB388D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8AB09-5204-42D8-B397-9C2C6AE9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6265A-F79E-4CDF-B5C9-4EB98762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27466D-4E0A-4637-8498-E07FD828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20C666-B846-4FAD-BFEF-AA589842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C6502-DE39-470E-9D42-5609BBC3A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35D6B9-692A-44F8-907B-A2E487591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2772-FC39-4A17-A691-BC8813C71A1B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LIENTE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 / Client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.: 2500 / 10.000 * 365 = 91 dí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lto =&gt; Vigilar que no aument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OJO: Nuevamente el ratio puede mentir en empresas con estacionalidad en los períodos de cobro a clientes. En ciertos períodos frente a altas compras pueden flexibilizar el plazo. Ej.: Ventas de cuadernos a tiendas en febr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89040" y="228600"/>
            <a:ext cx="416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JO: TEST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OVEEDOR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PRAS / PROVEEDOR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veedores es cuenta de pasivo ¿Conviene que disminuya la rotación medida en vueltas? ( es decir que aumente en número de día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ON DETALLADA DE STOCK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 MP / Utilización de M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 PC / Fabric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 PA / Ven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da masa patrimonial se compara c/r al flujo de salida hacia el que tiende en el ciclo de madur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5800" y="2666880"/>
            <a:ext cx="2209680" cy="2895840"/>
          </a:xfrm>
          <a:prstGeom prst="rect">
            <a:avLst/>
          </a:prstGeom>
          <a:solidFill>
            <a:srgbClr val="00b0f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ateri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im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05320" y="2666880"/>
            <a:ext cx="2209680" cy="2895840"/>
          </a:xfrm>
          <a:prstGeom prst="rect">
            <a:avLst/>
          </a:prstGeom>
          <a:solidFill>
            <a:srgbClr val="00b0f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duc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Curs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6324480" y="2666880"/>
            <a:ext cx="2210040" cy="2895840"/>
          </a:xfrm>
          <a:prstGeom prst="rect">
            <a:avLst/>
          </a:prstGeom>
          <a:solidFill>
            <a:srgbClr val="00b0f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duc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erminad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304920" y="2514600"/>
            <a:ext cx="685800" cy="9144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5" name="Line 6"/>
          <p:cNvSpPr/>
          <p:nvPr/>
        </p:nvSpPr>
        <p:spPr>
          <a:xfrm flipV="1">
            <a:off x="2590920" y="3048120"/>
            <a:ext cx="1143000" cy="22860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2971800" y="2133720"/>
            <a:ext cx="762120" cy="76176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7" name="Line 8"/>
          <p:cNvSpPr/>
          <p:nvPr/>
        </p:nvSpPr>
        <p:spPr>
          <a:xfrm flipV="1">
            <a:off x="5334120" y="2971800"/>
            <a:ext cx="1218960" cy="23623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7848720" y="5257800"/>
            <a:ext cx="9903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685800" y="2209680"/>
            <a:ext cx="2209680" cy="457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3505320" y="2209680"/>
            <a:ext cx="2209680" cy="457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6324480" y="2209680"/>
            <a:ext cx="2210040" cy="457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129240" y="1752480"/>
            <a:ext cx="15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ompras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M. Prim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1884960" y="5146560"/>
            <a:ext cx="15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Utiliz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M. Prim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2088360" y="179388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tros Insum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5" name="Text Box 22"/>
          <p:cNvSpPr/>
          <p:nvPr/>
        </p:nvSpPr>
        <p:spPr>
          <a:xfrm>
            <a:off x="4787280" y="491796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abric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7778880" y="522288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Ven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7" name="Text Box 24"/>
          <p:cNvSpPr/>
          <p:nvPr/>
        </p:nvSpPr>
        <p:spPr>
          <a:xfrm>
            <a:off x="740880" y="6137280"/>
            <a:ext cx="76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OTA: Utilización M. Primas + Otros Insumos = Entradas a Fabric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jempl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2216160" y="2521080"/>
            <a:ext cx="4021200" cy="35733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4205160" y="2521080"/>
            <a:ext cx="0" cy="36226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4650120" y="2697120"/>
            <a:ext cx="125820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Exigible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/P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2468520" y="2687760"/>
            <a:ext cx="113976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LIENT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Line 8"/>
          <p:cNvSpPr/>
          <p:nvPr/>
        </p:nvSpPr>
        <p:spPr>
          <a:xfrm>
            <a:off x="4267080" y="3429000"/>
            <a:ext cx="20304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4267080" y="4419720"/>
            <a:ext cx="20304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4749840" y="4648320"/>
            <a:ext cx="1282680" cy="14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pita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Permanen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2292480" y="3505320"/>
            <a:ext cx="18921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2829240" y="3567240"/>
            <a:ext cx="591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P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Line 13"/>
          <p:cNvSpPr/>
          <p:nvPr/>
        </p:nvSpPr>
        <p:spPr>
          <a:xfrm>
            <a:off x="2216160" y="4038480"/>
            <a:ext cx="19684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2829240" y="4100400"/>
            <a:ext cx="590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PC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2216160" y="4572000"/>
            <a:ext cx="19684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Line 16"/>
          <p:cNvSpPr/>
          <p:nvPr/>
        </p:nvSpPr>
        <p:spPr>
          <a:xfrm>
            <a:off x="2216160" y="5105520"/>
            <a:ext cx="20448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902160" y="3490920"/>
            <a:ext cx="94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3" name="Rectangle 18"/>
          <p:cNvSpPr/>
          <p:nvPr/>
        </p:nvSpPr>
        <p:spPr>
          <a:xfrm>
            <a:off x="902160" y="3948120"/>
            <a:ext cx="94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4" name="Rectangle 19"/>
          <p:cNvSpPr/>
          <p:nvPr/>
        </p:nvSpPr>
        <p:spPr>
          <a:xfrm>
            <a:off x="825840" y="4481640"/>
            <a:ext cx="94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5" name="Rectangle 20"/>
          <p:cNvSpPr/>
          <p:nvPr/>
        </p:nvSpPr>
        <p:spPr>
          <a:xfrm>
            <a:off x="6256440" y="2590920"/>
            <a:ext cx="2574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vencimiento med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nderado : 5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6" name="Rectangle 21"/>
          <p:cNvSpPr/>
          <p:nvPr/>
        </p:nvSpPr>
        <p:spPr>
          <a:xfrm>
            <a:off x="2743200" y="5105520"/>
            <a:ext cx="163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7" name="Rectangle 22"/>
          <p:cNvSpPr/>
          <p:nvPr/>
        </p:nvSpPr>
        <p:spPr>
          <a:xfrm>
            <a:off x="2819520" y="4648320"/>
            <a:ext cx="79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M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8" name="Rectangle 23"/>
          <p:cNvSpPr/>
          <p:nvPr/>
        </p:nvSpPr>
        <p:spPr>
          <a:xfrm>
            <a:off x="983160" y="259092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9" name="Rectangle 24"/>
          <p:cNvSpPr/>
          <p:nvPr/>
        </p:nvSpPr>
        <p:spPr>
          <a:xfrm>
            <a:off x="4495680" y="373536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Exigible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/P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iende a la liquidez en 160 día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iende a la exigibilidad en 50 dí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Tiende a la impuntualidad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necesariamente, hay que analizar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uánto de clientes se puede cobrar en los próximos 50 dí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uánto de la deuda vence en los próximos 50 dí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upongamos qu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lientes deben 100 Millones para los próximos 100 dí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 Millón de “$ diarios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deudamos 50 millones para los próximos 50 dí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 Millón de “$ diarios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alogía: Es una empresa de alta capacidad  (solvencia de capacidad) y baja rotación &lt;=&gt; Río ancho y poco caud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us problemas no son de puntualidad si no de crecimiento ¿Cómo aumentar ventas sin que se afecten las rotaciones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on sumables en días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I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ermanencia media de activo=(Act./V)*365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./V = (S+C+D+AF)/V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uego Act./V*365= Permanencia media de stocks+plazo de cobro a clientes+ días-venta de saldo de caja+ permanencia media del Activo Fij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49276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</a:t>
            </a: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a medida de la solvencia como puntual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 concepto de rot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ón del Activo Fijo y Circulant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ón de Stocks, Clientes y Proveedor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a medida de la solvencia de puntual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hay ratios para medirl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recimiento comercial y mantención de niveles =&gt; Aumento del activo circula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no se logra mantener la velocidad de rotación del AC ( mantener su tendencia a la liquidez) =&gt;  Aumento del AC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853560" y="1585800"/>
            <a:ext cx="1190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nvers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279600" y="1585800"/>
            <a:ext cx="1518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ci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Line 5"/>
          <p:cNvSpPr/>
          <p:nvPr/>
        </p:nvSpPr>
        <p:spPr>
          <a:xfrm flipH="1">
            <a:off x="755280" y="2063880"/>
            <a:ext cx="469800" cy="82548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Line 6"/>
          <p:cNvSpPr/>
          <p:nvPr/>
        </p:nvSpPr>
        <p:spPr>
          <a:xfrm>
            <a:off x="1530360" y="2063880"/>
            <a:ext cx="368280" cy="82548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Line 7"/>
          <p:cNvSpPr/>
          <p:nvPr/>
        </p:nvSpPr>
        <p:spPr>
          <a:xfrm flipH="1">
            <a:off x="3346200" y="2063880"/>
            <a:ext cx="393480" cy="97776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Line 8"/>
          <p:cNvSpPr/>
          <p:nvPr/>
        </p:nvSpPr>
        <p:spPr>
          <a:xfrm>
            <a:off x="4044960" y="2063880"/>
            <a:ext cx="368280" cy="97776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153000" y="3186000"/>
            <a:ext cx="760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.F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1330200" y="3110040"/>
            <a:ext cx="846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. 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Line 11"/>
          <p:cNvSpPr/>
          <p:nvPr/>
        </p:nvSpPr>
        <p:spPr>
          <a:xfrm flipH="1">
            <a:off x="374760" y="3740040"/>
            <a:ext cx="164880" cy="5209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1987560" y="3664080"/>
            <a:ext cx="368280" cy="67284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-92160" y="4603680"/>
            <a:ext cx="94644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eem-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laz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635040" y="4832280"/>
            <a:ext cx="1627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recimien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1104840" y="4222800"/>
            <a:ext cx="224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Meno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otac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Line 16"/>
          <p:cNvSpPr/>
          <p:nvPr/>
        </p:nvSpPr>
        <p:spPr>
          <a:xfrm>
            <a:off x="768240" y="3740040"/>
            <a:ext cx="292320" cy="9781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Line 17"/>
          <p:cNvSpPr/>
          <p:nvPr/>
        </p:nvSpPr>
        <p:spPr>
          <a:xfrm>
            <a:off x="1371600" y="3587760"/>
            <a:ext cx="0" cy="11304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Line 18"/>
          <p:cNvSpPr/>
          <p:nvPr/>
        </p:nvSpPr>
        <p:spPr>
          <a:xfrm>
            <a:off x="2292480" y="1828800"/>
            <a:ext cx="672840" cy="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2456640" y="3110040"/>
            <a:ext cx="1182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 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3988080" y="3110040"/>
            <a:ext cx="101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Line 21"/>
          <p:cNvSpPr/>
          <p:nvPr/>
        </p:nvSpPr>
        <p:spPr>
          <a:xfrm>
            <a:off x="4419720" y="3587760"/>
            <a:ext cx="0" cy="4446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Line 22"/>
          <p:cNvSpPr/>
          <p:nvPr/>
        </p:nvSpPr>
        <p:spPr>
          <a:xfrm>
            <a:off x="4730760" y="3511440"/>
            <a:ext cx="444600" cy="5209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3807720" y="4100400"/>
            <a:ext cx="91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L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4862880" y="4100400"/>
            <a:ext cx="94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C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Line 25"/>
          <p:cNvSpPr/>
          <p:nvPr/>
        </p:nvSpPr>
        <p:spPr>
          <a:xfrm>
            <a:off x="4343400" y="4578480"/>
            <a:ext cx="0" cy="36828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Rectangle 26"/>
          <p:cNvSpPr/>
          <p:nvPr/>
        </p:nvSpPr>
        <p:spPr>
          <a:xfrm>
            <a:off x="2500920" y="5273640"/>
            <a:ext cx="2162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CASH FLOW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Line 27"/>
          <p:cNvSpPr/>
          <p:nvPr/>
        </p:nvSpPr>
        <p:spPr>
          <a:xfrm flipV="1">
            <a:off x="5797440" y="3879720"/>
            <a:ext cx="596880" cy="3175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Line 28"/>
          <p:cNvSpPr/>
          <p:nvPr/>
        </p:nvSpPr>
        <p:spPr>
          <a:xfrm>
            <a:off x="5797440" y="4425840"/>
            <a:ext cx="520920" cy="36828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Rectangle 29"/>
          <p:cNvSpPr/>
          <p:nvPr/>
        </p:nvSpPr>
        <p:spPr>
          <a:xfrm>
            <a:off x="6248160" y="3490920"/>
            <a:ext cx="15242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Venci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pres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Rectangle 30"/>
          <p:cNvSpPr/>
          <p:nvPr/>
        </p:nvSpPr>
        <p:spPr>
          <a:xfrm>
            <a:off x="6295320" y="4862520"/>
            <a:ext cx="97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íclic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Rectangle 35"/>
          <p:cNvSpPr/>
          <p:nvPr/>
        </p:nvSpPr>
        <p:spPr>
          <a:xfrm>
            <a:off x="2356920" y="3719520"/>
            <a:ext cx="1383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vidend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Line 36"/>
          <p:cNvSpPr/>
          <p:nvPr/>
        </p:nvSpPr>
        <p:spPr>
          <a:xfrm>
            <a:off x="3124080" y="3511440"/>
            <a:ext cx="0" cy="21600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Line 37"/>
          <p:cNvSpPr/>
          <p:nvPr/>
        </p:nvSpPr>
        <p:spPr>
          <a:xfrm>
            <a:off x="3124080" y="4197240"/>
            <a:ext cx="0" cy="74952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ASH FLOW = BENEFICIO(Utilidad) + DEPRECIACION + PREVISION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INDICADOR DE PUNTUALIDAD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SH FLOW &gt; Dividendos + Vencimientos de Exigibles de L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ITAR PERDIDA DE ROTACION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(Concepto de rotación se ve más adelante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ITAR AUMENTAR EXPRESOS VS CICLIC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 CONCEPTO DE ROTACIO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 VENTAS/ACTIV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: Medida de la actividad de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: Medida del tamaño, de la invers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uego es una 1ª proxy a medir eficienci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unidad es “Rotaciones” (R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pretación: Cuantas veces “da vuelta” el activo.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 : 5R ----&gt; Año 2 : 3R ¡ARGGG!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ON DE AF VS AC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paro el ratio anterior en : Ventas / AF y Ventas / AC (porque AF y AC no necesariamente se mueven junto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 / AF es una  relación más bien técnica de dimensionamien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 / AC depende de la gestión del circulante y en particular de los client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rabajaremos más con V / AC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ON DE STOCKS, CLIENTES Y PROVEEDOR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VENTAS / STOCKS: Cuántas veces da vuelta el stock en el ciclo stock -&gt; Producto -&gt; Vent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.: 10.000 / 1000 = 10 R &lt;=&gt; Rotó 10 vec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odemos calcular 1000 / 10.000 * 365 = 36,5 días: Permanencia media del stock en la empres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OJO : El indicador “miente” en empresas con estacionalidades (stocks muy altos o muy bajos al momento de medir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Line 4"/>
          <p:cNvSpPr/>
          <p:nvPr/>
        </p:nvSpPr>
        <p:spPr>
          <a:xfrm>
            <a:off x="6858000" y="3587760"/>
            <a:ext cx="0" cy="2160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1" name="Line 5"/>
          <p:cNvSpPr/>
          <p:nvPr/>
        </p:nvSpPr>
        <p:spPr>
          <a:xfrm flipH="1">
            <a:off x="4336560" y="3809880"/>
            <a:ext cx="25275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4343400" y="3657600"/>
            <a:ext cx="0" cy="144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Line 7"/>
          <p:cNvSpPr/>
          <p:nvPr/>
        </p:nvSpPr>
        <p:spPr>
          <a:xfrm flipV="1">
            <a:off x="4343400" y="3498840"/>
            <a:ext cx="0" cy="3175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Claudio Jiménez</cp:lastModifiedBy>
  <cp:lastPrinted>2002-11-13T13:47:55Z</cp:lastPrinted>
  <dcterms:modified xsi:type="dcterms:W3CDTF">2011-03-28T15:56:22Z</dcterms:modified>
  <cp:revision>371</cp:revision>
  <dc:subject/>
  <dc:title>Análisis Financiero</dc:title>
</cp:coreProperties>
</file>