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C1FD7-830F-4F23-B214-82281CBB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6726F-3033-44FF-B102-8DF74949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B63FC-98BF-461C-8A46-120A41BC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5718B-19C6-4768-96DC-3B260F6E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B5FA0-D0D5-4349-A09F-53C1B9A4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42845-40F2-4ED2-A776-6D989EFE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4E99F-DE2C-4F03-A328-15341394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FA86E-4883-4AE2-A035-46E50CDE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F779D-F65B-4E80-B57D-C6A10149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5ECEC-11D5-44D2-85D3-EA7D85B0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C57C0-6CBA-4074-B0AD-5AB0E318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F7936-57CE-45B0-805C-DD14B6AF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61A1-1915-4FF1-9339-0281114B3B48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LIENT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/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.: 2500 / 10.000 * 365 = 91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to =&gt; Vigilar que no aume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Nuevamente el ratio puede mentir en empresas con estacionalidad en los períodos de cobro a clientes. En ciertos períodos frente a altas compras pueden flexibilizar el plazo. Ej.: Ventas de cuadernos a tiendas en febr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9040" y="228600"/>
            <a:ext cx="416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JO: TES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PRAS / PROVEEDOR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eedores es cuenta de pasivo ¿Conviene que disminuya la rotación medida en vueltas? ( es decir que aumente en número de dí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TALLADA DE STOCK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MP / Utilización de M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C / Fabric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A / Ven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da masa patrimonial se compara c/r al flujo de salida hacia el que tiende en el ciclo de madur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580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teri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0532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Cur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324480" y="2666880"/>
            <a:ext cx="221004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rmin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304920" y="2514600"/>
            <a:ext cx="685800" cy="914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Line 6"/>
          <p:cNvSpPr/>
          <p:nvPr/>
        </p:nvSpPr>
        <p:spPr>
          <a:xfrm flipV="1">
            <a:off x="2590920" y="3048120"/>
            <a:ext cx="1143000" cy="22860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2971800" y="2133720"/>
            <a:ext cx="762120" cy="761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334120" y="2971800"/>
            <a:ext cx="1218960" cy="23623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7848720" y="5257800"/>
            <a:ext cx="9903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68580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350532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6324480" y="2209680"/>
            <a:ext cx="221004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129240" y="175248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mpra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1884960" y="514656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Utiliz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2088360" y="17938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tros Insum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4787280" y="49179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7778880" y="522288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740880" y="6137280"/>
            <a:ext cx="76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: Utilización M. Primas + Otros Insumos = Entradas a 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jempl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2216160" y="2521080"/>
            <a:ext cx="4021200" cy="35733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205160" y="2521080"/>
            <a:ext cx="0" cy="36226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650120" y="2697120"/>
            <a:ext cx="125820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2468520" y="2687760"/>
            <a:ext cx="11397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LIENT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4267080" y="342900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4267080" y="441972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49840" y="4648320"/>
            <a:ext cx="128268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ermanen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2292480" y="3505320"/>
            <a:ext cx="18921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2829240" y="3567240"/>
            <a:ext cx="591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2216160" y="403848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2829240" y="4100400"/>
            <a:ext cx="59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C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2216160" y="457200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Line 16"/>
          <p:cNvSpPr/>
          <p:nvPr/>
        </p:nvSpPr>
        <p:spPr>
          <a:xfrm>
            <a:off x="2216160" y="5105520"/>
            <a:ext cx="20448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902160" y="34909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902160" y="39481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825840" y="448164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6256440" y="2590920"/>
            <a:ext cx="2574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 med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nderado : 5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2743200" y="5105520"/>
            <a:ext cx="163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2819520" y="4648320"/>
            <a:ext cx="7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M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983160" y="25909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4495680" y="373536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liquidez en 160 día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exigibilidad en 50 dí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Tiende a la impuntualidad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necesariamente, hay que analiz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clientes se puede cobrar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la deuda vence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upongamos qu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ientes deben 100 Millones para los próximos 10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deudamos 50 millones para los próximos 5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alogía: Es una empresa de alta capacidad  (solvencia de capacidad) y baja rotación &lt;=&gt; Río ancho y poco caud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us problemas no son de puntualidad si no de crecimiento ¿Cómo aumentar ventas sin que se afecten las rotacione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on sumables en dí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ermanencia media de activo=(Act./V)*365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./V = (S+C+D+AF)/V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uego Act./V*365= Permanencia media de stocks+plazo de cobro a clientes+ días-venta de saldo de caja+ permanencia media del 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49276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</a:t>
            </a: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como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l Activo Fijo y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de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hay ratios para medirl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recimiento comercial y mantención de niveles =&gt; Aumento del 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no se logra mantener la velocidad de rotación del AC ( mantener su tendencia a la liquidez) =&gt;  Aumento del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853560" y="1585800"/>
            <a:ext cx="1190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279600" y="1585800"/>
            <a:ext cx="1518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Line 5"/>
          <p:cNvSpPr/>
          <p:nvPr/>
        </p:nvSpPr>
        <p:spPr>
          <a:xfrm flipH="1">
            <a:off x="755280" y="2063880"/>
            <a:ext cx="46980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530360" y="2063880"/>
            <a:ext cx="36828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3346200" y="2063880"/>
            <a:ext cx="3934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044960" y="2063880"/>
            <a:ext cx="3682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153000" y="3186000"/>
            <a:ext cx="760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330200" y="3110040"/>
            <a:ext cx="846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1"/>
          <p:cNvSpPr/>
          <p:nvPr/>
        </p:nvSpPr>
        <p:spPr>
          <a:xfrm flipH="1">
            <a:off x="374760" y="3740040"/>
            <a:ext cx="16488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1987560" y="3664080"/>
            <a:ext cx="368280" cy="67284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-92160" y="4603680"/>
            <a:ext cx="9464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em-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laz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635040" y="4832280"/>
            <a:ext cx="1627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reci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1104840" y="4222800"/>
            <a:ext cx="224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eno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t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768240" y="3740040"/>
            <a:ext cx="292320" cy="9781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1371600" y="3587760"/>
            <a:ext cx="0" cy="1130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2292480" y="1828800"/>
            <a:ext cx="672840" cy="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2456640" y="3110040"/>
            <a:ext cx="118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3988080" y="3110040"/>
            <a:ext cx="101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21"/>
          <p:cNvSpPr/>
          <p:nvPr/>
        </p:nvSpPr>
        <p:spPr>
          <a:xfrm>
            <a:off x="4419720" y="3587760"/>
            <a:ext cx="0" cy="444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4730760" y="3511440"/>
            <a:ext cx="44460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3807720" y="4100400"/>
            <a:ext cx="91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4862880" y="4100400"/>
            <a:ext cx="94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25"/>
          <p:cNvSpPr/>
          <p:nvPr/>
        </p:nvSpPr>
        <p:spPr>
          <a:xfrm>
            <a:off x="4343400" y="4578480"/>
            <a:ext cx="0" cy="36828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2500920" y="5273640"/>
            <a:ext cx="2162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CASH FLOW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Line 27"/>
          <p:cNvSpPr/>
          <p:nvPr/>
        </p:nvSpPr>
        <p:spPr>
          <a:xfrm flipV="1">
            <a:off x="5797440" y="3879720"/>
            <a:ext cx="59688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Line 28"/>
          <p:cNvSpPr/>
          <p:nvPr/>
        </p:nvSpPr>
        <p:spPr>
          <a:xfrm>
            <a:off x="5797440" y="4425840"/>
            <a:ext cx="520920" cy="3682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6248160" y="3490920"/>
            <a:ext cx="1524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re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Rectangle 30"/>
          <p:cNvSpPr/>
          <p:nvPr/>
        </p:nvSpPr>
        <p:spPr>
          <a:xfrm>
            <a:off x="6295320" y="4862520"/>
            <a:ext cx="97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ícl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Rectangle 35"/>
          <p:cNvSpPr/>
          <p:nvPr/>
        </p:nvSpPr>
        <p:spPr>
          <a:xfrm>
            <a:off x="2356920" y="3719520"/>
            <a:ext cx="1383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vidend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Line 36"/>
          <p:cNvSpPr/>
          <p:nvPr/>
        </p:nvSpPr>
        <p:spPr>
          <a:xfrm>
            <a:off x="3124080" y="351144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Line 37"/>
          <p:cNvSpPr/>
          <p:nvPr/>
        </p:nvSpPr>
        <p:spPr>
          <a:xfrm>
            <a:off x="3124080" y="4197240"/>
            <a:ext cx="0" cy="74952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SH FLOW = BENEFICIO(Utilidad) + DEPRECIACION + PREVI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 DE PUNTUALIDAD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H FLOW &gt; Dividendos + Vencimientos de Exigibles de L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PERDIDA DE ROTACION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(Concepto de rotación se ve más adelante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AUMENTAR EXPRESOS VS CICLIC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O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 VENTAS/ACTIV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: Medida de la actividad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: Medida del tamaño, de la invers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uego es una 1ª proxy a medir eficienc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unidad es “Rotaciones” (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pretación: Cuantas veces “da vuelta” el activo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 : 5R ----&gt; Año 2 : 3R ¡ARGGG!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AF VS AC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paro el ratio anterior en : Ventas / AF y Ventas / AC (porque AF y AC no necesariamente se mueven junto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F es una  relación más bien técnica de dimensionamien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C depende de la gestión del circulante y en particular de los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rabajaremos más con V /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VENTAS / STOCKS: Cuántas veces da vuelta el stock en el ciclo stock -&gt; Producto -&gt; Vent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10.000 / 1000 = 10 R &lt;=&gt; Rotó 10 vec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demos calcular 1000 / 10.000 * 365 = 36,5 días: Permanencia media del stock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OJO : El indicador “miente” en empresas con estacionalidades (stocks muy altos o muy bajos al momento de medir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6858000" y="358776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Line 5"/>
          <p:cNvSpPr/>
          <p:nvPr/>
        </p:nvSpPr>
        <p:spPr>
          <a:xfrm flipH="1">
            <a:off x="4336560" y="3809880"/>
            <a:ext cx="25275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4343400" y="3657600"/>
            <a:ext cx="0" cy="14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Line 7"/>
          <p:cNvSpPr/>
          <p:nvPr/>
        </p:nvSpPr>
        <p:spPr>
          <a:xfrm flipV="1">
            <a:off x="4343400" y="3498840"/>
            <a:ext cx="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3-28T15:56:22Z</dcterms:modified>
  <cp:revision>371</cp:revision>
  <dc:subject/>
  <dc:title>Análisis Financiero</dc:title>
</cp:coreProperties>
</file>