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F7BE4-6464-418A-8784-707BB4A9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1A86F-F10A-47B5-9C07-03858B82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0AC51-54C8-44CC-A853-A8B880F6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41350-D908-4166-881F-DBA2E410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018B2-B2FD-407F-9C49-E95750EC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B3820-2559-42A4-AFA7-2DDDF8EE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B8954-EF16-45D7-96F6-CA31FD4A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88A84-1402-4AA7-8DE7-51034CDE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4C4F7-5A5B-48CB-B4BC-DDA0F332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6FF00-0521-463C-B41E-BB531780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45F0F-EF1C-4144-A09D-2CE21E87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865EB-1AAE-4009-B291-69C04888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4ED1-BC7B-402A-AA05-B3251F33B3F7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LIENTE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/ Client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.: 2500 / 10.000 * 365 = 91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to =&gt; Vigilar que no aume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Nuevamente el ratio puede mentir en empresas con estacionalidad en los períodos de cobro a clientes. En ciertos períodos frente a altas compras pueden flexibilizar el plazo. Ej.: Ventas de cuadernos a tiendas en febr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9040" y="228600"/>
            <a:ext cx="416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JO: TES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PRAS / PROVEEDOR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eedores es cuenta de pasivo ¿Conviene que disminuya la rotación medida en vueltas? ( es decir que aumente en número de dí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TALLADA DE STOCK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MP / Utilización de M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PC / Fabric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PA / Ven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da masa patrimonial se compara c/r al flujo de salida hacia el que tiende en el ciclo de madur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5800" y="2666880"/>
            <a:ext cx="220968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teri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05320" y="2666880"/>
            <a:ext cx="220968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duc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Cur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324480" y="2666880"/>
            <a:ext cx="221004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duc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ermin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304920" y="2514600"/>
            <a:ext cx="685800" cy="9144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5" name="Line 6"/>
          <p:cNvSpPr/>
          <p:nvPr/>
        </p:nvSpPr>
        <p:spPr>
          <a:xfrm flipV="1">
            <a:off x="2590920" y="3048120"/>
            <a:ext cx="1143000" cy="22860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2971800" y="2133720"/>
            <a:ext cx="762120" cy="761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5334120" y="2971800"/>
            <a:ext cx="1218960" cy="23623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7848720" y="5257800"/>
            <a:ext cx="9903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685800" y="2209680"/>
            <a:ext cx="220968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3505320" y="2209680"/>
            <a:ext cx="220968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6324480" y="2209680"/>
            <a:ext cx="221004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129240" y="175248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mpra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M. 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1884960" y="514656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Utiliz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M. 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2088360" y="179388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tros Insum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4787280" y="49179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bric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7778880" y="522288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740880" y="6137280"/>
            <a:ext cx="76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: Utilización M. Primas + Otros Insumos = Entradas a Fabric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jempl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2216160" y="2521080"/>
            <a:ext cx="4021200" cy="35733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205160" y="2521080"/>
            <a:ext cx="0" cy="36226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650120" y="2697120"/>
            <a:ext cx="125820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/P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2468520" y="2687760"/>
            <a:ext cx="113976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LIENT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4267080" y="3429000"/>
            <a:ext cx="2030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4267080" y="4419720"/>
            <a:ext cx="2030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49840" y="4648320"/>
            <a:ext cx="128268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ermanen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2292480" y="3505320"/>
            <a:ext cx="18921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2829240" y="3567240"/>
            <a:ext cx="591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P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Line 13"/>
          <p:cNvSpPr/>
          <p:nvPr/>
        </p:nvSpPr>
        <p:spPr>
          <a:xfrm>
            <a:off x="2216160" y="4038480"/>
            <a:ext cx="1968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2829240" y="4100400"/>
            <a:ext cx="59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PC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2216160" y="4572000"/>
            <a:ext cx="1968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Line 16"/>
          <p:cNvSpPr/>
          <p:nvPr/>
        </p:nvSpPr>
        <p:spPr>
          <a:xfrm>
            <a:off x="2216160" y="5105520"/>
            <a:ext cx="20448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902160" y="349092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902160" y="394812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825840" y="448164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6256440" y="2590920"/>
            <a:ext cx="2574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cimiento med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nderado : 5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2743200" y="5105520"/>
            <a:ext cx="163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Rectangle 22"/>
          <p:cNvSpPr/>
          <p:nvPr/>
        </p:nvSpPr>
        <p:spPr>
          <a:xfrm>
            <a:off x="2819520" y="4648320"/>
            <a:ext cx="7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M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Rectangle 23"/>
          <p:cNvSpPr/>
          <p:nvPr/>
        </p:nvSpPr>
        <p:spPr>
          <a:xfrm>
            <a:off x="983160" y="25909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4495680" y="373536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liquidez en 160 día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exigibilidad en 50 dí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Tiende a la impuntualidad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necesariamente, hay que analiza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ánto de clientes se puede cobrar en los próximos 50 dí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ánto de la deuda vence en los próximos 50 dí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upongamos qu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lientes deben 100 Millones para los próximos 100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 Millón de “$ diari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deudamos 50 millones para los próximos 50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 Millón de “$ diari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alogía: Es una empresa de alta capacidad  (solvencia de capacidad) y baja rotación &lt;=&gt; Río ancho y poco caud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us problemas no son de puntualidad si no de crecimiento ¿Cómo aumentar ventas sin que se afecten las rotaciones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on sumables en dí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ermanencia media de activo=(Act./V)*365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./V = (S+C+D+AF)/V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uego Act./V*365= Permanencia media de stocks+plazo de cobro a clientes+ días-venta de saldo de caja+ permanencia media del 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49276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</a:t>
            </a: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medida de la solvencia como puntua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oncepto de rot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l Activo Fijo y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 Stocks, Clientes y 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medida de la solvencia de puntua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hay ratios para medirl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recimiento comercial y mantención de niveles =&gt; Aumento del activo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no se logra mantener la velocidad de rotación del AC ( mantener su tendencia a la liquidez) =&gt;  Aumento del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853560" y="1585800"/>
            <a:ext cx="1190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279600" y="1585800"/>
            <a:ext cx="1518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Line 5"/>
          <p:cNvSpPr/>
          <p:nvPr/>
        </p:nvSpPr>
        <p:spPr>
          <a:xfrm flipH="1">
            <a:off x="755280" y="2063880"/>
            <a:ext cx="469800" cy="8254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530360" y="2063880"/>
            <a:ext cx="368280" cy="8254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7"/>
          <p:cNvSpPr/>
          <p:nvPr/>
        </p:nvSpPr>
        <p:spPr>
          <a:xfrm flipH="1">
            <a:off x="3346200" y="2063880"/>
            <a:ext cx="393480" cy="977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Line 8"/>
          <p:cNvSpPr/>
          <p:nvPr/>
        </p:nvSpPr>
        <p:spPr>
          <a:xfrm>
            <a:off x="4044960" y="2063880"/>
            <a:ext cx="368280" cy="977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153000" y="3186000"/>
            <a:ext cx="760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330200" y="3110040"/>
            <a:ext cx="846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11"/>
          <p:cNvSpPr/>
          <p:nvPr/>
        </p:nvSpPr>
        <p:spPr>
          <a:xfrm flipH="1">
            <a:off x="374760" y="3740040"/>
            <a:ext cx="164880" cy="5209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1987560" y="3664080"/>
            <a:ext cx="368280" cy="67284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-92160" y="4603680"/>
            <a:ext cx="94644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em-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laz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635040" y="4832280"/>
            <a:ext cx="1627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reci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1104840" y="4222800"/>
            <a:ext cx="224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Meno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ot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768240" y="3740040"/>
            <a:ext cx="292320" cy="9781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1371600" y="3587760"/>
            <a:ext cx="0" cy="11304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2292480" y="1828800"/>
            <a:ext cx="672840" cy="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2456640" y="3110040"/>
            <a:ext cx="118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3988080" y="3110040"/>
            <a:ext cx="101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21"/>
          <p:cNvSpPr/>
          <p:nvPr/>
        </p:nvSpPr>
        <p:spPr>
          <a:xfrm>
            <a:off x="4419720" y="3587760"/>
            <a:ext cx="0" cy="444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4730760" y="3511440"/>
            <a:ext cx="444600" cy="5209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3807720" y="4100400"/>
            <a:ext cx="91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4862880" y="4100400"/>
            <a:ext cx="94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Line 25"/>
          <p:cNvSpPr/>
          <p:nvPr/>
        </p:nvSpPr>
        <p:spPr>
          <a:xfrm>
            <a:off x="4343400" y="4578480"/>
            <a:ext cx="0" cy="36828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2500920" y="5273640"/>
            <a:ext cx="2162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CASH FLOW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Line 27"/>
          <p:cNvSpPr/>
          <p:nvPr/>
        </p:nvSpPr>
        <p:spPr>
          <a:xfrm flipV="1">
            <a:off x="5797440" y="3879720"/>
            <a:ext cx="596880" cy="3175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Line 28"/>
          <p:cNvSpPr/>
          <p:nvPr/>
        </p:nvSpPr>
        <p:spPr>
          <a:xfrm>
            <a:off x="5797440" y="4425840"/>
            <a:ext cx="520920" cy="3682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29"/>
          <p:cNvSpPr/>
          <p:nvPr/>
        </p:nvSpPr>
        <p:spPr>
          <a:xfrm>
            <a:off x="6248160" y="3490920"/>
            <a:ext cx="1524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c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pre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Rectangle 30"/>
          <p:cNvSpPr/>
          <p:nvPr/>
        </p:nvSpPr>
        <p:spPr>
          <a:xfrm>
            <a:off x="6295320" y="4862520"/>
            <a:ext cx="97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ícl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Rectangle 35"/>
          <p:cNvSpPr/>
          <p:nvPr/>
        </p:nvSpPr>
        <p:spPr>
          <a:xfrm>
            <a:off x="2356920" y="3719520"/>
            <a:ext cx="1383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vidend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Line 36"/>
          <p:cNvSpPr/>
          <p:nvPr/>
        </p:nvSpPr>
        <p:spPr>
          <a:xfrm>
            <a:off x="3124080" y="3511440"/>
            <a:ext cx="0" cy="21600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Line 37"/>
          <p:cNvSpPr/>
          <p:nvPr/>
        </p:nvSpPr>
        <p:spPr>
          <a:xfrm>
            <a:off x="3124080" y="4197240"/>
            <a:ext cx="0" cy="74952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SH FLOW = BENEFICIO(Utilidad) + DEPRECIACION + PREVISI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 DE PUNTUALIDAD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H FLOW &gt; Dividendos + Vencimientos de Exigibles de L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ITAR PERDIDA DE ROTACION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(Concepto de rotación se ve más adelante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ITAR AUMENTAR EXPRESOS VS CICLIC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ONCEPTO DE ROTACIO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 VENTAS/ACTIV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: Medida de la actividad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: Medida del tamaño, de la invers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uego es una 1ª proxy a medir eficienc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unidad es “Rotaciones” (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pretación: Cuantas veces “da vuelta” el activo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 : 5R ----&gt; Año 2 : 3R ¡ARGGG!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 AF VS AC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paro el ratio anterior en : Ventas / AF y Ventas / AC (porque AF y AC no necesariamente se mueven junto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 / AF es una  relación más bien técnica de dimensionamien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 / AC depende de la gestión del circulante y en particular de los client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rabajaremos más con V /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 STOCKS, CLIENTES Y 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VENTAS / STOCKS: Cuántas veces da vuelta el stock en el ciclo stock -&gt; Producto -&gt; Vent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10.000 / 1000 = 10 R &lt;=&gt; Rotó 10 vec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demos calcular 1000 / 10.000 * 365 = 36,5 días: Permanencia media del stock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OJO : El indicador “miente” en empresas con estacionalidades (stocks muy altos o muy bajos al momento de medir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6858000" y="3587760"/>
            <a:ext cx="0" cy="216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Line 5"/>
          <p:cNvSpPr/>
          <p:nvPr/>
        </p:nvSpPr>
        <p:spPr>
          <a:xfrm flipH="1">
            <a:off x="4336560" y="3809880"/>
            <a:ext cx="25275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4343400" y="3657600"/>
            <a:ext cx="0" cy="14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Line 7"/>
          <p:cNvSpPr/>
          <p:nvPr/>
        </p:nvSpPr>
        <p:spPr>
          <a:xfrm flipV="1">
            <a:off x="4343400" y="3498840"/>
            <a:ext cx="0" cy="3175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3-28T15:56:22Z</dcterms:modified>
  <cp:revision>371</cp:revision>
  <dc:subject/>
  <dc:title>Análisis Financiero</dc:title>
</cp:coreProperties>
</file>