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AEDE3-9939-458F-A924-FF393F99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179AA4-6E83-4C26-82C2-CB4019010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44BCA-08F1-438C-B9E7-186A49FE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0DEFF-0292-4ADD-9D38-6B9ABE5A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62859F-4508-4E3B-8F2E-EFAE02A3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95FE3-00B8-4020-A0B0-B0B358ED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C101F-D58A-4C01-8D6C-F5853415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A918E-DBD7-4A5D-8517-15FEFAAE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DF3F2-9A4E-4B30-820D-9DD66F6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C9F31-5038-4A6F-8163-037F3830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6E831C-CF22-4FA4-94E5-C914EF7C3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8F6EB3-A216-4D14-8966-6D23176A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519E-80E2-4007-8C12-5F2E1962749F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LIENT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 /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2500 / 10.000 * 365 = 91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lto =&gt; Vigilar que no aume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Nuevamente el ratio puede mentir en empresas con estacionalidad en los períodos de cobro a clientes. En ciertos períodos frente a altas compras pueden flexibilizar el plazo. Ej.: Ventas de cuadernos a tiendas en febr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9040" y="228600"/>
            <a:ext cx="416592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OJO: TEST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PRAS / PROVEEDOR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eedores es cuenta de pasivo ¿Conviene que disminuya la rotación medida en vueltas? ( es decir que aumente en número de dí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TALLADA DE STOCK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MP / Utilización de M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C / Fabric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 PA / Ven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da masa patrimonial se compara c/r al flujo de salida hacia el que tiende en el ciclo de madur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68580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Materi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05320" y="2666880"/>
            <a:ext cx="220968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Cur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6324480" y="2666880"/>
            <a:ext cx="2210040" cy="2895840"/>
          </a:xfrm>
          <a:prstGeom prst="rect">
            <a:avLst/>
          </a:prstGeom>
          <a:solidFill>
            <a:srgbClr val="00b0f0"/>
          </a:solidFill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de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duc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Terminad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304920" y="2514600"/>
            <a:ext cx="685800" cy="914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2590920" y="3048120"/>
            <a:ext cx="1143000" cy="22860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2971800" y="2133720"/>
            <a:ext cx="762120" cy="761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334120" y="2971800"/>
            <a:ext cx="1218960" cy="23623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7848720" y="5257800"/>
            <a:ext cx="990360" cy="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68580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3505320" y="2209680"/>
            <a:ext cx="220968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6324480" y="2209680"/>
            <a:ext cx="2210040" cy="457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29240" y="175248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ompras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1884960" y="5146560"/>
            <a:ext cx="158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Utiliz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M. Prim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2088360" y="179388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tros Insum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4787280" y="491796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7778880" y="5222880"/>
            <a:ext cx="90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740880" y="6137280"/>
            <a:ext cx="76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Utilización M. Primas + Otros Insumos = Entradas a Fabric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jempl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2216160" y="2521080"/>
            <a:ext cx="4021200" cy="3573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205160" y="2521080"/>
            <a:ext cx="0" cy="362268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4650120" y="2697120"/>
            <a:ext cx="125820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2468520" y="2687760"/>
            <a:ext cx="1139760" cy="7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LIENT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Line 8"/>
          <p:cNvSpPr/>
          <p:nvPr/>
        </p:nvSpPr>
        <p:spPr>
          <a:xfrm>
            <a:off x="4267080" y="342900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Line 9"/>
          <p:cNvSpPr/>
          <p:nvPr/>
        </p:nvSpPr>
        <p:spPr>
          <a:xfrm>
            <a:off x="4267080" y="4419720"/>
            <a:ext cx="2030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49840" y="4648320"/>
            <a:ext cx="12826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Capitales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Permanen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Line 11"/>
          <p:cNvSpPr/>
          <p:nvPr/>
        </p:nvSpPr>
        <p:spPr>
          <a:xfrm>
            <a:off x="2292480" y="3505320"/>
            <a:ext cx="1892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2829240" y="3567240"/>
            <a:ext cx="591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Line 13"/>
          <p:cNvSpPr/>
          <p:nvPr/>
        </p:nvSpPr>
        <p:spPr>
          <a:xfrm>
            <a:off x="2216160" y="403848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2829240" y="4100400"/>
            <a:ext cx="590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PC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2216160" y="4572000"/>
            <a:ext cx="1968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1" name="Line 16"/>
          <p:cNvSpPr/>
          <p:nvPr/>
        </p:nvSpPr>
        <p:spPr>
          <a:xfrm>
            <a:off x="2216160" y="5105520"/>
            <a:ext cx="20448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Rectangle 17"/>
          <p:cNvSpPr/>
          <p:nvPr/>
        </p:nvSpPr>
        <p:spPr>
          <a:xfrm>
            <a:off x="902160" y="34909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902160" y="394812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825840" y="4481640"/>
            <a:ext cx="94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256440" y="2590920"/>
            <a:ext cx="2574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 med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nderado : 5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Rectangle 21"/>
          <p:cNvSpPr/>
          <p:nvPr/>
        </p:nvSpPr>
        <p:spPr>
          <a:xfrm>
            <a:off x="2743200" y="5105520"/>
            <a:ext cx="163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Fijo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819520" y="4648320"/>
            <a:ext cx="79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M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Rectangle 23"/>
          <p:cNvSpPr/>
          <p:nvPr/>
        </p:nvSpPr>
        <p:spPr>
          <a:xfrm>
            <a:off x="983160" y="25909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00 día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Rectangle 24"/>
          <p:cNvSpPr/>
          <p:nvPr/>
        </p:nvSpPr>
        <p:spPr>
          <a:xfrm>
            <a:off x="4495680" y="373536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Exigible 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d4d4d"/>
                </a:solidFill>
                <a:latin typeface="Verdana"/>
              </a:rPr>
              <a:t>L/P</a:t>
            </a:r>
            <a:endParaRPr b="0" lang="en-US" sz="22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n 160 día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exigibilidad en 50 dí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impuntua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necesariamente, hay que analizar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clientes se puede cobrar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uánto de la deuda vence en los próximos 50 dí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upongamos qu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lientes deben 100 Millones para los próximos 10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deudamos 50 millones para los próximos 50 dí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 Millón de “$ diarios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nalogía: Es una empresa de alta capacidad  (solvencia de capacidad) y baja rotación &lt;=&gt; Río ancho y poco caud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s problemas no son de puntualidad si no de crecimiento ¿Cómo aumentar ventas sin que se afecten las rotaciones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on sumables en días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SI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ermanencia media de activo=(Act./V)*36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ct./V = (S+C+D+AF)/V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uego Act./V*365= Permanencia media de stocks+plazo de cobro a clientes+ días-venta de saldo de caja+ permanencia media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52480" y="228600"/>
            <a:ext cx="492768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</a:t>
            </a: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como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l Activo Fijo y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medida de la solvencia de puntualidad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ratios para medirl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recimiento comercial y mantención de niveles =&gt; Aumento del 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no se logra mantener la velocidad de rotación del AC ( mantener su tendencia a la liquidez) =&gt;  Aumento del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853560" y="1585800"/>
            <a:ext cx="1190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Invers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279600" y="1585800"/>
            <a:ext cx="1518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inanciació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 flipH="1">
            <a:off x="755280" y="2063880"/>
            <a:ext cx="46980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530360" y="2063880"/>
            <a:ext cx="368280" cy="8254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 flipH="1">
            <a:off x="3346200" y="2063880"/>
            <a:ext cx="3934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Line 8"/>
          <p:cNvSpPr/>
          <p:nvPr/>
        </p:nvSpPr>
        <p:spPr>
          <a:xfrm>
            <a:off x="4044960" y="2063880"/>
            <a:ext cx="368280" cy="97776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153000" y="3186000"/>
            <a:ext cx="760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F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330200" y="3110040"/>
            <a:ext cx="846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374760" y="3740040"/>
            <a:ext cx="16488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1987560" y="3664080"/>
            <a:ext cx="368280" cy="67284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-92160" y="4603680"/>
            <a:ext cx="9464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eem-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laz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635040" y="4832280"/>
            <a:ext cx="1627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Crecimiento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1104840" y="4222800"/>
            <a:ext cx="22464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Menor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rotació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768240" y="3740040"/>
            <a:ext cx="292320" cy="9781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1371600" y="3587760"/>
            <a:ext cx="0" cy="11304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292480" y="1828800"/>
            <a:ext cx="672840" cy="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2456640" y="3110040"/>
            <a:ext cx="1182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20"/>
          <p:cNvSpPr/>
          <p:nvPr/>
        </p:nvSpPr>
        <p:spPr>
          <a:xfrm>
            <a:off x="3988080" y="3110040"/>
            <a:ext cx="1016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4419720" y="3587760"/>
            <a:ext cx="0" cy="44460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4730760" y="3511440"/>
            <a:ext cx="444600" cy="5209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23"/>
          <p:cNvSpPr/>
          <p:nvPr/>
        </p:nvSpPr>
        <p:spPr>
          <a:xfrm>
            <a:off x="3807720" y="4100400"/>
            <a:ext cx="91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L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24"/>
          <p:cNvSpPr/>
          <p:nvPr/>
        </p:nvSpPr>
        <p:spPr>
          <a:xfrm>
            <a:off x="4862880" y="4100400"/>
            <a:ext cx="943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 C.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343400" y="4578480"/>
            <a:ext cx="0" cy="36828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Rectangle 26"/>
          <p:cNvSpPr/>
          <p:nvPr/>
        </p:nvSpPr>
        <p:spPr>
          <a:xfrm>
            <a:off x="2500920" y="5273640"/>
            <a:ext cx="2162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CASH FLOW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Line 27"/>
          <p:cNvSpPr/>
          <p:nvPr/>
        </p:nvSpPr>
        <p:spPr>
          <a:xfrm flipV="1">
            <a:off x="5797440" y="3879720"/>
            <a:ext cx="59688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797440" y="4425840"/>
            <a:ext cx="520920" cy="36828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6248160" y="3490920"/>
            <a:ext cx="15242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Venci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pres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30"/>
          <p:cNvSpPr/>
          <p:nvPr/>
        </p:nvSpPr>
        <p:spPr>
          <a:xfrm>
            <a:off x="6295320" y="4862520"/>
            <a:ext cx="97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ícl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Rectangle 35"/>
          <p:cNvSpPr/>
          <p:nvPr/>
        </p:nvSpPr>
        <p:spPr>
          <a:xfrm>
            <a:off x="2356920" y="3719520"/>
            <a:ext cx="1383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vidend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Line 36"/>
          <p:cNvSpPr/>
          <p:nvPr/>
        </p:nvSpPr>
        <p:spPr>
          <a:xfrm>
            <a:off x="3124080" y="351144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Line 37"/>
          <p:cNvSpPr/>
          <p:nvPr/>
        </p:nvSpPr>
        <p:spPr>
          <a:xfrm>
            <a:off x="3124080" y="4197240"/>
            <a:ext cx="0" cy="749520"/>
          </a:xfrm>
          <a:prstGeom prst="line">
            <a:avLst/>
          </a:prstGeom>
          <a:ln w="12600">
            <a:solidFill>
              <a:srgbClr val="4d4d4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SH FLOW = BENEFICIO(Utilidad) + DEPRECIACION + PREVISION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INDICADOR DE PUNTUALIDAD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H FLOW &gt; Dividendos + Vencimientos de Exigibles de L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PERDIDA DE ROTACION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(Concepto de rotación se ve más adelante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VITAR AUMENTAR EXPRESOS VS CICLICOS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L CONCEPTO DE ROTACIO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VENTAS/ACTIV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entas: Medida de la actividad de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: Medida del tamaño, de la invers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uego es una 1ª proxy a medir eficienci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unidad es “Rotaciones” (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pretación: Cuantas veces “da vuelta” el activo.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ño 1 : 5R ----&gt; Año 2 : 3R ¡ARGGG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AF VS AC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paro el ratio anterior en : Ventas / AF y Ventas / AC (porque AF y AC no necesariamente se mueven junto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F es una  relación más bien técnica de dimension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V / AC depende de la gestión del circulante y en particular de los client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Trabajaremos más con V /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ON DE STOCKS, CLIENTES Y PROVEEDORE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TOCK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VENTAS / STOCKS: Cuántas veces da vuelta el stock en el ciclo stock -&gt; Producto -&gt; Vent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J.: 10.000 / 1000 = 10 R &lt;=&gt; Rotó 10 vec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Podemos calcular 1000 / 10.000 * 365 = 36,5 días: Permanencia media del stock en la empresa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OJO : El indicador “miente” en empresas con estacionalidades (stocks muy altos o muy bajos al momento de medir)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4"/>
          <p:cNvSpPr/>
          <p:nvPr/>
        </p:nvSpPr>
        <p:spPr>
          <a:xfrm>
            <a:off x="6858000" y="3587760"/>
            <a:ext cx="0" cy="216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Line 5"/>
          <p:cNvSpPr/>
          <p:nvPr/>
        </p:nvSpPr>
        <p:spPr>
          <a:xfrm flipH="1">
            <a:off x="4336560" y="3809880"/>
            <a:ext cx="25275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4343400" y="3657600"/>
            <a:ext cx="0" cy="144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Line 7"/>
          <p:cNvSpPr/>
          <p:nvPr/>
        </p:nvSpPr>
        <p:spPr>
          <a:xfrm flipV="1">
            <a:off x="4343400" y="3498840"/>
            <a:ext cx="0" cy="317520"/>
          </a:xfrm>
          <a:prstGeom prst="line">
            <a:avLst/>
          </a:prstGeom>
          <a:ln w="12600">
            <a:solidFill>
              <a:srgbClr val="4d4d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8600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DE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CIRCULANTE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3-28T15:56:22Z</dcterms:modified>
  <cp:revision>371</cp:revision>
  <dc:subject/>
  <dc:title>Análisis Financiero</dc:title>
</cp:coreProperties>
</file>