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72334-9749-4ED6-AF9A-3675184A7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63CAB-050F-4E84-B29D-0C7B80DA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3FD10-9CE9-409F-A0E7-9CEA841F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5699A-A6C9-4324-8175-CEB80FCA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3862A-9EEB-47DC-8F8F-7FF38276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5CE05-81DC-48DF-8CA6-89A65848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C0354-E89A-4A33-B431-ACBD55BE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A9AF6-36C5-4D50-A315-33EEF5BE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D1587-1F21-4BC2-A84E-8891A7C0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EAF8D-ECB7-46C0-A31C-98375BF2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71764-2D48-401A-A333-DB10F0D80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DA32F-786A-4CBC-A424-1226A1304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B5CF-A352-4E9C-BAF6-9602277C0C46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4000" y="1828440"/>
            <a:ext cx="800244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olvencia Corriente ( o de Funcionamiento 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preocupa de la capacidad que tiene el Activo Circulante para hacer frente al Pasivo Circulante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 los casos que el Activo circulante supera al Pasivo Circulante, nos permite mayor endeudamiento o garantiza pérdida de valor del activ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394560" indent="-3945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 algn="just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Una primera idea de buena Gestión Financiera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 algn="just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planteo financiero correcto de la empresa supone atender al Pasivo Circulante con la transformación corriente del Activo Circulante, y atender a los créditos de Largo Plazo con beneficios no distribuidos, o bien con fondos procedentes de Depreciación, en el caso que el crédito esté financiando reposiciones de Activo Fijo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99240" indent="-3992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didas de la Solvencia Corrient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Fondo de Maniobra=Capital de Tra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finición 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quella porción del Activo Circulante financiada por Capitales Permanentes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4" marL="1779480" indent="-338400">
              <a:spcBef>
                <a:spcPts val="624"/>
              </a:spcBef>
              <a:buClr>
                <a:srgbClr val="cc0000"/>
              </a:buClr>
              <a:buSzPct val="60000"/>
              <a:buFont typeface="Verdana"/>
              <a:buChar char=" 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               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ó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tivo Circulante menos Pasivo Circulante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didas de la Solvencia Corrient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Fondo de Maniobr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6244560" y="5548320"/>
            <a:ext cx="1076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/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610160" y="3435480"/>
            <a:ext cx="2847960" cy="2835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6019920" y="3435480"/>
            <a:ext cx="0" cy="28828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4578480" y="4495680"/>
            <a:ext cx="14349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6026040" y="4724280"/>
            <a:ext cx="14353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6026040" y="5562720"/>
            <a:ext cx="14353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4753080" y="3567240"/>
            <a:ext cx="10112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4697640" y="4786200"/>
            <a:ext cx="1272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6201000" y="3643200"/>
            <a:ext cx="1162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pio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6320520" y="4710240"/>
            <a:ext cx="1076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/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Line 14"/>
          <p:cNvSpPr/>
          <p:nvPr/>
        </p:nvSpPr>
        <p:spPr>
          <a:xfrm flipH="1">
            <a:off x="3346560" y="4495680"/>
            <a:ext cx="1231920" cy="0"/>
          </a:xfrm>
          <a:prstGeom prst="line">
            <a:avLst/>
          </a:prstGeom>
          <a:ln w="1260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Line 15"/>
          <p:cNvSpPr/>
          <p:nvPr/>
        </p:nvSpPr>
        <p:spPr>
          <a:xfrm flipH="1">
            <a:off x="3346200" y="5562720"/>
            <a:ext cx="2679480" cy="0"/>
          </a:xfrm>
          <a:prstGeom prst="line">
            <a:avLst/>
          </a:prstGeom>
          <a:ln w="1260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3359160" y="4502160"/>
            <a:ext cx="216000" cy="1054080"/>
          </a:xfrm>
          <a:prstGeom prst="rect">
            <a:avLst/>
          </a:prstGeom>
          <a:solidFill>
            <a:srgbClr val="a3b2c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1676160" y="4405320"/>
            <a:ext cx="1219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ond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aniobr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79280" y="1371240"/>
            <a:ext cx="85075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7000"/>
          </a:bodyPr>
          <a:p>
            <a:pPr marL="267480" indent="-2674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17320" indent="-248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didas de la Solvencia Corrient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743760" indent="-2250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Fondo de Maniobra 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965160" indent="-22068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i es positivo, es porque el Activo Circulante cubre el Pasivo Circulante y deja todavía un fondo que no es exigible al corto plazo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965160" indent="-22068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i es positivo, es porque estoy financiando una parte del Activo Circulante con Exigible de Largo Plazo o con Capital Propio. Lo anterior es razonable en la medida que los pasivos circulantes cíclicos no financian aumentos transitorios de Activo Circulante (puntas, pedidos extras, etc.), y el uso de recursos expresos es peligroso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89880" indent="-3898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89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 algn="just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l iniciar una actividad comercial y/o industrial no basta con plantear las necesidades de capitales propios o permanentes en función solamente del Activo Fijo necesario, sino también del Fondo de Maniobra que se origine después de utilizar la financiación espontánea ó cíclic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12720" y="2500200"/>
            <a:ext cx="7691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4d4d4d"/>
              </a:buClr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Una segunda idea de buena Gestión Financiera 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50560" y="1371240"/>
            <a:ext cx="843588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375840" indent="-375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044000" indent="-316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lgunas ideas sobre el Fondo de Maniobra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355040" indent="-30960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Que el Fondo de Maniobra sea positivo, no quiere decir que la empresa tenga Solvencia de Puntualidad, ya que su rotación de circulante puede ser muy lenta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355040" indent="-30960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Que el Fondo de Maniobra sea negativo no quiere decir que la empresa sea Insolvente, pero pondría un poco nervioso a los acreedores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355040" indent="-30960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Fondo de Maniobra por sí sólo no dice nada, hay que relativizarlo en función de otra información, como el tamaño de la empresa, importancia de su Activo y de su Pasivo Circulante, naturaleza de la actividad empresarial, etc.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105840" y="2881440"/>
            <a:ext cx="4383720" cy="2801880"/>
            <a:chOff x="105840" y="2881440"/>
            <a:chExt cx="4383720" cy="2801880"/>
          </a:xfrm>
        </p:grpSpPr>
        <p:sp>
          <p:nvSpPr>
            <p:cNvPr id="132" name="Rectangle 5"/>
            <p:cNvSpPr/>
            <p:nvPr/>
          </p:nvSpPr>
          <p:spPr>
            <a:xfrm>
              <a:off x="157320" y="3328920"/>
              <a:ext cx="2046240" cy="229392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3" name="Line 6"/>
            <p:cNvSpPr/>
            <p:nvPr/>
          </p:nvSpPr>
          <p:spPr>
            <a:xfrm flipH="1">
              <a:off x="1162080" y="3328920"/>
              <a:ext cx="14400" cy="2325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4" name="Line 7"/>
            <p:cNvSpPr/>
            <p:nvPr/>
          </p:nvSpPr>
          <p:spPr>
            <a:xfrm>
              <a:off x="189000" y="421308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5" name="Rectangle 8"/>
            <p:cNvSpPr/>
            <p:nvPr/>
          </p:nvSpPr>
          <p:spPr>
            <a:xfrm>
              <a:off x="2443320" y="3328920"/>
              <a:ext cx="2046240" cy="229392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6" name="Line 9"/>
            <p:cNvSpPr/>
            <p:nvPr/>
          </p:nvSpPr>
          <p:spPr>
            <a:xfrm flipH="1">
              <a:off x="3448080" y="3328920"/>
              <a:ext cx="14400" cy="2325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7" name="Line 10"/>
            <p:cNvSpPr/>
            <p:nvPr/>
          </p:nvSpPr>
          <p:spPr>
            <a:xfrm>
              <a:off x="2475000" y="421308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8" name="Rectangle 11"/>
            <p:cNvSpPr/>
            <p:nvPr/>
          </p:nvSpPr>
          <p:spPr>
            <a:xfrm>
              <a:off x="696240" y="2881440"/>
              <a:ext cx="89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aso 1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9" name="Rectangle 12"/>
            <p:cNvSpPr/>
            <p:nvPr/>
          </p:nvSpPr>
          <p:spPr>
            <a:xfrm>
              <a:off x="2982240" y="2881440"/>
              <a:ext cx="89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aso 2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0" name="Line 13"/>
            <p:cNvSpPr/>
            <p:nvPr/>
          </p:nvSpPr>
          <p:spPr>
            <a:xfrm>
              <a:off x="189000" y="451800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1" name="Line 14"/>
            <p:cNvSpPr/>
            <p:nvPr/>
          </p:nvSpPr>
          <p:spPr>
            <a:xfrm>
              <a:off x="1179360" y="4594320"/>
              <a:ext cx="9748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2" name="Line 15"/>
            <p:cNvSpPr/>
            <p:nvPr/>
          </p:nvSpPr>
          <p:spPr>
            <a:xfrm>
              <a:off x="189000" y="528012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3" name="Line 16"/>
            <p:cNvSpPr/>
            <p:nvPr/>
          </p:nvSpPr>
          <p:spPr>
            <a:xfrm>
              <a:off x="2475000" y="512748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4" name="Line 17"/>
            <p:cNvSpPr/>
            <p:nvPr/>
          </p:nvSpPr>
          <p:spPr>
            <a:xfrm>
              <a:off x="3465360" y="4594320"/>
              <a:ext cx="9748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5" name="Line 18"/>
            <p:cNvSpPr/>
            <p:nvPr/>
          </p:nvSpPr>
          <p:spPr>
            <a:xfrm>
              <a:off x="2475000" y="535608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6" name="Rectangle 19"/>
            <p:cNvSpPr/>
            <p:nvPr/>
          </p:nvSpPr>
          <p:spPr>
            <a:xfrm>
              <a:off x="401400" y="3567240"/>
              <a:ext cx="568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F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7" name="Rectangle 20"/>
            <p:cNvSpPr/>
            <p:nvPr/>
          </p:nvSpPr>
          <p:spPr>
            <a:xfrm>
              <a:off x="2687400" y="3567240"/>
              <a:ext cx="568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F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8" name="Rectangle 21"/>
            <p:cNvSpPr/>
            <p:nvPr/>
          </p:nvSpPr>
          <p:spPr>
            <a:xfrm>
              <a:off x="3745800" y="3567240"/>
              <a:ext cx="58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.P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9" name="Rectangle 22"/>
            <p:cNvSpPr/>
            <p:nvPr/>
          </p:nvSpPr>
          <p:spPr>
            <a:xfrm>
              <a:off x="1383840" y="3567240"/>
              <a:ext cx="58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.P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0" name="Rectangle 23"/>
            <p:cNvSpPr/>
            <p:nvPr/>
          </p:nvSpPr>
          <p:spPr>
            <a:xfrm>
              <a:off x="1383840" y="4862520"/>
              <a:ext cx="58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.C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1" name="Rectangle 24"/>
            <p:cNvSpPr/>
            <p:nvPr/>
          </p:nvSpPr>
          <p:spPr>
            <a:xfrm>
              <a:off x="3669840" y="4786200"/>
              <a:ext cx="58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.C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2" name="Rectangle 25"/>
            <p:cNvSpPr/>
            <p:nvPr/>
          </p:nvSpPr>
          <p:spPr>
            <a:xfrm>
              <a:off x="175320" y="4168800"/>
              <a:ext cx="868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3" name="Rectangle 26"/>
            <p:cNvSpPr/>
            <p:nvPr/>
          </p:nvSpPr>
          <p:spPr>
            <a:xfrm>
              <a:off x="2537640" y="4473720"/>
              <a:ext cx="868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4" name="Rectangle 27"/>
            <p:cNvSpPr/>
            <p:nvPr/>
          </p:nvSpPr>
          <p:spPr>
            <a:xfrm>
              <a:off x="121320" y="4756320"/>
              <a:ext cx="1130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4d4d4d"/>
                  </a:solidFill>
                  <a:latin typeface="Verdana"/>
                </a:rPr>
                <a:t>Clientes</a:t>
              </a:r>
              <a:endParaRPr b="0" lang="en-US" sz="2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5" name="Rectangle 28"/>
            <p:cNvSpPr/>
            <p:nvPr/>
          </p:nvSpPr>
          <p:spPr>
            <a:xfrm>
              <a:off x="2407320" y="5060880"/>
              <a:ext cx="1130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4d4d4d"/>
                  </a:solidFill>
                  <a:latin typeface="Verdana"/>
                </a:rPr>
                <a:t>Clientes</a:t>
              </a:r>
              <a:endParaRPr b="0" lang="en-US" sz="2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6" name="Rectangle 29"/>
            <p:cNvSpPr/>
            <p:nvPr/>
          </p:nvSpPr>
          <p:spPr>
            <a:xfrm>
              <a:off x="105840" y="528948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4d4d4d"/>
                  </a:solidFill>
                  <a:latin typeface="Verdana"/>
                </a:rPr>
                <a:t>Disponi.</a:t>
              </a:r>
              <a:endParaRPr b="0" lang="en-US" sz="2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7" name="Rectangle 30"/>
            <p:cNvSpPr/>
            <p:nvPr/>
          </p:nvSpPr>
          <p:spPr>
            <a:xfrm>
              <a:off x="2391840" y="528948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4d4d4d"/>
                  </a:solidFill>
                  <a:latin typeface="Verdana"/>
                </a:rPr>
                <a:t>Disponi.</a:t>
              </a:r>
              <a:endParaRPr b="0" lang="en-US" sz="20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58" name="Rectangle 31"/>
          <p:cNvSpPr/>
          <p:nvPr/>
        </p:nvSpPr>
        <p:spPr>
          <a:xfrm>
            <a:off x="3647160" y="2073240"/>
            <a:ext cx="1697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¿Qué tal?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9" name="Rectangle 32"/>
          <p:cNvSpPr/>
          <p:nvPr/>
        </p:nvSpPr>
        <p:spPr>
          <a:xfrm>
            <a:off x="4938840" y="3186000"/>
            <a:ext cx="382536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Fondos de Maniobra Iguales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aso 1 : hay que ver la calidad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los clientes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aso 2 : Hay que ver que hay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stocks ( productos de moda,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bsoletos, si son liquidables,etc.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57320" y="3328920"/>
            <a:ext cx="2046240" cy="22939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Line 5"/>
          <p:cNvSpPr/>
          <p:nvPr/>
        </p:nvSpPr>
        <p:spPr>
          <a:xfrm flipH="1">
            <a:off x="1162080" y="3328920"/>
            <a:ext cx="14400" cy="23256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189000" y="3908520"/>
            <a:ext cx="9745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2443320" y="3328920"/>
            <a:ext cx="2046240" cy="22939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6" name="Line 8"/>
          <p:cNvSpPr/>
          <p:nvPr/>
        </p:nvSpPr>
        <p:spPr>
          <a:xfrm flipH="1">
            <a:off x="3448080" y="3328920"/>
            <a:ext cx="14400" cy="23256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2475000" y="4822920"/>
            <a:ext cx="9745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696240" y="2881440"/>
            <a:ext cx="89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so 1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2982240" y="2881440"/>
            <a:ext cx="89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so 2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1179360" y="4137120"/>
            <a:ext cx="9748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Line 13"/>
          <p:cNvSpPr/>
          <p:nvPr/>
        </p:nvSpPr>
        <p:spPr>
          <a:xfrm>
            <a:off x="3465360" y="5051520"/>
            <a:ext cx="9748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401400" y="3414600"/>
            <a:ext cx="56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.F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2687400" y="3567240"/>
            <a:ext cx="56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.F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3745800" y="3567240"/>
            <a:ext cx="58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1383840" y="3567240"/>
            <a:ext cx="58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6" name="Rectangle 18"/>
          <p:cNvSpPr/>
          <p:nvPr/>
        </p:nvSpPr>
        <p:spPr>
          <a:xfrm>
            <a:off x="1383840" y="4862520"/>
            <a:ext cx="58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.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7" name="Rectangle 19"/>
          <p:cNvSpPr/>
          <p:nvPr/>
        </p:nvSpPr>
        <p:spPr>
          <a:xfrm>
            <a:off x="3745800" y="5014800"/>
            <a:ext cx="58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.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8" name="Rectangle 20"/>
          <p:cNvSpPr/>
          <p:nvPr/>
        </p:nvSpPr>
        <p:spPr>
          <a:xfrm>
            <a:off x="3647160" y="2073240"/>
            <a:ext cx="1697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¿Qué tal?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9" name="Rectangle 21"/>
          <p:cNvSpPr/>
          <p:nvPr/>
        </p:nvSpPr>
        <p:spPr>
          <a:xfrm>
            <a:off x="4907160" y="3186000"/>
            <a:ext cx="378108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Fondos de Maniobra Iguales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aso 1 : A.F.&lt; A.C. y C.P.&lt; P.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aso 2 : A.F.&gt; A.C. y C.P.&gt; P.C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En general, uno se siente más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ómodo con un activo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ás grande, por su mayor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endencia a la liquidez es de  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anejo más  flexible.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0" name="Rectangle 22"/>
          <p:cNvSpPr/>
          <p:nvPr/>
        </p:nvSpPr>
        <p:spPr>
          <a:xfrm>
            <a:off x="313200" y="4786200"/>
            <a:ext cx="59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.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1" name="Rectangle 23"/>
          <p:cNvSpPr/>
          <p:nvPr/>
        </p:nvSpPr>
        <p:spPr>
          <a:xfrm>
            <a:off x="2599200" y="5014800"/>
            <a:ext cx="59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.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emplo : Un gran Supermercad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561960" y="3046320"/>
            <a:ext cx="2562120" cy="25513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5" name="Line 5"/>
          <p:cNvSpPr/>
          <p:nvPr/>
        </p:nvSpPr>
        <p:spPr>
          <a:xfrm flipH="1">
            <a:off x="1822320" y="3046320"/>
            <a:ext cx="14400" cy="258624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466560" y="4943520"/>
            <a:ext cx="149436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7" name="Line 7"/>
          <p:cNvSpPr/>
          <p:nvPr/>
        </p:nvSpPr>
        <p:spPr>
          <a:xfrm>
            <a:off x="601560" y="4960800"/>
            <a:ext cx="12225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612720" y="3697200"/>
            <a:ext cx="1139760" cy="10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1715760" y="3159000"/>
            <a:ext cx="160128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pita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Permanen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90" name="Group 10"/>
          <p:cNvGrpSpPr/>
          <p:nvPr/>
        </p:nvGrpSpPr>
        <p:grpSpPr>
          <a:xfrm>
            <a:off x="1836720" y="3983040"/>
            <a:ext cx="1311120" cy="1713960"/>
            <a:chOff x="1836720" y="3983040"/>
            <a:chExt cx="1311120" cy="1713960"/>
          </a:xfrm>
        </p:grpSpPr>
        <p:sp>
          <p:nvSpPr>
            <p:cNvPr id="191" name="Rectangle 11"/>
            <p:cNvSpPr/>
            <p:nvPr/>
          </p:nvSpPr>
          <p:spPr>
            <a:xfrm>
              <a:off x="1889640" y="4943520"/>
              <a:ext cx="1258200" cy="75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s-ES_tradnl" sz="2200" spc="-1" strike="noStrike">
                  <a:solidFill>
                    <a:srgbClr val="4d4d4d"/>
                  </a:solidFill>
                  <a:latin typeface="Verdana"/>
                </a:rPr>
                <a:t>Exigible </a:t>
              </a:r>
              <a:endParaRPr b="0" lang="en-US" sz="22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s-ES_tradnl" sz="2200" spc="-1" strike="noStrike">
                  <a:solidFill>
                    <a:srgbClr val="4d4d4d"/>
                  </a:solidFill>
                  <a:latin typeface="Verdana"/>
                </a:rPr>
                <a:t>C/P</a:t>
              </a:r>
              <a:endParaRPr b="0" lang="en-US" sz="2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2" name="Line 12"/>
            <p:cNvSpPr/>
            <p:nvPr/>
          </p:nvSpPr>
          <p:spPr>
            <a:xfrm>
              <a:off x="1836720" y="4000680"/>
              <a:ext cx="12906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3" name="Line 13"/>
            <p:cNvSpPr/>
            <p:nvPr/>
          </p:nvSpPr>
          <p:spPr>
            <a:xfrm>
              <a:off x="1836720" y="4754520"/>
              <a:ext cx="12906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4" name="Rectangle 14"/>
            <p:cNvSpPr/>
            <p:nvPr/>
          </p:nvSpPr>
          <p:spPr>
            <a:xfrm>
              <a:off x="1889640" y="3983040"/>
              <a:ext cx="1258200" cy="75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s-ES_tradnl" sz="2200" spc="-1" strike="noStrike">
                  <a:solidFill>
                    <a:srgbClr val="4d4d4d"/>
                  </a:solidFill>
                  <a:latin typeface="Verdana"/>
                </a:rPr>
                <a:t>Exigible </a:t>
              </a:r>
              <a:endParaRPr b="0" lang="en-US" sz="22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s-ES_tradnl" sz="2200" spc="-1" strike="noStrike">
                  <a:solidFill>
                    <a:srgbClr val="4d4d4d"/>
                  </a:solidFill>
                  <a:latin typeface="Verdana"/>
                </a:rPr>
                <a:t>L/P</a:t>
              </a:r>
              <a:endParaRPr b="0" lang="en-US" sz="22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95" name="Rectangle 15"/>
          <p:cNvSpPr/>
          <p:nvPr/>
        </p:nvSpPr>
        <p:spPr>
          <a:xfrm>
            <a:off x="3546360" y="2881440"/>
            <a:ext cx="498816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Mucho Activo 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Los Clientes son pocos, porque paga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l contado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Los Stocks son bajos porque l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veedores surten rápido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El exigible a C/P es relativamente grande,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rque el supermercado tiene poder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egociador, los plazos de pago son largos.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6" name="Rectangle 16"/>
          <p:cNvSpPr/>
          <p:nvPr/>
        </p:nvSpPr>
        <p:spPr>
          <a:xfrm>
            <a:off x="2737080" y="5929200"/>
            <a:ext cx="3823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ONDO DE MANIOBRA NEGA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54608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</a:t>
            </a: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Análisis de Circulante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808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s de Solvencia Corriente (Repas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azón Circulante “ ó  “ Ratio de Solvencia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99" name="Group 4"/>
          <p:cNvGrpSpPr/>
          <p:nvPr/>
        </p:nvGrpSpPr>
        <p:grpSpPr>
          <a:xfrm>
            <a:off x="2901960" y="3306600"/>
            <a:ext cx="4254480" cy="1130040"/>
            <a:chOff x="2901960" y="3306600"/>
            <a:chExt cx="4254480" cy="1130040"/>
          </a:xfrm>
        </p:grpSpPr>
        <p:grpSp>
          <p:nvGrpSpPr>
            <p:cNvPr id="200" name="Group 5"/>
            <p:cNvGrpSpPr/>
            <p:nvPr/>
          </p:nvGrpSpPr>
          <p:grpSpPr>
            <a:xfrm>
              <a:off x="4502160" y="3362040"/>
              <a:ext cx="2197080" cy="820440"/>
              <a:chOff x="4502160" y="3362040"/>
              <a:chExt cx="2197080" cy="820440"/>
            </a:xfrm>
          </p:grpSpPr>
          <p:sp>
            <p:nvSpPr>
              <p:cNvPr id="201" name="Rectangle 6"/>
              <p:cNvSpPr/>
              <p:nvPr/>
            </p:nvSpPr>
            <p:spPr>
              <a:xfrm>
                <a:off x="4570200" y="3362040"/>
                <a:ext cx="1984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4d4d4d"/>
                    </a:solidFill>
                    <a:latin typeface="Verdana"/>
                  </a:rPr>
                  <a:t>Activo Circulante</a:t>
                </a:r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202" name="Line 7"/>
              <p:cNvSpPr/>
              <p:nvPr/>
            </p:nvSpPr>
            <p:spPr>
              <a:xfrm>
                <a:off x="4502160" y="3757320"/>
                <a:ext cx="219708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203" name="Rectangle 8"/>
              <p:cNvSpPr/>
              <p:nvPr/>
            </p:nvSpPr>
            <p:spPr>
              <a:xfrm>
                <a:off x="4551120" y="3819240"/>
                <a:ext cx="202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4d4d4d"/>
                    </a:solidFill>
                    <a:latin typeface="Verdana"/>
                  </a:rPr>
                  <a:t>Pasivo Circulante</a:t>
                </a:r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</p:grpSp>
        <p:sp>
          <p:nvSpPr>
            <p:cNvPr id="204" name="Rectangle 9"/>
            <p:cNvSpPr/>
            <p:nvPr/>
          </p:nvSpPr>
          <p:spPr>
            <a:xfrm>
              <a:off x="3352680" y="3590640"/>
              <a:ext cx="760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.S. =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5" name="Rectangle 10"/>
            <p:cNvSpPr/>
            <p:nvPr/>
          </p:nvSpPr>
          <p:spPr>
            <a:xfrm>
              <a:off x="2901960" y="3306600"/>
              <a:ext cx="4254480" cy="113004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206" name="Rectangle 11"/>
          <p:cNvSpPr/>
          <p:nvPr/>
        </p:nvSpPr>
        <p:spPr>
          <a:xfrm>
            <a:off x="607320" y="4481640"/>
            <a:ext cx="79326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iempre hay que observar el contenido del Activo y Pasivo Circulante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i R.S.= 1, desde el punto de vista del acreedor a C/P es preocupante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i R.S = 1, desde el punto de vista de la empresa, si tuviesen que pagar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da la deuda de C/P, se quedan sin poder seguir operando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Luego : R.S. = 1 justillo, R.S. mayor que uno implica FM posi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s de Solvencia Corrie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atio de Tesorería “ ó  “ Prueba Acida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615240" y="4481640"/>
            <a:ext cx="79311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Mide la capacidad de la empresa de hacer frente a su Pasivo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on las partidas más líquidas del Activo Circulante.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i R.T.= 1, la empresa está en una excelente posición de tesorería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i R.T.= 1, desde el punto de vista del acreedor, hay cierta seguridad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go de su deuda. (Si la cartera de clientes es relativamente sana)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10" name="Group 5"/>
          <p:cNvGrpSpPr/>
          <p:nvPr/>
        </p:nvGrpSpPr>
        <p:grpSpPr>
          <a:xfrm>
            <a:off x="844560" y="3206880"/>
            <a:ext cx="7531200" cy="1130040"/>
            <a:chOff x="844560" y="3206880"/>
            <a:chExt cx="7531200" cy="1130040"/>
          </a:xfrm>
        </p:grpSpPr>
        <p:sp>
          <p:nvSpPr>
            <p:cNvPr id="211" name="Rectangle 6"/>
            <p:cNvSpPr/>
            <p:nvPr/>
          </p:nvSpPr>
          <p:spPr>
            <a:xfrm>
              <a:off x="2225520" y="3262320"/>
              <a:ext cx="2863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ctivo Circulante - Stock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2" name="Line 7"/>
            <p:cNvSpPr/>
            <p:nvPr/>
          </p:nvSpPr>
          <p:spPr>
            <a:xfrm>
              <a:off x="1987560" y="3733920"/>
              <a:ext cx="34164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2417760" y="371952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1067400" y="3490920"/>
              <a:ext cx="762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.T. =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844560" y="3206880"/>
              <a:ext cx="7531200" cy="113004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6" name="Rectangle 11"/>
            <p:cNvSpPr/>
            <p:nvPr/>
          </p:nvSpPr>
          <p:spPr>
            <a:xfrm>
              <a:off x="5406120" y="349092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=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7" name="Rectangle 12"/>
            <p:cNvSpPr/>
            <p:nvPr/>
          </p:nvSpPr>
          <p:spPr>
            <a:xfrm>
              <a:off x="5934600" y="3262320"/>
              <a:ext cx="2433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lientes + Disponibl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8" name="Rectangle 13"/>
            <p:cNvSpPr/>
            <p:nvPr/>
          </p:nvSpPr>
          <p:spPr>
            <a:xfrm>
              <a:off x="6075360" y="379584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>
              <a:off x="5873760" y="3733920"/>
              <a:ext cx="24256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3808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s de Solvencia Corrie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 “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atio de Liquidez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22" name="Group 4"/>
          <p:cNvGrpSpPr/>
          <p:nvPr/>
        </p:nvGrpSpPr>
        <p:grpSpPr>
          <a:xfrm>
            <a:off x="2901960" y="3206880"/>
            <a:ext cx="4254480" cy="1130040"/>
            <a:chOff x="2901960" y="3206880"/>
            <a:chExt cx="4254480" cy="1130040"/>
          </a:xfrm>
        </p:grpSpPr>
        <p:grpSp>
          <p:nvGrpSpPr>
            <p:cNvPr id="223" name="Group 5"/>
            <p:cNvGrpSpPr/>
            <p:nvPr/>
          </p:nvGrpSpPr>
          <p:grpSpPr>
            <a:xfrm>
              <a:off x="4502160" y="3262320"/>
              <a:ext cx="2197080" cy="820440"/>
              <a:chOff x="4502160" y="3262320"/>
              <a:chExt cx="2197080" cy="820440"/>
            </a:xfrm>
          </p:grpSpPr>
          <p:sp>
            <p:nvSpPr>
              <p:cNvPr id="224" name="Rectangle 6"/>
              <p:cNvSpPr/>
              <p:nvPr/>
            </p:nvSpPr>
            <p:spPr>
              <a:xfrm>
                <a:off x="4733280" y="3262320"/>
                <a:ext cx="1655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4d4d4d"/>
                    </a:solidFill>
                    <a:latin typeface="Verdana"/>
                  </a:rPr>
                  <a:t>Caja y Bancos</a:t>
                </a:r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225" name="Line 7"/>
              <p:cNvSpPr/>
              <p:nvPr/>
            </p:nvSpPr>
            <p:spPr>
              <a:xfrm>
                <a:off x="4502160" y="3657600"/>
                <a:ext cx="219708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226" name="Rectangle 8"/>
              <p:cNvSpPr/>
              <p:nvPr/>
            </p:nvSpPr>
            <p:spPr>
              <a:xfrm>
                <a:off x="4551120" y="3719520"/>
                <a:ext cx="202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4d4d4d"/>
                    </a:solidFill>
                    <a:latin typeface="Verdana"/>
                  </a:rPr>
                  <a:t>Pasivo Circulante</a:t>
                </a:r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</p:grpSp>
        <p:sp>
          <p:nvSpPr>
            <p:cNvPr id="227" name="Rectangle 9"/>
            <p:cNvSpPr/>
            <p:nvPr/>
          </p:nvSpPr>
          <p:spPr>
            <a:xfrm>
              <a:off x="3356640" y="3490920"/>
              <a:ext cx="756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.L. =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8" name="Rectangle 10"/>
            <p:cNvSpPr/>
            <p:nvPr/>
          </p:nvSpPr>
          <p:spPr>
            <a:xfrm>
              <a:off x="2901960" y="3206880"/>
              <a:ext cx="4254480" cy="113004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229" name="Rectangle 11"/>
          <p:cNvSpPr/>
          <p:nvPr/>
        </p:nvSpPr>
        <p:spPr>
          <a:xfrm>
            <a:off x="495720" y="4481640"/>
            <a:ext cx="82173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e debe usar el saldo medio mantenido durante el año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¿ Los saldos medios son función del Pasivo Exigible a C/P ?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El saldo medio a mantener es una norma de seguridad, que debería estar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función de la posibilidad de estancamiento de la conversión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rculante a Disponible.(Retraso de clientes, recesión de ventas, etc.)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808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Ratios de Solvencia Corriente (derivaciones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32" name="Group 4"/>
          <p:cNvGrpSpPr/>
          <p:nvPr/>
        </p:nvGrpSpPr>
        <p:grpSpPr>
          <a:xfrm>
            <a:off x="2368440" y="3262320"/>
            <a:ext cx="2197080" cy="820440"/>
            <a:chOff x="2368440" y="3262320"/>
            <a:chExt cx="2197080" cy="820440"/>
          </a:xfrm>
        </p:grpSpPr>
        <p:sp>
          <p:nvSpPr>
            <p:cNvPr id="233" name="Rectangle 5"/>
            <p:cNvSpPr/>
            <p:nvPr/>
          </p:nvSpPr>
          <p:spPr>
            <a:xfrm>
              <a:off x="2436840" y="3262320"/>
              <a:ext cx="1984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ct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4" name="Line 6"/>
            <p:cNvSpPr/>
            <p:nvPr/>
          </p:nvSpPr>
          <p:spPr>
            <a:xfrm>
              <a:off x="2368440" y="3657600"/>
              <a:ext cx="21970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5" name="Rectangle 7"/>
            <p:cNvSpPr/>
            <p:nvPr/>
          </p:nvSpPr>
          <p:spPr>
            <a:xfrm>
              <a:off x="2417760" y="371952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236" name="Rectangle 8"/>
          <p:cNvSpPr/>
          <p:nvPr/>
        </p:nvSpPr>
        <p:spPr>
          <a:xfrm>
            <a:off x="2468160" y="2728800"/>
            <a:ext cx="1921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Ratio Solvenci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5424480" y="2728800"/>
            <a:ext cx="225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Ratio de Tesorerí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290880" y="3338640"/>
            <a:ext cx="135648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Gener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Funcional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Libr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39" name="Group 11"/>
          <p:cNvGrpSpPr/>
          <p:nvPr/>
        </p:nvGrpSpPr>
        <p:grpSpPr>
          <a:xfrm>
            <a:off x="1987560" y="4329000"/>
            <a:ext cx="2882880" cy="820440"/>
            <a:chOff x="1987560" y="4329000"/>
            <a:chExt cx="2882880" cy="820440"/>
          </a:xfrm>
        </p:grpSpPr>
        <p:sp>
          <p:nvSpPr>
            <p:cNvPr id="240" name="Rectangle 12"/>
            <p:cNvSpPr/>
            <p:nvPr/>
          </p:nvSpPr>
          <p:spPr>
            <a:xfrm>
              <a:off x="2138760" y="4329000"/>
              <a:ext cx="257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C. - Extrafuncionale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1" name="Line 13"/>
            <p:cNvSpPr/>
            <p:nvPr/>
          </p:nvSpPr>
          <p:spPr>
            <a:xfrm>
              <a:off x="1987560" y="4724280"/>
              <a:ext cx="28828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2" name="Rectangle 14"/>
            <p:cNvSpPr/>
            <p:nvPr/>
          </p:nvSpPr>
          <p:spPr>
            <a:xfrm>
              <a:off x="2417760" y="478620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1835280" y="5396040"/>
            <a:ext cx="3187440" cy="820440"/>
            <a:chOff x="1835280" y="5396040"/>
            <a:chExt cx="3187440" cy="820440"/>
          </a:xfrm>
        </p:grpSpPr>
        <p:sp>
          <p:nvSpPr>
            <p:cNvPr id="244" name="Rectangle 16"/>
            <p:cNvSpPr/>
            <p:nvPr/>
          </p:nvSpPr>
          <p:spPr>
            <a:xfrm>
              <a:off x="2009880" y="5396040"/>
              <a:ext cx="2988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C. - Documentos Descts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5" name="Line 17"/>
            <p:cNvSpPr/>
            <p:nvPr/>
          </p:nvSpPr>
          <p:spPr>
            <a:xfrm>
              <a:off x="1835280" y="5791320"/>
              <a:ext cx="31874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6" name="Rectangle 18"/>
            <p:cNvSpPr/>
            <p:nvPr/>
          </p:nvSpPr>
          <p:spPr>
            <a:xfrm>
              <a:off x="2291400" y="5853240"/>
              <a:ext cx="2430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-DD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grpSp>
        <p:nvGrpSpPr>
          <p:cNvPr id="247" name="Group 19"/>
          <p:cNvGrpSpPr/>
          <p:nvPr/>
        </p:nvGrpSpPr>
        <p:grpSpPr>
          <a:xfrm>
            <a:off x="5568840" y="3262320"/>
            <a:ext cx="2197080" cy="820440"/>
            <a:chOff x="5568840" y="3262320"/>
            <a:chExt cx="2197080" cy="820440"/>
          </a:xfrm>
        </p:grpSpPr>
        <p:sp>
          <p:nvSpPr>
            <p:cNvPr id="248" name="Rectangle 20"/>
            <p:cNvSpPr/>
            <p:nvPr/>
          </p:nvSpPr>
          <p:spPr>
            <a:xfrm>
              <a:off x="5891400" y="3262320"/>
              <a:ext cx="1473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C. - Stock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9" name="Line 21"/>
            <p:cNvSpPr/>
            <p:nvPr/>
          </p:nvSpPr>
          <p:spPr>
            <a:xfrm>
              <a:off x="5568840" y="3657600"/>
              <a:ext cx="21970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0" name="Rectangle 22"/>
            <p:cNvSpPr/>
            <p:nvPr/>
          </p:nvSpPr>
          <p:spPr>
            <a:xfrm>
              <a:off x="5618160" y="371952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grpSp>
        <p:nvGrpSpPr>
          <p:cNvPr id="251" name="Group 23"/>
          <p:cNvGrpSpPr/>
          <p:nvPr/>
        </p:nvGrpSpPr>
        <p:grpSpPr>
          <a:xfrm>
            <a:off x="5416560" y="4329000"/>
            <a:ext cx="2882880" cy="820440"/>
            <a:chOff x="5416560" y="4329000"/>
            <a:chExt cx="2882880" cy="820440"/>
          </a:xfrm>
        </p:grpSpPr>
        <p:sp>
          <p:nvSpPr>
            <p:cNvPr id="252" name="Rectangle 24"/>
            <p:cNvSpPr/>
            <p:nvPr/>
          </p:nvSpPr>
          <p:spPr>
            <a:xfrm>
              <a:off x="5707080" y="4329000"/>
              <a:ext cx="2298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C. - Extraf.- Stock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5416560" y="4724280"/>
              <a:ext cx="28828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4" name="Rectangle 26"/>
            <p:cNvSpPr/>
            <p:nvPr/>
          </p:nvSpPr>
          <p:spPr>
            <a:xfrm>
              <a:off x="5846760" y="478620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255" name="Rectangle 27"/>
          <p:cNvSpPr/>
          <p:nvPr/>
        </p:nvSpPr>
        <p:spPr>
          <a:xfrm>
            <a:off x="6100560" y="5472000"/>
            <a:ext cx="212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.C. - D.D. - Stock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6" name="Line 28"/>
          <p:cNvSpPr/>
          <p:nvPr/>
        </p:nvSpPr>
        <p:spPr>
          <a:xfrm>
            <a:off x="5873760" y="5867280"/>
            <a:ext cx="25779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7" name="Rectangle 29"/>
          <p:cNvSpPr/>
          <p:nvPr/>
        </p:nvSpPr>
        <p:spPr>
          <a:xfrm>
            <a:off x="5794200" y="5929200"/>
            <a:ext cx="2430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 Circulante-DD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y Objetiv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Definición y Clases de Solvenci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vencia de Capac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vencia de Puntual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lases (Solvencia Final,Solvencia Funcional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didas (Fondo de maniobra o Capital de Trabajo, Ratios)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y Objetiv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90512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fundización del Análisis Patrimonial General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conoce también como análisis de Solvencia o Financier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udiaremos la “Solvencia” de la empresa, es decir su capacidad de cumplir con sus obligacione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lvl="1" marL="826200" indent="-3967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trata de estudiar las masas patrimoniales que se mueven (circulan) con mayor rapidez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tivo Circulante =&gt; Partidas más líquidas del activo (menos consolidada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sivo Circulante =&gt; Exigible de corto plazo (lo que se hace exigible en un  ciclo de maduración o en el “Corto Plazo”)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ara finalmente determinar si la empresa puede mantenerse o desarrollarse manejando su estructura actual de Activo Circulante / Pasivo Circulante.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403920" indent="-4039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Definición y Clases de Solvenci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8003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80480" indent="-3751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vencia de Capac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uando una empresa tiene bienes suficientes en su Activo para responder a su Pasivo Exigible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4" marL="1800360" indent="0" algn="just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80480" indent="-3751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vencia de Puntual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uando una empresa tiene la capacidad de atender a sus compromisos de pago en la fecha previst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14400" y="1142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361440" indent="-3614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Definición y Clases de Solvenci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698760" indent="-33588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n ejemplo : Una empresa productora de muebles de madera desarmables que inicia sus actividades, compra su materia prima con un crédito de sus proveedores a 90 días. El plazo de fabricación de los muebles es de 92 días, y el margen que reportan la venta de los muebles permite pagar con creces las materias primas y otros gastos. La empresa es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1612080" indent="-3063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Solvente de Capacidad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4" marL="1612080" indent="-3063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Insolvente de Puntualidad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13280" indent="-4132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vencia Final o de Garantí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puede definir como el Total del Activo menos el Pasivo Exigible, es decir el activo que sobra si cancelo todo mis obligacion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os permite mayor endeudamient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túa a la empresa en una perspectiva de liquidac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4000" y="2209680"/>
            <a:ext cx="800244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olvencia Corriente ( o de Funcionamiento 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templa a la empresa Viva, en funcionamient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rescinde de la garantía ofrecida por el Activo Fij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rescinde de los vencimientos de Largo Plaz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Claudio Jiménez</cp:lastModifiedBy>
  <cp:lastPrinted>2002-11-13T13:47:55Z</cp:lastPrinted>
  <dcterms:modified xsi:type="dcterms:W3CDTF">2011-03-24T15:58:30Z</dcterms:modified>
  <cp:revision>371</cp:revision>
  <dc:subject/>
  <dc:title>Análisis Financiero</dc:title>
</cp:coreProperties>
</file>