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FAD6D-0C5C-495E-98EB-23DB3D5F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55B93-A83C-486B-A322-FEC177C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B6F92-3B15-485E-B71E-497042F7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89717-009D-4D79-8D0D-0AC26DDE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C69CC-8D16-4433-905D-FECA5D7D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D728D-B345-4280-972B-340D19C3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416D-ED85-4E52-8078-D6E5D05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8D56A-3517-4B7A-A452-14623CB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29494-9618-4F5C-A4F4-17C706E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68B21-E4EE-4393-BF50-4932C16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84651-2E62-48C5-8C33-5A440D74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60A08-ADC6-4A1E-A178-2966638A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09EA-94F7-4241-A254-BF3BAEB7CBF9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934600" y="3262320"/>
              <a:ext cx="24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Disponibl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794200" y="5929200"/>
            <a:ext cx="24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-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Circulante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4T15:58:30Z</dcterms:modified>
  <cp:revision>371</cp:revision>
  <dc:subject/>
  <dc:title>Análisis Financiero</dc:title>
</cp:coreProperties>
</file>