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3EDE9-96DB-4EA9-833D-ECCBF966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224EA-BC98-4CAD-8F33-5EEB7022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84433-D31A-461B-87FF-E16361C5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B73B8-2B56-4069-9912-C68A6630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8D502-3577-45C5-AB77-60C3B4E3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F6B48-649A-4420-A830-609450B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AD8A9-FBC4-41E2-B7B0-57713CC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9F212-D73D-429A-8BF6-4714B13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753BA-14F8-4CEE-A701-A0AF7FBC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66882-2FAF-4F1F-AE13-483A2F5B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8719A-EF03-41EB-923D-3897C515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C83AB-6DED-469F-AB13-EC706533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0BC4-A974-4697-AD1B-797575652D6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5934600" y="3262320"/>
              <a:ext cx="243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Disponibl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794200" y="5929200"/>
            <a:ext cx="243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-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Circulante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4T15:58:30Z</dcterms:modified>
  <cp:revision>371</cp:revision>
  <dc:subject/>
  <dc:title>Análisis Financiero</dc:title>
</cp:coreProperties>
</file>