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F300C-7A54-4CB9-AAAB-A6D50021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E5EC6-D33E-4C52-92D5-BCC555C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A0D4-B74E-4438-A8A4-0740086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2454B-F9EB-4A00-A60B-58A8DFB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CA073-BB48-4135-BAE6-B82E361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57EB0-B833-433F-8E3F-2017AA1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0737A-A8DA-4A0B-AF7C-77EEF2B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FD0F1-51D8-4118-B212-2CF5915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CDF9F-E0EA-423A-B4A5-662850A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B2E2B-0197-47B5-8CE1-DECF48C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AF90B-898E-4E19-BAC8-48A50376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7056-CFFD-48D7-94C6-0A557151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63B9-05CB-44E6-95F0-E1718EA198E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934600" y="3262320"/>
              <a:ext cx="24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Disponibl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794200" y="5929200"/>
            <a:ext cx="24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-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Circulante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4T15:58:30Z</dcterms:modified>
  <cp:revision>371</cp:revision>
  <dc:subject/>
  <dc:title>Análisis Financiero</dc:title>
</cp:coreProperties>
</file>