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706C4-1227-4BEC-ABD3-B621DF1B8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3A04C-03D9-4677-AC1B-25080F4A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DE578-47CB-490F-8FC5-24FE46D6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4DA53-B90E-40EB-AF3C-4FAE6214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44FEE-6742-401B-B8A4-B484CE27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398B4-ACAE-4FCB-A3B3-052D281C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287FE-0344-4065-B815-F42C49BE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2DBB1-D292-42B3-BD1A-6C8E7800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E943F-CAF7-4EF2-A266-18C03DE4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284F3-309F-4D2A-A2F5-DA1CEA53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BB1F0-0754-47BB-AD10-052C578D1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90F05-5520-4520-8053-37F5B004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ACCB-0C6C-4D26-8597-153A2234FCFC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3000"/>
          </a:bodyPr>
          <a:p>
            <a:pPr marL="248760" indent="-2487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80960" indent="-2311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cuentas de contrapartida son en este caso depreciación acumulad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480960" indent="-2311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idado, ya que si trabajamos con valores netos perdemos información: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008800" y="4176720"/>
            <a:ext cx="47671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                                       </a:t>
            </a: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n               n+5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 Bruto             100             15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preciación acumulada  2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      10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 Neto               8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       5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7101720" y="4697280"/>
            <a:ext cx="1645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Hay esfuerz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invers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7208280" y="5445000"/>
            <a:ext cx="1280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e vendió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8" name="Line 7"/>
          <p:cNvSpPr/>
          <p:nvPr/>
        </p:nvSpPr>
        <p:spPr>
          <a:xfrm>
            <a:off x="7848720" y="5492880"/>
            <a:ext cx="0" cy="52056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9" name="AutoShape 8"/>
          <p:cNvSpPr/>
          <p:nvPr/>
        </p:nvSpPr>
        <p:spPr>
          <a:xfrm>
            <a:off x="6724800" y="5013360"/>
            <a:ext cx="368280" cy="216000"/>
          </a:xfrm>
          <a:prstGeom prst="rightArrow">
            <a:avLst>
              <a:gd name="adj1" fmla="val 75000"/>
              <a:gd name="adj2" fmla="val 85258"/>
            </a:avLst>
          </a:prstGeom>
          <a:solidFill>
            <a:srgbClr val="a3b2c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AutoShape 9"/>
          <p:cNvSpPr/>
          <p:nvPr/>
        </p:nvSpPr>
        <p:spPr>
          <a:xfrm>
            <a:off x="6724800" y="5661000"/>
            <a:ext cx="368280" cy="216000"/>
          </a:xfrm>
          <a:prstGeom prst="rightArrow">
            <a:avLst>
              <a:gd name="adj1" fmla="val 75000"/>
              <a:gd name="adj2" fmla="val 85258"/>
            </a:avLst>
          </a:prstGeom>
          <a:solidFill>
            <a:srgbClr val="a3b2c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7778880" y="5715000"/>
            <a:ext cx="1396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62120" y="1484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5200" indent="-3852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44" name="Group 4"/>
          <p:cNvGrpSpPr/>
          <p:nvPr/>
        </p:nvGrpSpPr>
        <p:grpSpPr>
          <a:xfrm>
            <a:off x="1454040" y="2424240"/>
            <a:ext cx="5931000" cy="3436920"/>
            <a:chOff x="1454040" y="2424240"/>
            <a:chExt cx="5931000" cy="3436920"/>
          </a:xfrm>
        </p:grpSpPr>
        <p:sp>
          <p:nvSpPr>
            <p:cNvPr id="145" name="Rectangle 5"/>
            <p:cNvSpPr/>
            <p:nvPr/>
          </p:nvSpPr>
          <p:spPr>
            <a:xfrm>
              <a:off x="1454040" y="2978280"/>
              <a:ext cx="5931000" cy="288288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6" name="Line 6"/>
            <p:cNvSpPr/>
            <p:nvPr/>
          </p:nvSpPr>
          <p:spPr>
            <a:xfrm>
              <a:off x="4419720" y="2978280"/>
              <a:ext cx="0" cy="288288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7" name="Rectangle 7"/>
            <p:cNvSpPr/>
            <p:nvPr/>
          </p:nvSpPr>
          <p:spPr>
            <a:xfrm>
              <a:off x="3380760" y="2424240"/>
              <a:ext cx="2077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Balance año n + 5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8" name="Line 8"/>
            <p:cNvSpPr/>
            <p:nvPr/>
          </p:nvSpPr>
          <p:spPr>
            <a:xfrm>
              <a:off x="1454040" y="3581280"/>
              <a:ext cx="59310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9" name="Rectangle 9"/>
            <p:cNvSpPr/>
            <p:nvPr/>
          </p:nvSpPr>
          <p:spPr>
            <a:xfrm>
              <a:off x="2399400" y="3110040"/>
              <a:ext cx="992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CTIV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0" name="Rectangle 10"/>
            <p:cNvSpPr/>
            <p:nvPr/>
          </p:nvSpPr>
          <p:spPr>
            <a:xfrm>
              <a:off x="5223240" y="3110040"/>
              <a:ext cx="984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1" name="Rectangle 11"/>
            <p:cNvSpPr/>
            <p:nvPr/>
          </p:nvSpPr>
          <p:spPr>
            <a:xfrm>
              <a:off x="1831320" y="3643200"/>
              <a:ext cx="2184120" cy="17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Disponible         10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lientes            60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s              45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ctivo Fijo         40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TOTAL             155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2" name="Rectangle 12"/>
            <p:cNvSpPr/>
            <p:nvPr/>
          </p:nvSpPr>
          <p:spPr>
            <a:xfrm>
              <a:off x="4732200" y="3643200"/>
              <a:ext cx="2360880" cy="17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tas. Contrapar.  35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Exigible C/P        30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Exigible L/P         30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apital Propio      60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TOTAL                155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5200" indent="-3852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454040" y="3054240"/>
            <a:ext cx="5931000" cy="28828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Line 5"/>
          <p:cNvSpPr/>
          <p:nvPr/>
        </p:nvSpPr>
        <p:spPr>
          <a:xfrm>
            <a:off x="4419720" y="3054240"/>
            <a:ext cx="0" cy="28828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158280" y="2500200"/>
            <a:ext cx="2523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ferencias Contab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1454040" y="3657600"/>
            <a:ext cx="59310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2399400" y="318600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5223240" y="318600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1678680" y="3719520"/>
            <a:ext cx="22921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        1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ientes           10</a:t>
            </a: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s               5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        1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        15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4530600" y="3719520"/>
            <a:ext cx="25466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preciación      15</a:t>
            </a: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/P       10</a:t>
            </a: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/P        30</a:t>
            </a: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ropio     2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          15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6779880" y="5929200"/>
            <a:ext cx="20469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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um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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minu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7621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5200" indent="-3852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530360" y="3054240"/>
            <a:ext cx="5931000" cy="28828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Line 5"/>
          <p:cNvSpPr/>
          <p:nvPr/>
        </p:nvSpPr>
        <p:spPr>
          <a:xfrm>
            <a:off x="4495680" y="3054240"/>
            <a:ext cx="0" cy="28828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622680" y="2500200"/>
            <a:ext cx="2910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uentes y Empleos (Usos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Line 7"/>
          <p:cNvSpPr/>
          <p:nvPr/>
        </p:nvSpPr>
        <p:spPr>
          <a:xfrm>
            <a:off x="1530360" y="3657600"/>
            <a:ext cx="59310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583000" y="3186000"/>
            <a:ext cx="77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US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5218920" y="3186000"/>
            <a:ext cx="114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UENT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1777320" y="3719520"/>
            <a:ext cx="23302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/P       3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        1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s               5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ientes            1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         55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4773600" y="3643200"/>
            <a:ext cx="2511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          10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ropio     2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/P       1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preciación Ac. 15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          55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6779880" y="5929200"/>
            <a:ext cx="20469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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um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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minu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Ordenamiento del Esquema F y U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892600" y="2500200"/>
            <a:ext cx="3061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¿ Cómo ordenar el cuadro?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78" name="Group 5"/>
          <p:cNvGrpSpPr/>
          <p:nvPr/>
        </p:nvGrpSpPr>
        <p:grpSpPr>
          <a:xfrm>
            <a:off x="2444760" y="3054240"/>
            <a:ext cx="4178160" cy="2882880"/>
            <a:chOff x="2444760" y="3054240"/>
            <a:chExt cx="4178160" cy="2882880"/>
          </a:xfrm>
        </p:grpSpPr>
        <p:sp>
          <p:nvSpPr>
            <p:cNvPr id="179" name="Rectangle 6"/>
            <p:cNvSpPr/>
            <p:nvPr/>
          </p:nvSpPr>
          <p:spPr>
            <a:xfrm>
              <a:off x="2444760" y="3054240"/>
              <a:ext cx="4178160" cy="288288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0" name="Line 7"/>
            <p:cNvSpPr/>
            <p:nvPr/>
          </p:nvSpPr>
          <p:spPr>
            <a:xfrm>
              <a:off x="4618080" y="3054240"/>
              <a:ext cx="0" cy="288288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1" name="Line 8"/>
            <p:cNvSpPr/>
            <p:nvPr/>
          </p:nvSpPr>
          <p:spPr>
            <a:xfrm>
              <a:off x="2444760" y="3657600"/>
              <a:ext cx="41781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2" name="Rectangle 9"/>
            <p:cNvSpPr/>
            <p:nvPr/>
          </p:nvSpPr>
          <p:spPr>
            <a:xfrm>
              <a:off x="2887920" y="3186000"/>
              <a:ext cx="77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USO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3" name="Rectangle 10"/>
            <p:cNvSpPr/>
            <p:nvPr/>
          </p:nvSpPr>
          <p:spPr>
            <a:xfrm>
              <a:off x="5218920" y="3186000"/>
              <a:ext cx="1146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UENTE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84" name="Rectangle 11"/>
          <p:cNvSpPr/>
          <p:nvPr/>
        </p:nvSpPr>
        <p:spPr>
          <a:xfrm>
            <a:off x="2436840" y="3659040"/>
            <a:ext cx="20574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erren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terin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tros A.F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ient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4587840" y="3659040"/>
            <a:ext cx="211608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. Depreci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6783480" y="5721480"/>
            <a:ext cx="190044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600" rIns="6660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Symbol"/>
                <a:ea typeface="Symbol"/>
              </a:rPr>
              <a:t></a:t>
            </a: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Aumento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Symbol"/>
                <a:ea typeface="Symbol"/>
              </a:rPr>
              <a:t></a:t>
            </a: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Disminución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36440" y="3794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831960" y="4405320"/>
            <a:ext cx="1080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iquidez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6837480" y="4481640"/>
            <a:ext cx="1414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ilidad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1243440" y="3795840"/>
            <a:ext cx="257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7251840" y="5014800"/>
            <a:ext cx="31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7263360" y="3871800"/>
            <a:ext cx="257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1214280" y="5014800"/>
            <a:ext cx="31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94560" indent="-3945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fi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En que se ha invertido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nterino o Activo Fi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xpansión, Nuevos  mercad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imple renovación de activo funciona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Inmaterial, cuidado que aumenta el riesg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isminución de exigibl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aneamiento financier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umento de stock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Ineficiencia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roblemas con proveedor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umento participación de mercad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9240" indent="-3992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fi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ómo se ha financiado la inversión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utofinanciamien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Fuentes no exigibles ( Reservas, Previsiones 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ntradicción Ampliación Capital v/s Autofinanciamien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Independencia financiera, menos riesg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uede caer la rentabilidad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xigib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olítica de Endeudamiento L.P. v/s C.P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apacidad de endeudamien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umento del riesg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uede aumentar la rentabilidad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fi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¿Ha sido armónica la evolución patrimonial?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análisis debe determinar 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¿Hay correspondencia entre las inversiones efectuadas y los recursos captados ?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Usos más consolidados piden recursos poco exigibl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juicio sobre la evolución debe ser relativa al análisis estático de comienzo del período de análisis 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fi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¿ La tendencia ha sido hacia el endeudamiento o hacia la independencia financiera 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iesgo en relación al momento del inicio del análisi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osibilidad de continuar con la política diseñad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OTA IMPORTANT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do de cambios en la posición financiera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milar al esquema de fuentes y empleos pero aplicado sólo a un ejercicio (entre el año “t” y el año “t-1”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igente en Chile desde 1979, fué reemplazado en EEUU por el Estado de Flujo de Efectivo en 1988 y en Chile en 1996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estado de flujo de efectivo recoge el concepto de cash flow, más relevante desde el punto de vista económico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53085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o no le resta utilidad al esquema de fuentes y empleos aplicado a periodos largos de tiemp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quema de Fuentes y empleos = Cuadro de origen y aplicación de fondos..... parecido (no igual) al Estado de Cambios en la posición financier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Diferencias: además de la temporalidad, el Estado de Cambios se diferencia en que predefine las fuentes (Recursos Obtenidos) y los usos (Recursos Aplicados), restringiéndolos a los activos fijos y pasivos de largo plazo. Se determina por diferencia las variaciones en el capital de trabaj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Objetivos y Planteamien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2528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. (Fuentes y Empleos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Ordenamiento del Esquema F y 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098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fi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90720" y="148392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403920" indent="-4039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Objetivos y Planteamientos.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0480" indent="-3751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Queremos conocer la evolución del patrimonio de la empresa en el tiempo 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ocer la evolución de las principales masas patrimoni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terminar el esfuerzo inversor o desinversor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ocer las fuentes de financiamiento del esfuerz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Juzgar la evolución histórica de la empresa y así diseñar la estrategia para el futur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4400" y="18284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Objetivos y Planteamient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Que haremos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mpararemos dos balances de distintos años de ejercicio de una empresa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ucho cuidado con las fechas de cierre de los balances (negocios cíclico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oceremos que grandes masas patrimoniales crecieron y cuales disminuyero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ntentaremos diagnosticar la evolución tempor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Objetivos y Planteamient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463680" y="2901960"/>
            <a:ext cx="2425680" cy="2959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Line 5"/>
          <p:cNvSpPr/>
          <p:nvPr/>
        </p:nvSpPr>
        <p:spPr>
          <a:xfrm>
            <a:off x="1676520" y="2901960"/>
            <a:ext cx="0" cy="29592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833400" y="2494080"/>
            <a:ext cx="168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lance año 1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Line 7"/>
          <p:cNvSpPr/>
          <p:nvPr/>
        </p:nvSpPr>
        <p:spPr>
          <a:xfrm>
            <a:off x="463680" y="4952880"/>
            <a:ext cx="12063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Line 8"/>
          <p:cNvSpPr/>
          <p:nvPr/>
        </p:nvSpPr>
        <p:spPr>
          <a:xfrm>
            <a:off x="1682640" y="5334120"/>
            <a:ext cx="12067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Line 9"/>
          <p:cNvSpPr/>
          <p:nvPr/>
        </p:nvSpPr>
        <p:spPr>
          <a:xfrm>
            <a:off x="1682640" y="3733920"/>
            <a:ext cx="12067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448920" y="3606840"/>
            <a:ext cx="1393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614160" y="4978440"/>
            <a:ext cx="906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1563840" y="3019320"/>
            <a:ext cx="1444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777680" y="4162320"/>
            <a:ext cx="1016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1625040" y="5334120"/>
            <a:ext cx="137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3319200" y="3289320"/>
            <a:ext cx="5173920" cy="23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Activo Fijo está financiado por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Componentes permanentes del Pasivo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Por lo anterior, hay equilibrio financiero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Hay tendencia a la liquidez (AC &gt; AF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- ¿ Es alto el endeudamiento?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Se sabe que E &gt; 1, “al ojo” parece al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Objetivos y Planteamient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63680" y="2901960"/>
            <a:ext cx="2425680" cy="2959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1676520" y="2901960"/>
            <a:ext cx="0" cy="29592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833400" y="2494080"/>
            <a:ext cx="168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lance año 2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463680" y="4952880"/>
            <a:ext cx="12063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1682640" y="5334120"/>
            <a:ext cx="12067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1682640" y="4572000"/>
            <a:ext cx="12067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448920" y="3606840"/>
            <a:ext cx="1393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614160" y="4978440"/>
            <a:ext cx="906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1563840" y="3476520"/>
            <a:ext cx="1444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1777680" y="4619520"/>
            <a:ext cx="1016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1598040" y="5305320"/>
            <a:ext cx="137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3355200" y="3289320"/>
            <a:ext cx="5617800" cy="29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Activo Fijo sigue financiado por 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Capitales permanente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Situación Patrimonial menos sólida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que la anterior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- Aumenta endeudamiento de corto plazo.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Podría pensarse que hay menor equilibrio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financiero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333360" indent="-3333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644400" indent="-3096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 Ejemplo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454040" y="3573360"/>
            <a:ext cx="5931000" cy="28828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4419720" y="3570120"/>
            <a:ext cx="0" cy="288324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844440" y="3178080"/>
            <a:ext cx="1696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lance año 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1454040" y="4038480"/>
            <a:ext cx="59310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2399400" y="356076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5223600" y="356076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1853280" y="4094280"/>
            <a:ext cx="20451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       2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ientes           5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s             40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       3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  140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4725720" y="4094280"/>
            <a:ext cx="23608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tas. Contrapar.  20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/P        2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/P         60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ropio      4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      14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5200" indent="-3852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627920" y="3581280"/>
            <a:ext cx="52563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Empresa con equilibrio Financiero, muy sóli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Endeudamiento de buena calidad  LP v/s C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¿Que son las cuentas de contrapartida?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Claudio Jiménez</cp:lastModifiedBy>
  <cp:lastPrinted>2002-11-13T13:47:55Z</cp:lastPrinted>
  <dcterms:modified xsi:type="dcterms:W3CDTF">2011-03-21T15:24:50Z</dcterms:modified>
  <cp:revision>372</cp:revision>
  <dc:subject/>
  <dc:title>Análisis Financiero</dc:title>
</cp:coreProperties>
</file>