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96590-18AD-43F4-8973-6A576730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A6F8F-DFFB-4704-8DEF-AB31BD86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01D85-CF5E-4232-AB49-AE9F7D76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BB620-CEF1-47B7-B9EF-2CEBCFA8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C83AA-832C-469E-839E-E4421304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72A31-E2B0-4A2A-B5DD-390BABF2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ED910-C7E4-4DA8-83F3-2B6354B9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E97AF-D03A-4DBD-9351-5E6F8E5F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BC9E0-0F87-4D54-9AC4-707B6D19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9CF7F-F8EB-4CE8-803A-7732D895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7BB4D-858F-48C8-A97E-C254FF2C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F3122-A99B-424B-82A8-AE5637A2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31EF-32F1-472B-AC4C-C03822BEFDA4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248760" indent="-2487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80960" indent="-231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cuentas de contrapartida son en este caso depreciación acumulad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480960" indent="-231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idado, ya que si trabajamos con valores netos perdemos información: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008800" y="4176720"/>
            <a:ext cx="47671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                                       </a:t>
            </a: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n               n+5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Bruto             100             15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 acumulada  2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      1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Neto               8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       5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101720" y="4697280"/>
            <a:ext cx="1645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Hay esfuerz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7208280" y="5445000"/>
            <a:ext cx="1280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e vendió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7848720" y="5492880"/>
            <a:ext cx="0" cy="52056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6724800" y="5013360"/>
            <a:ext cx="368280" cy="216000"/>
          </a:xfrm>
          <a:prstGeom prst="rightArrow">
            <a:avLst>
              <a:gd name="adj1" fmla="val 75000"/>
              <a:gd name="adj2" fmla="val 85258"/>
            </a:avLst>
          </a:prstGeom>
          <a:solidFill>
            <a:srgbClr val="a3b2c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6724800" y="5661000"/>
            <a:ext cx="368280" cy="216000"/>
          </a:xfrm>
          <a:prstGeom prst="rightArrow">
            <a:avLst>
              <a:gd name="adj1" fmla="val 75000"/>
              <a:gd name="adj2" fmla="val 85258"/>
            </a:avLst>
          </a:prstGeom>
          <a:solidFill>
            <a:srgbClr val="a3b2c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7778880" y="5715000"/>
            <a:ext cx="1396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62120" y="1484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44" name="Group 4"/>
          <p:cNvGrpSpPr/>
          <p:nvPr/>
        </p:nvGrpSpPr>
        <p:grpSpPr>
          <a:xfrm>
            <a:off x="1454040" y="2424240"/>
            <a:ext cx="5931000" cy="3436920"/>
            <a:chOff x="1454040" y="2424240"/>
            <a:chExt cx="5931000" cy="3436920"/>
          </a:xfrm>
        </p:grpSpPr>
        <p:sp>
          <p:nvSpPr>
            <p:cNvPr id="145" name="Rectangle 5"/>
            <p:cNvSpPr/>
            <p:nvPr/>
          </p:nvSpPr>
          <p:spPr>
            <a:xfrm>
              <a:off x="1454040" y="2978280"/>
              <a:ext cx="5931000" cy="28828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4419720" y="2978280"/>
              <a:ext cx="0" cy="288288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3380760" y="2424240"/>
              <a:ext cx="2077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Balance año n + 5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Line 8"/>
            <p:cNvSpPr/>
            <p:nvPr/>
          </p:nvSpPr>
          <p:spPr>
            <a:xfrm>
              <a:off x="1454040" y="3581280"/>
              <a:ext cx="59310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2399400" y="3110040"/>
              <a:ext cx="992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5223240" y="3110040"/>
              <a:ext cx="984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11"/>
            <p:cNvSpPr/>
            <p:nvPr/>
          </p:nvSpPr>
          <p:spPr>
            <a:xfrm>
              <a:off x="1831320" y="3643200"/>
              <a:ext cx="218412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Disponible         10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lientes            60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s              45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 Fijo         40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TOTAL             155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4732200" y="3643200"/>
              <a:ext cx="236088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tas. Contrapar.  35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Exigible C/P        30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Exigible L/P         30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apital Propio      60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TOTAL                155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454040" y="3054240"/>
            <a:ext cx="5931000" cy="28828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4419720" y="3054240"/>
            <a:ext cx="0" cy="28828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158280" y="2500200"/>
            <a:ext cx="252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ferencias Contab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1454040" y="3657600"/>
            <a:ext cx="5931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2399400" y="318600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5223240" y="318600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1678680" y="3719520"/>
            <a:ext cx="22921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  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           10</a:t>
            </a: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s               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 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     15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4530600" y="3719520"/>
            <a:ext cx="25466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      15</a:t>
            </a: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       10</a:t>
            </a: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/P        30</a:t>
            </a: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ropio 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       1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6779880" y="5929200"/>
            <a:ext cx="20469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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um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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minu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530360" y="3054240"/>
            <a:ext cx="5931000" cy="28828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4495680" y="3054240"/>
            <a:ext cx="0" cy="28828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622680" y="2500200"/>
            <a:ext cx="2910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uentes y Empleos (Usos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1530360" y="3657600"/>
            <a:ext cx="5931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583000" y="3186000"/>
            <a:ext cx="77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US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5218920" y="3186000"/>
            <a:ext cx="114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UENT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1777320" y="3719520"/>
            <a:ext cx="23302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/P       3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 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s               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      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      55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773600" y="3643200"/>
            <a:ext cx="2511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          10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ropio 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 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 Ac. 1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       5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6779880" y="5929200"/>
            <a:ext cx="20469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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um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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minu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Ordenamiento del Esquema F y U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892600" y="2500200"/>
            <a:ext cx="3061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¿ Cómo ordenar el cuadro?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78" name="Group 5"/>
          <p:cNvGrpSpPr/>
          <p:nvPr/>
        </p:nvGrpSpPr>
        <p:grpSpPr>
          <a:xfrm>
            <a:off x="2444760" y="3054240"/>
            <a:ext cx="4178160" cy="2882880"/>
            <a:chOff x="2444760" y="3054240"/>
            <a:chExt cx="4178160" cy="2882880"/>
          </a:xfrm>
        </p:grpSpPr>
        <p:sp>
          <p:nvSpPr>
            <p:cNvPr id="179" name="Rectangle 6"/>
            <p:cNvSpPr/>
            <p:nvPr/>
          </p:nvSpPr>
          <p:spPr>
            <a:xfrm>
              <a:off x="2444760" y="3054240"/>
              <a:ext cx="4178160" cy="28828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0" name="Line 7"/>
            <p:cNvSpPr/>
            <p:nvPr/>
          </p:nvSpPr>
          <p:spPr>
            <a:xfrm>
              <a:off x="4618080" y="3054240"/>
              <a:ext cx="0" cy="288288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>
              <a:off x="2444760" y="3657600"/>
              <a:ext cx="41781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2887920" y="3186000"/>
              <a:ext cx="7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SO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5218920" y="3186000"/>
              <a:ext cx="1146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UENTE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84" name="Rectangle 11"/>
          <p:cNvSpPr/>
          <p:nvPr/>
        </p:nvSpPr>
        <p:spPr>
          <a:xfrm>
            <a:off x="2436840" y="3659040"/>
            <a:ext cx="20574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erren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terin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tros A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587840" y="3659040"/>
            <a:ext cx="211608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. Depreci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6783480" y="5721480"/>
            <a:ext cx="19004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6660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Symbol"/>
                <a:ea typeface="Symbol"/>
              </a:rPr>
              <a:t></a:t>
            </a: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Aumento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Symbol"/>
                <a:ea typeface="Symbol"/>
              </a:rPr>
              <a:t></a:t>
            </a: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Disminución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36440" y="379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1960" y="4405320"/>
            <a:ext cx="108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iquidez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6837480" y="4481640"/>
            <a:ext cx="141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ili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1243440" y="3795840"/>
            <a:ext cx="25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7251840" y="5014800"/>
            <a:ext cx="31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7263360" y="3871800"/>
            <a:ext cx="25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1214280" y="5014800"/>
            <a:ext cx="31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4560" indent="-3945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En que se ha invertido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terino o Activo Fi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xpansión, Nuevos  merca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mple renovación de activo funciona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Inmaterial, cuidado que aumenta el riesg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sminución de exigibl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aneamiento financier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umento de stock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Ineficienci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roblemas con proveedor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umento participación de mercad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se ha financiado la invers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utofinanciamien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Fuentes no exigibles ( Reservas, Previsiones 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ntradicción Ampliación Capital v/s Autofinancia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Independencia financiera, menos riesg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uede caer la renta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gib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lítica de Endeudamiento L.P. v/s C.P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pacidad de endeuda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umento del riesg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uede aumentar la renta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¿Ha sido armónica la evolución patrimonial?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análisis debe determinar 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Hay correspondencia entre las inversiones efectuadas y los recursos captados ?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Usos más consolidados piden recursos poco exigibl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juicio sobre la evolución debe ser relativa al análisis estático de comienzo del período de análisis 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 La tendencia ha sido hacia el endeudamiento o hacia la independencia financiera 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iesgo en relación al momento del inicio del análisi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sibilidad de continuar con la política diseñad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 IMPORTANT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do de cambios en la posición financiera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milar al esquema de fuentes y empleos pero aplicado sólo a un ejercicio (entre el año “t” y el año “t-1”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igente en Chile desde 1979, fué reemplazado en EEUU por el Estado de Flujo de Efectivo en 1988 y en Chile en 1996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estado de flujo de efectivo recoge el concepto de cash flow, más relevante desde el punto de vista económico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5308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o no le resta utilidad al esquema de fuentes y empleos aplicado a periodos largos de tiemp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quema de Fuentes y empleos = Cuadro de origen y aplicación de fondos..... parecido (no igual) al Estado de Cambios en la posición financier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iferencias: además de la temporalidad, el Estado de Cambios se diferencia en que predefine las fuentes (Recursos Obtenidos) y los usos (Recursos Aplicados), restringiéndolos a los activos fijos y pasivos de largo plazo. Se determina por diferencia las variaciones en el capital de trabaj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528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. (Fuentes y Empleos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Ordenamiento del Esquema F y 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09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90720" y="148392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403920" indent="-403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Queremos conocer la evolución del patrimonio de la empresa en el tiempo 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ocer la evolución de las principales masas patrimoni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terminar el esfuerzo inversor o desinversor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ocer las fuentes de financiamiento del esfuerz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Juzgar la evolución histórica de la empresa y así diseñar la estrategia para el futur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Que haremos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mpararemos dos balances de distintos años de ejercicio de una empresa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ucho cuidado con las fechas de cierre de los balances (negocios cíclico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oceremos que grandes masas patrimoniales crecieron y cuales disminuyero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tentaremos diagnosticar la evolución tempor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63680" y="2901960"/>
            <a:ext cx="2425680" cy="2959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5"/>
          <p:cNvSpPr/>
          <p:nvPr/>
        </p:nvSpPr>
        <p:spPr>
          <a:xfrm>
            <a:off x="1676520" y="2901960"/>
            <a:ext cx="0" cy="29592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833400" y="2494080"/>
            <a:ext cx="168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año 1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Line 7"/>
          <p:cNvSpPr/>
          <p:nvPr/>
        </p:nvSpPr>
        <p:spPr>
          <a:xfrm>
            <a:off x="463680" y="4952880"/>
            <a:ext cx="12063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Line 8"/>
          <p:cNvSpPr/>
          <p:nvPr/>
        </p:nvSpPr>
        <p:spPr>
          <a:xfrm>
            <a:off x="1682640" y="5334120"/>
            <a:ext cx="1206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9"/>
          <p:cNvSpPr/>
          <p:nvPr/>
        </p:nvSpPr>
        <p:spPr>
          <a:xfrm>
            <a:off x="1682640" y="3733920"/>
            <a:ext cx="1206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448920" y="3606840"/>
            <a:ext cx="1393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614160" y="4978440"/>
            <a:ext cx="906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1563840" y="3019320"/>
            <a:ext cx="144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777680" y="4162320"/>
            <a:ext cx="1016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1625040" y="533412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3319200" y="3289320"/>
            <a:ext cx="5173920" cy="23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Activo Fijo está financiado por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Componentes permanentes del Pasiv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Por lo anterior, hay equilibrio financier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Hay tendencia a la liquidez (AC &gt; AF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- ¿ Es alto el endeudamiento?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e sabe que E &gt; 1, “al ojo” parece al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63680" y="2901960"/>
            <a:ext cx="2425680" cy="2959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1676520" y="2901960"/>
            <a:ext cx="0" cy="29592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833400" y="2494080"/>
            <a:ext cx="168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año 2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463680" y="4952880"/>
            <a:ext cx="12063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1682640" y="5334120"/>
            <a:ext cx="1206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1682640" y="4572000"/>
            <a:ext cx="1206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448920" y="3606840"/>
            <a:ext cx="1393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614160" y="4978440"/>
            <a:ext cx="906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1563840" y="3476520"/>
            <a:ext cx="144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1777680" y="4619520"/>
            <a:ext cx="1016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1598040" y="530532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3355200" y="3289320"/>
            <a:ext cx="5617800" cy="29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Activo Fijo sigue financiado por 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Capitales permanente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ituación Patrimonial menos sólida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que la anterior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- Aumenta endeudamiento de corto plazo.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Podría pensarse que hay menor equilibrio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financier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333360" indent="-3333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44400" indent="-3096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 Ejempl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454040" y="3573360"/>
            <a:ext cx="5931000" cy="28828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4419720" y="3570120"/>
            <a:ext cx="0" cy="28832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844440" y="3178080"/>
            <a:ext cx="1696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año 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1454040" y="4038480"/>
            <a:ext cx="5931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2399400" y="356076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5223600" y="356076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1853280" y="4094280"/>
            <a:ext cx="20451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   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           5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s             40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      3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140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4725720" y="4094280"/>
            <a:ext cx="23608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tas. Contrapar.  20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    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/P         60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ropio      4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   14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627920" y="3581280"/>
            <a:ext cx="52563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mpresa con equilibrio Financiero, muy sól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ndeudamiento de buena calidad  LP v/s C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¿Que son las cuentas de contrapartida?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3-21T15:24:50Z</dcterms:modified>
  <cp:revision>372</cp:revision>
  <dc:subject/>
  <dc:title>Análisis Financiero</dc:title>
</cp:coreProperties>
</file>