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716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70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662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716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70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5E6011-650C-4B47-B763-98868690E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592279-78E9-4A69-B8AF-B2A511589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62F19A-F5B8-420C-AF01-E52507044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74B8E9-AD87-40A6-9CB7-F8247171A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E22F39-D04A-42DA-90BA-24331B534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39280" y="368280"/>
            <a:ext cx="8001000" cy="284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244FED-747E-41B6-8ECF-7AABD77A2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7904F3-E61D-4D82-B545-2F423C2F5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9E2793-8282-4AD8-9657-1387B6E73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DD684B-F582-4B99-B2DB-EB4B5761C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B4CADF-73E2-42F2-BB0A-5D136A83E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B1A8D0-CB34-4A10-B08C-D41CC3C41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16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770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662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16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770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125053-E272-4B01-9751-2E986CAA3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9280" y="368280"/>
            <a:ext cx="8001000" cy="284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3300"/>
                </a:solidFill>
                <a:latin typeface="Verdana"/>
              </a:rPr>
              <a:t>Click to edit the title text format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" name="Line 5"/>
          <p:cNvSpPr/>
          <p:nvPr/>
        </p:nvSpPr>
        <p:spPr>
          <a:xfrm>
            <a:off x="609480" y="6524640"/>
            <a:ext cx="7925040" cy="0"/>
          </a:xfrm>
          <a:prstGeom prst="line">
            <a:avLst/>
          </a:prstGeom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11280" y="6524280"/>
            <a:ext cx="792144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s-ES" sz="12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969696"/>
                </a:solidFill>
                <a:latin typeface="Times New Roman"/>
              </a:rPr>
              <a:t>IN42A – EVALUACIÓN DE PROYEC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Line 13"/>
          <p:cNvSpPr/>
          <p:nvPr/>
        </p:nvSpPr>
        <p:spPr>
          <a:xfrm>
            <a:off x="755640" y="1052640"/>
            <a:ext cx="7704000" cy="0"/>
          </a:xfrm>
          <a:prstGeom prst="line">
            <a:avLst/>
          </a:prstGeom>
          <a:ln w="889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1" descr="logo_new"/>
          <p:cNvPicPr/>
          <p:nvPr/>
        </p:nvPicPr>
        <p:blipFill>
          <a:blip r:embed="rId2"/>
          <a:stretch/>
        </p:blipFill>
        <p:spPr>
          <a:xfrm>
            <a:off x="2771640" y="189000"/>
            <a:ext cx="3745080" cy="857160"/>
          </a:xfrm>
          <a:prstGeom prst="rect">
            <a:avLst/>
          </a:prstGeom>
          <a:ln w="0">
            <a:noFill/>
          </a:ln>
        </p:spPr>
      </p:pic>
      <p:sp>
        <p:nvSpPr>
          <p:cNvPr id="42" name="Line 12"/>
          <p:cNvSpPr/>
          <p:nvPr/>
        </p:nvSpPr>
        <p:spPr>
          <a:xfrm>
            <a:off x="755640" y="3645000"/>
            <a:ext cx="7704000" cy="0"/>
          </a:xfrm>
          <a:prstGeom prst="line">
            <a:avLst/>
          </a:prstGeom>
          <a:ln w="889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3300"/>
                </a:solidFill>
                <a:latin typeface="Verdana"/>
              </a:rPr>
              <a:t>Click to edit the title text format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8C61C-2411-4429-A3D9-1426A47C9B1D}" type="slidenum">
              <a:rPr b="0" lang="es-ES" sz="12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99640" y="2204640"/>
            <a:ext cx="7488360" cy="1366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cc3300"/>
                </a:solidFill>
                <a:latin typeface="Verdana"/>
              </a:rPr>
              <a:t>IN4301</a:t>
            </a:r>
            <a:br>
              <a:rPr sz="3600"/>
            </a:br>
            <a:r>
              <a:rPr b="1" i="1" lang="es-ES_tradnl" sz="3200" spc="-1" strike="noStrike">
                <a:solidFill>
                  <a:srgbClr val="cc3300"/>
                </a:solidFill>
                <a:latin typeface="Verdana"/>
              </a:rPr>
              <a:t>Análisis y Matemáticas Financieras</a:t>
            </a:r>
            <a:endParaRPr b="1" lang="en-US" sz="32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685800" y="1676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53000"/>
          </a:bodyPr>
          <a:p>
            <a:pPr marL="248760" indent="-24876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2. Esquema de origen y aplicación de fondos (F. y E.) 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480960" indent="-2311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La cuentas de contrapartida son en este caso depreciación acumulada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480960" indent="-2311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Cuidado, ya que si trabajamos con valores netos perdemos información: 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35" name="Rectangle 4"/>
          <p:cNvSpPr/>
          <p:nvPr/>
        </p:nvSpPr>
        <p:spPr>
          <a:xfrm>
            <a:off x="2008800" y="4176720"/>
            <a:ext cx="476712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d4d4d"/>
                </a:solidFill>
                <a:latin typeface="Verdana"/>
              </a:rPr>
              <a:t>                                       </a:t>
            </a:r>
            <a:r>
              <a:rPr b="1" lang="es-ES_tradnl" sz="1800" spc="-1" strike="noStrike">
                <a:solidFill>
                  <a:srgbClr val="4d4d4d"/>
                </a:solidFill>
                <a:latin typeface="Verdana"/>
              </a:rPr>
              <a:t>n               n+5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ctivo fijo Bruto             100             150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Depreciación acumulada  20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         100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ctivo Fijo Neto               80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          50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36" name="Rectangle 5"/>
          <p:cNvSpPr/>
          <p:nvPr/>
        </p:nvSpPr>
        <p:spPr>
          <a:xfrm>
            <a:off x="7101720" y="4697280"/>
            <a:ext cx="16459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Hay esfuerzo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de inversión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37" name="Rectangle 6"/>
          <p:cNvSpPr/>
          <p:nvPr/>
        </p:nvSpPr>
        <p:spPr>
          <a:xfrm>
            <a:off x="7208280" y="5445000"/>
            <a:ext cx="128016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Se vendió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ctivo fij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38" name="Line 7"/>
          <p:cNvSpPr/>
          <p:nvPr/>
        </p:nvSpPr>
        <p:spPr>
          <a:xfrm>
            <a:off x="7848720" y="5492880"/>
            <a:ext cx="0" cy="520560"/>
          </a:xfrm>
          <a:prstGeom prst="line">
            <a:avLst/>
          </a:prstGeom>
          <a:ln w="12600">
            <a:solidFill>
              <a:srgbClr val="4d4d4d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39" name="AutoShape 8"/>
          <p:cNvSpPr/>
          <p:nvPr/>
        </p:nvSpPr>
        <p:spPr>
          <a:xfrm>
            <a:off x="6724800" y="5013360"/>
            <a:ext cx="368280" cy="216000"/>
          </a:xfrm>
          <a:prstGeom prst="rightArrow">
            <a:avLst>
              <a:gd name="adj1" fmla="val 75000"/>
              <a:gd name="adj2" fmla="val 85258"/>
            </a:avLst>
          </a:prstGeom>
          <a:solidFill>
            <a:srgbClr val="a3b2c1"/>
          </a:solidFill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40" name="AutoShape 9"/>
          <p:cNvSpPr/>
          <p:nvPr/>
        </p:nvSpPr>
        <p:spPr>
          <a:xfrm>
            <a:off x="6724800" y="5661000"/>
            <a:ext cx="368280" cy="216000"/>
          </a:xfrm>
          <a:prstGeom prst="rightArrow">
            <a:avLst>
              <a:gd name="adj1" fmla="val 75000"/>
              <a:gd name="adj2" fmla="val 85258"/>
            </a:avLst>
          </a:prstGeom>
          <a:solidFill>
            <a:srgbClr val="a3b2c1"/>
          </a:solidFill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41" name="Line 10"/>
          <p:cNvSpPr/>
          <p:nvPr/>
        </p:nvSpPr>
        <p:spPr>
          <a:xfrm>
            <a:off x="7778880" y="5715000"/>
            <a:ext cx="13968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title"/>
          </p:nvPr>
        </p:nvSpPr>
        <p:spPr>
          <a:xfrm>
            <a:off x="1066320" y="-360"/>
            <a:ext cx="6782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PATRIMONIAL DINÁMICO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762120" y="148428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2000"/>
          </a:bodyPr>
          <a:p>
            <a:pPr marL="385200" indent="-3852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2. Esquema de origen y aplicación de fondos (F. y E.)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grpSp>
        <p:nvGrpSpPr>
          <p:cNvPr id="144" name="Group 4"/>
          <p:cNvGrpSpPr/>
          <p:nvPr/>
        </p:nvGrpSpPr>
        <p:grpSpPr>
          <a:xfrm>
            <a:off x="1454040" y="2424240"/>
            <a:ext cx="5931000" cy="3436920"/>
            <a:chOff x="1454040" y="2424240"/>
            <a:chExt cx="5931000" cy="3436920"/>
          </a:xfrm>
        </p:grpSpPr>
        <p:sp>
          <p:nvSpPr>
            <p:cNvPr id="145" name="Rectangle 5"/>
            <p:cNvSpPr/>
            <p:nvPr/>
          </p:nvSpPr>
          <p:spPr>
            <a:xfrm>
              <a:off x="1454040" y="2978280"/>
              <a:ext cx="5931000" cy="2882880"/>
            </a:xfrm>
            <a:prstGeom prst="rect">
              <a:avLst/>
            </a:prstGeom>
            <a:noFill/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46" name="Line 6"/>
            <p:cNvSpPr/>
            <p:nvPr/>
          </p:nvSpPr>
          <p:spPr>
            <a:xfrm>
              <a:off x="4419720" y="2978280"/>
              <a:ext cx="0" cy="288288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47" name="Rectangle 7"/>
            <p:cNvSpPr/>
            <p:nvPr/>
          </p:nvSpPr>
          <p:spPr>
            <a:xfrm>
              <a:off x="3380760" y="2424240"/>
              <a:ext cx="20772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Balance año n + 5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48" name="Line 8"/>
            <p:cNvSpPr/>
            <p:nvPr/>
          </p:nvSpPr>
          <p:spPr>
            <a:xfrm>
              <a:off x="1454040" y="3581280"/>
              <a:ext cx="5931000" cy="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49" name="Rectangle 9"/>
            <p:cNvSpPr/>
            <p:nvPr/>
          </p:nvSpPr>
          <p:spPr>
            <a:xfrm>
              <a:off x="2399400" y="3110040"/>
              <a:ext cx="9921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ACTIVO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50" name="Rectangle 10"/>
            <p:cNvSpPr/>
            <p:nvPr/>
          </p:nvSpPr>
          <p:spPr>
            <a:xfrm>
              <a:off x="5223240" y="3110040"/>
              <a:ext cx="9846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PASIVO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51" name="Rectangle 11"/>
            <p:cNvSpPr/>
            <p:nvPr/>
          </p:nvSpPr>
          <p:spPr>
            <a:xfrm>
              <a:off x="1831320" y="3643200"/>
              <a:ext cx="2184120" cy="173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Disponible         10 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Clientes            60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Stocks              45 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Activo Fijo         40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TOTAL             155 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52" name="Rectangle 12"/>
            <p:cNvSpPr/>
            <p:nvPr/>
          </p:nvSpPr>
          <p:spPr>
            <a:xfrm>
              <a:off x="4732200" y="3643200"/>
              <a:ext cx="2360880" cy="173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Ctas. Contrapar.  35 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Exigible C/P        30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Exigible L/P         30 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Capital Propio      60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TOTAL                155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</p:grpSp>
      <p:sp>
        <p:nvSpPr>
          <p:cNvPr id="153" name="PlaceHolder 2"/>
          <p:cNvSpPr>
            <a:spLocks noGrp="1"/>
          </p:cNvSpPr>
          <p:nvPr>
            <p:ph type="title"/>
          </p:nvPr>
        </p:nvSpPr>
        <p:spPr>
          <a:xfrm>
            <a:off x="1066320" y="-360"/>
            <a:ext cx="6782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PATRIMONIAL DINÁMICO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685800" y="1523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2000"/>
          </a:bodyPr>
          <a:p>
            <a:pPr marL="385200" indent="-3852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2. Esquema de origen y aplicación de fondos (F. y E.)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5" name="Rectangle 4"/>
          <p:cNvSpPr/>
          <p:nvPr/>
        </p:nvSpPr>
        <p:spPr>
          <a:xfrm>
            <a:off x="1454040" y="3054240"/>
            <a:ext cx="5931000" cy="2882880"/>
          </a:xfrm>
          <a:prstGeom prst="rect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6" name="Line 5"/>
          <p:cNvSpPr/>
          <p:nvPr/>
        </p:nvSpPr>
        <p:spPr>
          <a:xfrm>
            <a:off x="4419720" y="3054240"/>
            <a:ext cx="0" cy="288288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7" name="Rectangle 6"/>
          <p:cNvSpPr/>
          <p:nvPr/>
        </p:nvSpPr>
        <p:spPr>
          <a:xfrm>
            <a:off x="3158280" y="2500200"/>
            <a:ext cx="25239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Diferencias Contable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8" name="Line 7"/>
          <p:cNvSpPr/>
          <p:nvPr/>
        </p:nvSpPr>
        <p:spPr>
          <a:xfrm>
            <a:off x="1454040" y="3657600"/>
            <a:ext cx="593100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9" name="Rectangle 8"/>
          <p:cNvSpPr/>
          <p:nvPr/>
        </p:nvSpPr>
        <p:spPr>
          <a:xfrm>
            <a:off x="2399400" y="3186000"/>
            <a:ext cx="9921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CTIV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0" name="Rectangle 9"/>
          <p:cNvSpPr/>
          <p:nvPr/>
        </p:nvSpPr>
        <p:spPr>
          <a:xfrm>
            <a:off x="5223240" y="3186000"/>
            <a:ext cx="984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PASIV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1" name="Rectangle 10"/>
          <p:cNvSpPr/>
          <p:nvPr/>
        </p:nvSpPr>
        <p:spPr>
          <a:xfrm>
            <a:off x="1678680" y="3719520"/>
            <a:ext cx="229212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Symbol"/>
                <a:ea typeface="Symbol"/>
              </a:rPr>
              <a:t></a:t>
            </a:r>
            <a:r>
              <a:rPr b="0" lang="es-ES_tradnl" sz="1800" spc="-1" strike="noStrike">
                <a:solidFill>
                  <a:srgbClr val="4d4d4d"/>
                </a:solidFill>
                <a:latin typeface="Signs"/>
                <a:ea typeface="Signs"/>
              </a:rPr>
              <a:t>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Disponible        10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Symbol"/>
                <a:ea typeface="Symbol"/>
              </a:rPr>
              <a:t></a:t>
            </a:r>
            <a:r>
              <a:rPr b="0" lang="es-ES_tradnl" sz="1800" spc="-1" strike="noStrike">
                <a:solidFill>
                  <a:srgbClr val="4d4d4d"/>
                </a:solidFill>
                <a:latin typeface="Signs"/>
                <a:ea typeface="Signs"/>
              </a:rPr>
              <a:t>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Clientes           10</a:t>
            </a:r>
            <a:r>
              <a:rPr b="0" lang="es-ES_tradnl" sz="1800" spc="-1" strike="noStrike">
                <a:solidFill>
                  <a:srgbClr val="4d4d4d"/>
                </a:solidFill>
                <a:latin typeface="Symbol"/>
                <a:ea typeface="Symbol"/>
              </a:rPr>
              <a:t>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Symbol"/>
                <a:ea typeface="Symbol"/>
              </a:rPr>
              <a:t></a:t>
            </a:r>
            <a:r>
              <a:rPr b="0" lang="es-ES_tradnl" sz="1800" spc="-1" strike="noStrike">
                <a:solidFill>
                  <a:srgbClr val="4d4d4d"/>
                </a:solidFill>
                <a:latin typeface="Signs"/>
                <a:ea typeface="Signs"/>
              </a:rPr>
              <a:t>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Stocks               5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Symbol"/>
                <a:ea typeface="Symbol"/>
              </a:rPr>
              <a:t></a:t>
            </a:r>
            <a:r>
              <a:rPr b="0" lang="es-ES_tradnl" sz="1800" spc="-1" strike="noStrike">
                <a:solidFill>
                  <a:srgbClr val="4d4d4d"/>
                </a:solidFill>
                <a:latin typeface="Signs"/>
                <a:ea typeface="Signs"/>
              </a:rPr>
              <a:t>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ctivo Fijo        10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TOTAL                  15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2" name="Rectangle 11"/>
          <p:cNvSpPr/>
          <p:nvPr/>
        </p:nvSpPr>
        <p:spPr>
          <a:xfrm>
            <a:off x="4530600" y="3719520"/>
            <a:ext cx="254664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Symbol"/>
                <a:ea typeface="Symbol"/>
              </a:rPr>
              <a:t></a:t>
            </a:r>
            <a:r>
              <a:rPr b="0" lang="es-ES_tradnl" sz="1800" spc="-1" strike="noStrike">
                <a:solidFill>
                  <a:srgbClr val="4d4d4d"/>
                </a:solidFill>
                <a:latin typeface="Signs"/>
                <a:ea typeface="Signs"/>
              </a:rPr>
              <a:t>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Depreciación      15</a:t>
            </a:r>
            <a:r>
              <a:rPr b="0" lang="es-ES_tradnl" sz="1800" spc="-1" strike="noStrike">
                <a:solidFill>
                  <a:srgbClr val="4d4d4d"/>
                </a:solidFill>
                <a:latin typeface="Symbol"/>
                <a:ea typeface="Symbol"/>
              </a:rPr>
              <a:t>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Symbol"/>
                <a:ea typeface="Symbol"/>
              </a:rPr>
              <a:t></a:t>
            </a:r>
            <a:r>
              <a:rPr b="0" lang="es-ES_tradnl" sz="1800" spc="-1" strike="noStrike">
                <a:solidFill>
                  <a:srgbClr val="4d4d4d"/>
                </a:solidFill>
                <a:latin typeface="Signs"/>
                <a:ea typeface="Signs"/>
              </a:rPr>
              <a:t>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Exigible C/P       10</a:t>
            </a:r>
            <a:r>
              <a:rPr b="0" lang="es-ES_tradnl" sz="1800" spc="-1" strike="noStrike">
                <a:solidFill>
                  <a:srgbClr val="4d4d4d"/>
                </a:solidFill>
                <a:latin typeface="Symbol"/>
                <a:ea typeface="Symbol"/>
              </a:rPr>
              <a:t>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Symbol"/>
                <a:ea typeface="Symbol"/>
              </a:rPr>
              <a:t></a:t>
            </a:r>
            <a:r>
              <a:rPr b="0" lang="es-ES_tradnl" sz="1800" spc="-1" strike="noStrike">
                <a:solidFill>
                  <a:srgbClr val="4d4d4d"/>
                </a:solidFill>
                <a:latin typeface="Signs"/>
                <a:ea typeface="Signs"/>
              </a:rPr>
              <a:t>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Exigible L/P        30</a:t>
            </a:r>
            <a:r>
              <a:rPr b="0" lang="es-ES_tradnl" sz="1800" spc="-1" strike="noStrike">
                <a:solidFill>
                  <a:srgbClr val="4d4d4d"/>
                </a:solidFill>
                <a:latin typeface="Symbol"/>
                <a:ea typeface="Symbol"/>
              </a:rPr>
              <a:t>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Symbol"/>
                <a:ea typeface="Symbol"/>
              </a:rPr>
              <a:t></a:t>
            </a:r>
            <a:r>
              <a:rPr b="0" lang="es-ES_tradnl" sz="1800" spc="-1" strike="noStrike">
                <a:solidFill>
                  <a:srgbClr val="4d4d4d"/>
                </a:solidFill>
                <a:latin typeface="Signs"/>
                <a:ea typeface="Signs"/>
              </a:rPr>
              <a:t>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Capital Propio     20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TOTAL                    15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3" name="Rectangle 12"/>
          <p:cNvSpPr/>
          <p:nvPr/>
        </p:nvSpPr>
        <p:spPr>
          <a:xfrm>
            <a:off x="6779880" y="5929200"/>
            <a:ext cx="204696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Symbol"/>
                <a:ea typeface="Symbol"/>
              </a:rPr>
              <a:t>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ument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Symbol"/>
                <a:ea typeface="Symbol"/>
              </a:rPr>
              <a:t>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Disminución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title"/>
          </p:nvPr>
        </p:nvSpPr>
        <p:spPr>
          <a:xfrm>
            <a:off x="1066320" y="-360"/>
            <a:ext cx="6782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PATRIMONIAL DINÁMICO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762120" y="1676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2000"/>
          </a:bodyPr>
          <a:p>
            <a:pPr marL="385200" indent="-3852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2. Esquema de origen y aplicación de fondos (F. y E.)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6" name="Rectangle 4"/>
          <p:cNvSpPr/>
          <p:nvPr/>
        </p:nvSpPr>
        <p:spPr>
          <a:xfrm>
            <a:off x="1530360" y="3054240"/>
            <a:ext cx="5931000" cy="2882880"/>
          </a:xfrm>
          <a:prstGeom prst="rect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7" name="Line 5"/>
          <p:cNvSpPr/>
          <p:nvPr/>
        </p:nvSpPr>
        <p:spPr>
          <a:xfrm>
            <a:off x="4495680" y="3054240"/>
            <a:ext cx="0" cy="288288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8" name="Rectangle 6"/>
          <p:cNvSpPr/>
          <p:nvPr/>
        </p:nvSpPr>
        <p:spPr>
          <a:xfrm>
            <a:off x="3622680" y="2500200"/>
            <a:ext cx="29109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Fuentes y Empleos (Usos)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9" name="Line 7"/>
          <p:cNvSpPr/>
          <p:nvPr/>
        </p:nvSpPr>
        <p:spPr>
          <a:xfrm>
            <a:off x="1530360" y="3657600"/>
            <a:ext cx="593100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0" name="Rectangle 8"/>
          <p:cNvSpPr/>
          <p:nvPr/>
        </p:nvSpPr>
        <p:spPr>
          <a:xfrm>
            <a:off x="2583000" y="3186000"/>
            <a:ext cx="7772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USO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1" name="Rectangle 9"/>
          <p:cNvSpPr/>
          <p:nvPr/>
        </p:nvSpPr>
        <p:spPr>
          <a:xfrm>
            <a:off x="5218920" y="3186000"/>
            <a:ext cx="11462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FUENTE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2" name="Rectangle 10"/>
          <p:cNvSpPr/>
          <p:nvPr/>
        </p:nvSpPr>
        <p:spPr>
          <a:xfrm>
            <a:off x="1777320" y="3719520"/>
            <a:ext cx="233028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Symbol"/>
                <a:ea typeface="Symbol"/>
              </a:rPr>
              <a:t></a:t>
            </a:r>
            <a:r>
              <a:rPr b="0" lang="es-ES_tradnl" sz="1800" spc="-1" strike="noStrike">
                <a:solidFill>
                  <a:srgbClr val="4d4d4d"/>
                </a:solidFill>
                <a:latin typeface="Signs"/>
                <a:ea typeface="Signs"/>
              </a:rPr>
              <a:t>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Exigible L/P       30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Symbol"/>
                <a:ea typeface="Symbol"/>
              </a:rPr>
              <a:t></a:t>
            </a:r>
            <a:r>
              <a:rPr b="0" lang="es-ES_tradnl" sz="1800" spc="-1" strike="noStrike">
                <a:solidFill>
                  <a:srgbClr val="4d4d4d"/>
                </a:solidFill>
                <a:latin typeface="Signs"/>
                <a:ea typeface="Signs"/>
              </a:rPr>
              <a:t>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ctivo Fijo        10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Symbol"/>
                <a:ea typeface="Symbol"/>
              </a:rPr>
              <a:t></a:t>
            </a:r>
            <a:r>
              <a:rPr b="0" lang="es-ES_tradnl" sz="1800" spc="-1" strike="noStrike">
                <a:solidFill>
                  <a:srgbClr val="4d4d4d"/>
                </a:solidFill>
                <a:latin typeface="Signs"/>
                <a:ea typeface="Signs"/>
              </a:rPr>
              <a:t>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Stocks               5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Symbol"/>
                <a:ea typeface="Symbol"/>
              </a:rPr>
              <a:t></a:t>
            </a:r>
            <a:r>
              <a:rPr b="0" lang="es-ES_tradnl" sz="1800" spc="-1" strike="noStrike">
                <a:solidFill>
                  <a:srgbClr val="4d4d4d"/>
                </a:solidFill>
                <a:latin typeface="Signs"/>
                <a:ea typeface="Signs"/>
              </a:rPr>
              <a:t>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Clientes            10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TOTAL                   55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3" name="Rectangle 11"/>
          <p:cNvSpPr/>
          <p:nvPr/>
        </p:nvSpPr>
        <p:spPr>
          <a:xfrm>
            <a:off x="4773600" y="3643200"/>
            <a:ext cx="2511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Symbol"/>
                <a:ea typeface="Symbol"/>
              </a:rPr>
              <a:t></a:t>
            </a:r>
            <a:r>
              <a:rPr b="0" lang="es-ES_tradnl" sz="1800" spc="-1" strike="noStrike">
                <a:solidFill>
                  <a:srgbClr val="4d4d4d"/>
                </a:solidFill>
                <a:latin typeface="Signs"/>
                <a:ea typeface="Signs"/>
              </a:rPr>
              <a:t>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Disponible          10</a:t>
            </a:r>
            <a:r>
              <a:rPr b="0" lang="es-ES_tradnl" sz="1800" spc="-1" strike="noStrike">
                <a:solidFill>
                  <a:srgbClr val="4d4d4d"/>
                </a:solidFill>
                <a:latin typeface="Signs"/>
                <a:ea typeface="Signs"/>
              </a:rPr>
              <a:t>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Symbol"/>
                <a:ea typeface="Symbol"/>
              </a:rPr>
              <a:t></a:t>
            </a:r>
            <a:r>
              <a:rPr b="0" lang="es-ES_tradnl" sz="1800" spc="-1" strike="noStrike">
                <a:solidFill>
                  <a:srgbClr val="4d4d4d"/>
                </a:solidFill>
                <a:latin typeface="Signs"/>
                <a:ea typeface="Signs"/>
              </a:rPr>
              <a:t>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Capital Propio     20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Symbol"/>
                <a:ea typeface="Symbol"/>
              </a:rPr>
              <a:t></a:t>
            </a:r>
            <a:r>
              <a:rPr b="0" lang="es-ES_tradnl" sz="1800" spc="-1" strike="noStrike">
                <a:solidFill>
                  <a:srgbClr val="4d4d4d"/>
                </a:solidFill>
                <a:latin typeface="Signs"/>
                <a:ea typeface="Signs"/>
              </a:rPr>
              <a:t>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Exigible C/P       10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Symbol"/>
                <a:ea typeface="Symbol"/>
              </a:rPr>
              <a:t></a:t>
            </a:r>
            <a:r>
              <a:rPr b="0" lang="es-ES_tradnl" sz="1800" spc="-1" strike="noStrike">
                <a:solidFill>
                  <a:srgbClr val="4d4d4d"/>
                </a:solidFill>
                <a:latin typeface="Signs"/>
                <a:ea typeface="Signs"/>
              </a:rPr>
              <a:t>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Depreciación Ac. 15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TOTAL                    55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4" name="Rectangle 12"/>
          <p:cNvSpPr/>
          <p:nvPr/>
        </p:nvSpPr>
        <p:spPr>
          <a:xfrm>
            <a:off x="6779880" y="5929200"/>
            <a:ext cx="204696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Symbol"/>
                <a:ea typeface="Symbol"/>
              </a:rPr>
              <a:t>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ument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Symbol"/>
                <a:ea typeface="Symbol"/>
              </a:rPr>
              <a:t>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Disminución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title"/>
          </p:nvPr>
        </p:nvSpPr>
        <p:spPr>
          <a:xfrm>
            <a:off x="1066320" y="-360"/>
            <a:ext cx="6782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PATRIMONIAL DINÁMICO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762120" y="1905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3. Ordenamiento del Esquema F y U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7" name="Rectangle 4"/>
          <p:cNvSpPr/>
          <p:nvPr/>
        </p:nvSpPr>
        <p:spPr>
          <a:xfrm>
            <a:off x="2892600" y="2500200"/>
            <a:ext cx="3061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¿ Cómo ordenar el cuadro?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grpSp>
        <p:nvGrpSpPr>
          <p:cNvPr id="178" name="Group 5"/>
          <p:cNvGrpSpPr/>
          <p:nvPr/>
        </p:nvGrpSpPr>
        <p:grpSpPr>
          <a:xfrm>
            <a:off x="2444760" y="3054240"/>
            <a:ext cx="4178160" cy="2882880"/>
            <a:chOff x="2444760" y="3054240"/>
            <a:chExt cx="4178160" cy="2882880"/>
          </a:xfrm>
        </p:grpSpPr>
        <p:sp>
          <p:nvSpPr>
            <p:cNvPr id="179" name="Rectangle 6"/>
            <p:cNvSpPr/>
            <p:nvPr/>
          </p:nvSpPr>
          <p:spPr>
            <a:xfrm>
              <a:off x="2444760" y="3054240"/>
              <a:ext cx="4178160" cy="2882880"/>
            </a:xfrm>
            <a:prstGeom prst="rect">
              <a:avLst/>
            </a:prstGeom>
            <a:noFill/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80" name="Line 7"/>
            <p:cNvSpPr/>
            <p:nvPr/>
          </p:nvSpPr>
          <p:spPr>
            <a:xfrm>
              <a:off x="4618080" y="3054240"/>
              <a:ext cx="0" cy="288288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81" name="Line 8"/>
            <p:cNvSpPr/>
            <p:nvPr/>
          </p:nvSpPr>
          <p:spPr>
            <a:xfrm>
              <a:off x="2444760" y="3657600"/>
              <a:ext cx="4178160" cy="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82" name="Rectangle 9"/>
            <p:cNvSpPr/>
            <p:nvPr/>
          </p:nvSpPr>
          <p:spPr>
            <a:xfrm>
              <a:off x="2887920" y="3186000"/>
              <a:ext cx="7772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USOS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83" name="Rectangle 10"/>
            <p:cNvSpPr/>
            <p:nvPr/>
          </p:nvSpPr>
          <p:spPr>
            <a:xfrm>
              <a:off x="5218920" y="3186000"/>
              <a:ext cx="11462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FUENTES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</p:grpSp>
      <p:sp>
        <p:nvSpPr>
          <p:cNvPr id="184" name="Rectangle 11"/>
          <p:cNvSpPr/>
          <p:nvPr/>
        </p:nvSpPr>
        <p:spPr>
          <a:xfrm>
            <a:off x="2436840" y="3659040"/>
            <a:ext cx="2057400" cy="228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Symbol"/>
                <a:ea typeface="Symbol"/>
              </a:rPr>
              <a:t></a:t>
            </a:r>
            <a:r>
              <a:rPr b="0" lang="es-ES_tradnl" sz="1800" spc="-1" strike="noStrike">
                <a:solidFill>
                  <a:srgbClr val="4d4d4d"/>
                </a:solidFill>
                <a:latin typeface="Signs"/>
                <a:ea typeface="Signs"/>
              </a:rPr>
              <a:t>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Exigible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Symbol"/>
                <a:ea typeface="Symbol"/>
              </a:rPr>
              <a:t></a:t>
            </a:r>
            <a:r>
              <a:rPr b="0" lang="es-ES_tradnl" sz="1800" spc="-1" strike="noStrike">
                <a:solidFill>
                  <a:srgbClr val="4d4d4d"/>
                </a:solidFill>
                <a:latin typeface="Signs"/>
                <a:ea typeface="Signs"/>
              </a:rPr>
              <a:t>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Terreno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Symbol"/>
                <a:ea typeface="Symbol"/>
              </a:rPr>
              <a:t></a:t>
            </a:r>
            <a:r>
              <a:rPr b="0" lang="es-ES_tradnl" sz="1800" spc="-1" strike="noStrike">
                <a:solidFill>
                  <a:srgbClr val="4d4d4d"/>
                </a:solidFill>
                <a:latin typeface="Signs"/>
                <a:ea typeface="Signs"/>
              </a:rPr>
              <a:t>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Interin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Symbol"/>
                <a:ea typeface="Symbol"/>
              </a:rPr>
              <a:t></a:t>
            </a:r>
            <a:r>
              <a:rPr b="0" lang="es-ES_tradnl" sz="1800" spc="-1" strike="noStrike">
                <a:solidFill>
                  <a:srgbClr val="4d4d4d"/>
                </a:solidFill>
                <a:latin typeface="Signs"/>
                <a:ea typeface="Signs"/>
              </a:rPr>
              <a:t>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Otros A.F.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Symbol"/>
                <a:ea typeface="Symbol"/>
              </a:rPr>
              <a:t></a:t>
            </a:r>
            <a:r>
              <a:rPr b="0" lang="es-ES_tradnl" sz="1800" spc="-1" strike="noStrike">
                <a:solidFill>
                  <a:srgbClr val="4d4d4d"/>
                </a:solidFill>
                <a:latin typeface="Signs"/>
                <a:ea typeface="Signs"/>
              </a:rPr>
              <a:t>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Cliente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Symbol"/>
                <a:ea typeface="Symbol"/>
              </a:rPr>
              <a:t>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Disponible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85" name="Rectangle 12"/>
          <p:cNvSpPr/>
          <p:nvPr/>
        </p:nvSpPr>
        <p:spPr>
          <a:xfrm>
            <a:off x="4587840" y="3659040"/>
            <a:ext cx="2116080" cy="25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Symbol"/>
                <a:ea typeface="Symbol"/>
              </a:rPr>
              <a:t></a:t>
            </a:r>
            <a:r>
              <a:rPr b="0" lang="es-ES_tradnl" sz="1800" spc="-1" strike="noStrike">
                <a:solidFill>
                  <a:srgbClr val="4d4d4d"/>
                </a:solidFill>
                <a:latin typeface="Signs"/>
                <a:ea typeface="Signs"/>
              </a:rPr>
              <a:t>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ctivo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Symbol"/>
                <a:ea typeface="Symbol"/>
              </a:rPr>
              <a:t></a:t>
            </a:r>
            <a:r>
              <a:rPr b="0" lang="es-ES_tradnl" sz="1800" spc="-1" strike="noStrike">
                <a:solidFill>
                  <a:srgbClr val="4d4d4d"/>
                </a:solidFill>
                <a:latin typeface="Signs"/>
                <a:ea typeface="Signs"/>
              </a:rPr>
              <a:t>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Stock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Symbol"/>
                <a:ea typeface="Symbol"/>
              </a:rPr>
              <a:t>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Capital P.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Symbol"/>
                <a:ea typeface="Symbol"/>
              </a:rPr>
              <a:t>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F. Depreci.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Symbol"/>
                <a:ea typeface="Symbol"/>
              </a:rPr>
              <a:t>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Exigible L.P.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Symbol"/>
                <a:ea typeface="Symbol"/>
              </a:rPr>
              <a:t>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Exigible C.P.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86" name="Rectangle 13"/>
          <p:cNvSpPr/>
          <p:nvPr/>
        </p:nvSpPr>
        <p:spPr>
          <a:xfrm>
            <a:off x="6783480" y="5721480"/>
            <a:ext cx="1900440" cy="8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6600" rIns="66600" tIns="31680" bIns="31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76280"/>
                <a:tab algn="l" pos="952560"/>
                <a:tab algn="l" pos="1428840"/>
                <a:tab algn="l" pos="1905120"/>
                <a:tab algn="l" pos="2381400"/>
                <a:tab algn="l" pos="2857680"/>
                <a:tab algn="l" pos="3333600"/>
                <a:tab algn="l" pos="3809880"/>
                <a:tab algn="l" pos="4286160"/>
                <a:tab algn="l" pos="4762440"/>
                <a:tab algn="l" pos="5238720"/>
                <a:tab algn="l" pos="5715000"/>
                <a:tab algn="l" pos="6191280"/>
                <a:tab algn="l" pos="6667560"/>
                <a:tab algn="l" pos="7143840"/>
                <a:tab algn="l" pos="7620120"/>
                <a:tab algn="l" pos="8096400"/>
                <a:tab algn="l" pos="8572680"/>
                <a:tab algn="l" pos="9048600"/>
                <a:tab algn="l" pos="9524880"/>
              </a:tabLst>
            </a:pPr>
            <a:r>
              <a:rPr b="0" lang="es-ES_tradnl" sz="1700" spc="-1" strike="noStrike">
                <a:solidFill>
                  <a:srgbClr val="4d4d4d"/>
                </a:solidFill>
                <a:latin typeface="Symbol"/>
                <a:ea typeface="Symbol"/>
              </a:rPr>
              <a:t></a:t>
            </a:r>
            <a:r>
              <a:rPr b="0" lang="es-ES_tradnl" sz="1700" spc="-1" strike="noStrike">
                <a:solidFill>
                  <a:srgbClr val="4d4d4d"/>
                </a:solidFill>
                <a:latin typeface="Verdana"/>
              </a:rPr>
              <a:t>Aumento</a:t>
            </a:r>
            <a:endParaRPr b="0" lang="en-US" sz="1700" spc="-1" strike="noStrike">
              <a:solidFill>
                <a:srgbClr val="4d4d4d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76280"/>
                <a:tab algn="l" pos="952560"/>
                <a:tab algn="l" pos="1428840"/>
                <a:tab algn="l" pos="1905120"/>
                <a:tab algn="l" pos="2381400"/>
                <a:tab algn="l" pos="2857680"/>
                <a:tab algn="l" pos="3333600"/>
                <a:tab algn="l" pos="3809880"/>
                <a:tab algn="l" pos="4286160"/>
                <a:tab algn="l" pos="4762440"/>
                <a:tab algn="l" pos="5238720"/>
                <a:tab algn="l" pos="5715000"/>
                <a:tab algn="l" pos="6191280"/>
                <a:tab algn="l" pos="6667560"/>
                <a:tab algn="l" pos="7143840"/>
                <a:tab algn="l" pos="7620120"/>
                <a:tab algn="l" pos="8096400"/>
                <a:tab algn="l" pos="8572680"/>
                <a:tab algn="l" pos="9048600"/>
                <a:tab algn="l" pos="9524880"/>
              </a:tabLst>
            </a:pPr>
            <a:r>
              <a:rPr b="0" lang="es-ES_tradnl" sz="1700" spc="-1" strike="noStrike">
                <a:solidFill>
                  <a:srgbClr val="4d4d4d"/>
                </a:solidFill>
                <a:latin typeface="Symbol"/>
                <a:ea typeface="Symbol"/>
              </a:rPr>
              <a:t></a:t>
            </a:r>
            <a:r>
              <a:rPr b="0" lang="es-ES_tradnl" sz="1700" spc="-1" strike="noStrike">
                <a:solidFill>
                  <a:srgbClr val="4d4d4d"/>
                </a:solidFill>
                <a:latin typeface="Verdana"/>
              </a:rPr>
              <a:t>Disminución</a:t>
            </a:r>
            <a:endParaRPr b="0" lang="en-US" sz="17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476280"/>
                <a:tab algn="l" pos="952560"/>
                <a:tab algn="l" pos="1428840"/>
                <a:tab algn="l" pos="1905120"/>
                <a:tab algn="l" pos="2381400"/>
                <a:tab algn="l" pos="2857680"/>
                <a:tab algn="l" pos="3333600"/>
                <a:tab algn="l" pos="3809880"/>
                <a:tab algn="l" pos="4286160"/>
                <a:tab algn="l" pos="4762440"/>
                <a:tab algn="l" pos="5238720"/>
                <a:tab algn="l" pos="5715000"/>
                <a:tab algn="l" pos="6191280"/>
                <a:tab algn="l" pos="6667560"/>
                <a:tab algn="l" pos="7143840"/>
                <a:tab algn="l" pos="7620120"/>
                <a:tab algn="l" pos="8096400"/>
                <a:tab algn="l" pos="8572680"/>
                <a:tab algn="l" pos="9048600"/>
                <a:tab algn="l" pos="9524880"/>
              </a:tabLst>
            </a:pPr>
            <a:endParaRPr b="0" lang="en-US" sz="17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87" name="Rectangle 14"/>
          <p:cNvSpPr/>
          <p:nvPr/>
        </p:nvSpPr>
        <p:spPr>
          <a:xfrm>
            <a:off x="136440" y="37940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88" name="Rectangle 15"/>
          <p:cNvSpPr/>
          <p:nvPr/>
        </p:nvSpPr>
        <p:spPr>
          <a:xfrm>
            <a:off x="831960" y="4405320"/>
            <a:ext cx="1080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Liquidez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89" name="Rectangle 16"/>
          <p:cNvSpPr/>
          <p:nvPr/>
        </p:nvSpPr>
        <p:spPr>
          <a:xfrm>
            <a:off x="6837480" y="4481640"/>
            <a:ext cx="1414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Exigibilidad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90" name="Rectangle 17"/>
          <p:cNvSpPr/>
          <p:nvPr/>
        </p:nvSpPr>
        <p:spPr>
          <a:xfrm>
            <a:off x="1243440" y="3795840"/>
            <a:ext cx="2577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Symbol"/>
                <a:ea typeface="Symbol"/>
              </a:rPr>
              <a:t>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91" name="Rectangle 18"/>
          <p:cNvSpPr/>
          <p:nvPr/>
        </p:nvSpPr>
        <p:spPr>
          <a:xfrm>
            <a:off x="7251840" y="5014800"/>
            <a:ext cx="315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Symbol"/>
                <a:ea typeface="Symbol"/>
              </a:rPr>
              <a:t>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92" name="Rectangle 19"/>
          <p:cNvSpPr/>
          <p:nvPr/>
        </p:nvSpPr>
        <p:spPr>
          <a:xfrm>
            <a:off x="7263360" y="3871800"/>
            <a:ext cx="2577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Symbol"/>
                <a:ea typeface="Symbol"/>
              </a:rPr>
              <a:t>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93" name="Rectangle 20"/>
          <p:cNvSpPr/>
          <p:nvPr/>
        </p:nvSpPr>
        <p:spPr>
          <a:xfrm>
            <a:off x="1214280" y="5014800"/>
            <a:ext cx="315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Symbol"/>
                <a:ea typeface="Symbol"/>
              </a:rPr>
              <a:t>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title"/>
          </p:nvPr>
        </p:nvSpPr>
        <p:spPr>
          <a:xfrm>
            <a:off x="1066320" y="-360"/>
            <a:ext cx="6782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PATRIMONIAL DINÁMICO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4000"/>
          </a:bodyPr>
          <a:p>
            <a:pPr marL="394560" indent="-39456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4. Análisis fina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762480" indent="-36648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¿En que se ha invertido?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096200" indent="-33192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Interino o Activo Fijo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3" marL="1422720" indent="-32508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Expansión, Nuevos  mercados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3" marL="1422720" indent="-32508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Simple renovación de activo funcional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3" marL="1422720" indent="-32508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Inmaterial, cuidado que aumenta el riesgo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2" marL="1096200" indent="-33192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Disminución de exigible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3" marL="1422720" indent="-32508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Saneamiento financiero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2" marL="1096200" indent="-33192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Aumento de stock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3" marL="1422720" indent="-32508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Ineficiencias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3" marL="1422720" indent="-32508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Problemas con proveedores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3" marL="1422720" indent="-32508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Aumento participación de mercado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title"/>
          </p:nvPr>
        </p:nvSpPr>
        <p:spPr>
          <a:xfrm>
            <a:off x="1066320" y="-360"/>
            <a:ext cx="6782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PATRIMONIAL DINÁMICO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5000"/>
          </a:bodyPr>
          <a:p>
            <a:pPr marL="399240" indent="-39924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4. Análisis fina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771480" indent="-3708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¿Cómo se ha financiado la inversión?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109160" indent="-3358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Autofinanciamiento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3" marL="1439640" indent="-3290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Fuentes no exigibles ( Reservas, Previsiones )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3" marL="1439640" indent="-3290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Contradicción Ampliación Capital v/s Autofinanciamiento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3" marL="1439640" indent="-3290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Independencia financiera, menos riesgo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3" marL="1439640" indent="-3290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Puede caer la rentabilidad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2" marL="1109160" indent="-3358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xigible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3" marL="1439640" indent="-3290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Política de Endeudamiento L.P. v/s C.P.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3" marL="1439640" indent="-3290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Capacidad de endeudamiento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3" marL="1439640" indent="-3290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Aumento del riesgo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3" marL="1439640" indent="-3290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Puede aumentar la rentabilidad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title"/>
          </p:nvPr>
        </p:nvSpPr>
        <p:spPr>
          <a:xfrm>
            <a:off x="1066320" y="-360"/>
            <a:ext cx="6782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PATRIMONIAL DINÁMICO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4. Análisis fina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¿Ha sido armónica la evolución patrimonial?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Verdana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l análisis debe determinar :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¿Hay correspondencia entre las inversiones efectuadas y los recursos captados ? 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Usos más consolidados piden recursos poco exigibles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El juicio sobre la evolución debe ser relativa al análisis estático de comienzo del período de análisis  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title"/>
          </p:nvPr>
        </p:nvSpPr>
        <p:spPr>
          <a:xfrm>
            <a:off x="1066320" y="-360"/>
            <a:ext cx="6782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PATRIMONIAL DINÁMICO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4. Análisis fina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¿ La tendencia ha sido hacia el endeudamiento o hacia la independencia financiera ?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Riesgo en relación al momento del inicio del análisis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Posibilidad de continuar con la política diseñada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title"/>
          </p:nvPr>
        </p:nvSpPr>
        <p:spPr>
          <a:xfrm>
            <a:off x="1066320" y="-360"/>
            <a:ext cx="6782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PATRIMONIAL DINÁMICO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NOTA IMPORTANTE: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stado de cambios en la posición financiera: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Similar al esquema de fuentes y empleos pero aplicado sólo a un ejercicio (entre el año “t” y el año “t-1”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Vigente en Chile desde 1979, fué reemplazado en EEUU por el Estado de Flujo de Efectivo en 1988 y en Chile en 1996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l estado de flujo de efectivo recoge el concepto de cash flow, más relevante desde el punto de vista económico. 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title"/>
          </p:nvPr>
        </p:nvSpPr>
        <p:spPr>
          <a:xfrm>
            <a:off x="1066320" y="-360"/>
            <a:ext cx="6782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PATRIMONIAL DINÁMICO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828800" y="0"/>
            <a:ext cx="530856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Temas del curs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1. Introducción - Ordenamiento del Balance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2. Análisis Patrimonial Estático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4d4d4d"/>
                </a:solidFill>
                <a:latin typeface="Verdana"/>
              </a:rPr>
              <a:t>3. Análisis Patrimonial Dinámico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4. Análisis de Circulante - Rotaciones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5. Análisis del Estado de Resultados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6. Análisis de Rentabilidad y Rendimiento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7. Planificación Financiera de C/P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sto no le resta utilidad al esquema de fuentes y empleos aplicado a periodos largos de tiempo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squema de Fuentes y empleos = Cuadro de origen y aplicación de fondos..... parecido (no igual) al Estado de Cambios en la posición financiera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Diferencias: además de la temporalidad, el Estado de Cambios se diferencia en que predefine las fuentes (Recursos Obtenidos) y los usos (Recursos Aplicados), restringiéndolos a los activos fijos y pasivos de largo plazo. Se determina por diferencia las variaciones en el capital de trabajo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title"/>
          </p:nvPr>
        </p:nvSpPr>
        <p:spPr>
          <a:xfrm>
            <a:off x="1066320" y="-360"/>
            <a:ext cx="6782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PATRIMONIAL DINÁMICO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6782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PATRIMONIAL DINÁMICO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90720" y="2209680"/>
            <a:ext cx="7772400" cy="3353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450720" indent="-45072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1. Objetivos y Planteamientos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2528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450720" indent="-45072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2. Esquema de Origen y Aplicación de fondos. (Fuentes y Empleos)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50720" indent="-45072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3. Ordenamiento del Esquema F y E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4" marL="2009880" indent="0">
              <a:spcBef>
                <a:spcPts val="624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450720" indent="-45072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4. Análisis fina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990720" y="148392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6000"/>
          </a:bodyPr>
          <a:p>
            <a:pPr marL="403920" indent="-40392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1. Objetivos y Planteamientos. 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780480" indent="-3751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Queremos conocer la evolución del patrimonio de la empresa en el tiempo 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122120" indent="-33984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Conocer la evolución de las principales masas patrimoniale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122120" indent="-33984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Determinar el esfuerzo inversor o desinversor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122120" indent="-33984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Conocer las fuentes de financiamiento del esfuerzo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122120" indent="-33984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Juzgar la evolución histórica de la empresa y así diseñar la estrategia para el futuro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066320" y="-360"/>
            <a:ext cx="6782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PATRIMONIAL DINÁMICO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914400" y="18284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7000"/>
          </a:bodyPr>
          <a:p>
            <a:pPr marL="408600" indent="-4086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1. Objetivos y Planteamientos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789840" indent="-379440">
              <a:spcBef>
                <a:spcPts val="649"/>
              </a:spcBef>
              <a:buClr>
                <a:srgbClr val="cc0000"/>
              </a:buClr>
              <a:buSzPct val="70000"/>
              <a:buFont typeface="Verdan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¿Que haremos?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135080" indent="-34380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Compararemos dos balances de distintos años de ejercicio de una empresa 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135080" indent="-34380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Mucho cuidado con las fechas de cierre de los balances (negocios cíclicos)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135080" indent="-34380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Conoceremos que grandes masas patrimoniales crecieron y cuales disminuyeron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135080" indent="-34380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Intentaremos diagnosticar la evolución temporal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1066320" y="-360"/>
            <a:ext cx="6782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PATRIMONIAL DINÁMICO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762120" y="1905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1. Objetivos y Planteamientos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4" name="Rectangle 4"/>
          <p:cNvSpPr/>
          <p:nvPr/>
        </p:nvSpPr>
        <p:spPr>
          <a:xfrm>
            <a:off x="463680" y="2901960"/>
            <a:ext cx="2425680" cy="2959200"/>
          </a:xfrm>
          <a:prstGeom prst="rect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5" name="Line 5"/>
          <p:cNvSpPr/>
          <p:nvPr/>
        </p:nvSpPr>
        <p:spPr>
          <a:xfrm>
            <a:off x="1676520" y="2901960"/>
            <a:ext cx="0" cy="295920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6" name="Rectangle 6"/>
          <p:cNvSpPr/>
          <p:nvPr/>
        </p:nvSpPr>
        <p:spPr>
          <a:xfrm>
            <a:off x="833400" y="2494080"/>
            <a:ext cx="168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Balance año 1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7" name="Line 7"/>
          <p:cNvSpPr/>
          <p:nvPr/>
        </p:nvSpPr>
        <p:spPr>
          <a:xfrm>
            <a:off x="463680" y="4952880"/>
            <a:ext cx="120636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8" name="Line 8"/>
          <p:cNvSpPr/>
          <p:nvPr/>
        </p:nvSpPr>
        <p:spPr>
          <a:xfrm>
            <a:off x="1682640" y="5334120"/>
            <a:ext cx="120672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9" name="Line 9"/>
          <p:cNvSpPr/>
          <p:nvPr/>
        </p:nvSpPr>
        <p:spPr>
          <a:xfrm>
            <a:off x="1682640" y="3733920"/>
            <a:ext cx="120672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0" name="Rectangle 10"/>
          <p:cNvSpPr/>
          <p:nvPr/>
        </p:nvSpPr>
        <p:spPr>
          <a:xfrm>
            <a:off x="448920" y="3606840"/>
            <a:ext cx="139320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Activo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Circulante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1" name="Rectangle 11"/>
          <p:cNvSpPr/>
          <p:nvPr/>
        </p:nvSpPr>
        <p:spPr>
          <a:xfrm>
            <a:off x="614160" y="4978440"/>
            <a:ext cx="90684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Activo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Fijo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2" name="Rectangle 12"/>
          <p:cNvSpPr/>
          <p:nvPr/>
        </p:nvSpPr>
        <p:spPr>
          <a:xfrm>
            <a:off x="1563840" y="3019320"/>
            <a:ext cx="14446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Exigible C/P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3" name="Rectangle 13"/>
          <p:cNvSpPr/>
          <p:nvPr/>
        </p:nvSpPr>
        <p:spPr>
          <a:xfrm>
            <a:off x="1777680" y="4162320"/>
            <a:ext cx="10166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Exigible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L/P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4" name="Rectangle 14"/>
          <p:cNvSpPr/>
          <p:nvPr/>
        </p:nvSpPr>
        <p:spPr>
          <a:xfrm>
            <a:off x="1625040" y="5334120"/>
            <a:ext cx="13762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Patrimoni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5" name="Rectangle 15"/>
          <p:cNvSpPr/>
          <p:nvPr/>
        </p:nvSpPr>
        <p:spPr>
          <a:xfrm>
            <a:off x="3319200" y="3289320"/>
            <a:ext cx="5173920" cy="23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buClr>
                <a:srgbClr val="4d4d4d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El Activo Fijo está financiado por 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Componentes permanentes del Pasivo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Por lo anterior, hay equilibrio financiero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Hay tendencia a la liquidez (AC &gt; AF)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- ¿ Es alto el endeudamiento?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Se sabe que E &gt; 1, “al ojo” parece alto.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title"/>
          </p:nvPr>
        </p:nvSpPr>
        <p:spPr>
          <a:xfrm>
            <a:off x="1066320" y="-360"/>
            <a:ext cx="6782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PATRIMONIAL DINÁMICO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762120" y="1905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1. Objetivos y Planteamientos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463680" y="2901960"/>
            <a:ext cx="2425680" cy="2959200"/>
          </a:xfrm>
          <a:prstGeom prst="rect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9" name="Line 5"/>
          <p:cNvSpPr/>
          <p:nvPr/>
        </p:nvSpPr>
        <p:spPr>
          <a:xfrm>
            <a:off x="1676520" y="2901960"/>
            <a:ext cx="0" cy="295920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0" name="Rectangle 6"/>
          <p:cNvSpPr/>
          <p:nvPr/>
        </p:nvSpPr>
        <p:spPr>
          <a:xfrm>
            <a:off x="833400" y="2494080"/>
            <a:ext cx="168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Balance año 2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1" name="Line 7"/>
          <p:cNvSpPr/>
          <p:nvPr/>
        </p:nvSpPr>
        <p:spPr>
          <a:xfrm>
            <a:off x="463680" y="4952880"/>
            <a:ext cx="120636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2" name="Line 8"/>
          <p:cNvSpPr/>
          <p:nvPr/>
        </p:nvSpPr>
        <p:spPr>
          <a:xfrm>
            <a:off x="1682640" y="5334120"/>
            <a:ext cx="120672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3" name="Line 9"/>
          <p:cNvSpPr/>
          <p:nvPr/>
        </p:nvSpPr>
        <p:spPr>
          <a:xfrm>
            <a:off x="1682640" y="4572000"/>
            <a:ext cx="120672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4" name="Rectangle 10"/>
          <p:cNvSpPr/>
          <p:nvPr/>
        </p:nvSpPr>
        <p:spPr>
          <a:xfrm>
            <a:off x="448920" y="3606840"/>
            <a:ext cx="139320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Activo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Circulante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5" name="Rectangle 11"/>
          <p:cNvSpPr/>
          <p:nvPr/>
        </p:nvSpPr>
        <p:spPr>
          <a:xfrm>
            <a:off x="614160" y="4978440"/>
            <a:ext cx="90684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Activo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Fijo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6" name="Rectangle 12"/>
          <p:cNvSpPr/>
          <p:nvPr/>
        </p:nvSpPr>
        <p:spPr>
          <a:xfrm>
            <a:off x="1563840" y="3476520"/>
            <a:ext cx="14446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Exigible C/P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7" name="Rectangle 13"/>
          <p:cNvSpPr/>
          <p:nvPr/>
        </p:nvSpPr>
        <p:spPr>
          <a:xfrm>
            <a:off x="1777680" y="4619520"/>
            <a:ext cx="10166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Exigible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L/P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8" name="Rectangle 14"/>
          <p:cNvSpPr/>
          <p:nvPr/>
        </p:nvSpPr>
        <p:spPr>
          <a:xfrm>
            <a:off x="1598040" y="5305320"/>
            <a:ext cx="13762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Patrimoni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9" name="Rectangle 15"/>
          <p:cNvSpPr/>
          <p:nvPr/>
        </p:nvSpPr>
        <p:spPr>
          <a:xfrm>
            <a:off x="3355200" y="3289320"/>
            <a:ext cx="5617800" cy="29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buClr>
                <a:srgbClr val="4d4d4d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El Activo Fijo sigue financiado por  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Capitales permanentes.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Situación Patrimonial menos sólida 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que la anterior.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- Aumenta endeudamiento de corto plazo. 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Podría pensarse que hay menor equilibrio 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financiero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title"/>
          </p:nvPr>
        </p:nvSpPr>
        <p:spPr>
          <a:xfrm>
            <a:off x="1066320" y="-360"/>
            <a:ext cx="6782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PATRIMONIAL DINÁMICO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762120" y="1905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1000"/>
          </a:bodyPr>
          <a:p>
            <a:pPr marL="333360" indent="-33336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2. Esquema de origen y aplicación de fondos (F. y E.)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	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644400" indent="-3096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Un Ejemplo :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1454040" y="3573360"/>
            <a:ext cx="5931000" cy="2882880"/>
          </a:xfrm>
          <a:prstGeom prst="rect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3" name="Line 5"/>
          <p:cNvSpPr/>
          <p:nvPr/>
        </p:nvSpPr>
        <p:spPr>
          <a:xfrm>
            <a:off x="4419720" y="3570120"/>
            <a:ext cx="0" cy="288324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4" name="Rectangle 6"/>
          <p:cNvSpPr/>
          <p:nvPr/>
        </p:nvSpPr>
        <p:spPr>
          <a:xfrm>
            <a:off x="3844440" y="3178080"/>
            <a:ext cx="16963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Balance año n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5" name="Line 7"/>
          <p:cNvSpPr/>
          <p:nvPr/>
        </p:nvSpPr>
        <p:spPr>
          <a:xfrm>
            <a:off x="1454040" y="4038480"/>
            <a:ext cx="593100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6" name="Rectangle 8"/>
          <p:cNvSpPr/>
          <p:nvPr/>
        </p:nvSpPr>
        <p:spPr>
          <a:xfrm>
            <a:off x="2399400" y="3560760"/>
            <a:ext cx="9921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CTIV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7" name="Rectangle 9"/>
          <p:cNvSpPr/>
          <p:nvPr/>
        </p:nvSpPr>
        <p:spPr>
          <a:xfrm>
            <a:off x="5223600" y="3560760"/>
            <a:ext cx="984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PASIV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8" name="Rectangle 10"/>
          <p:cNvSpPr/>
          <p:nvPr/>
        </p:nvSpPr>
        <p:spPr>
          <a:xfrm>
            <a:off x="1853280" y="4094280"/>
            <a:ext cx="20451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Disponible       20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Clientes           50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Stocks             40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ctivo Fijo       30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TOTAL            140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9" name="Rectangle 11"/>
          <p:cNvSpPr/>
          <p:nvPr/>
        </p:nvSpPr>
        <p:spPr>
          <a:xfrm>
            <a:off x="4725720" y="4094280"/>
            <a:ext cx="236088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Ctas. Contrapar.  20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Exigible C/P        20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Exigible L/P         60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Capital Propio      40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TOTAL                140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1066320" y="-360"/>
            <a:ext cx="6782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PATRIMONIAL DINÁMICO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762120" y="1905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2000"/>
          </a:bodyPr>
          <a:p>
            <a:pPr marL="385200" indent="-3852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2. Esquema de origen y aplicación de fondos (F. y E.)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627920" y="3581280"/>
            <a:ext cx="525636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- Empresa con equilibrio Financiero, muy sólida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- Endeudamiento de buena calidad  LP v/s CP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- ¿Que son las cuentas de contrapartida?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title"/>
          </p:nvPr>
        </p:nvSpPr>
        <p:spPr>
          <a:xfrm>
            <a:off x="1066320" y="-360"/>
            <a:ext cx="6782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PATRIMONIAL DINÁMICO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03T04:43:44Z</dcterms:created>
  <dc:creator>Eduardo Contreras</dc:creator>
  <dc:description/>
  <dc:language>en-US</dc:language>
  <cp:lastModifiedBy>Claudio Jiménez</cp:lastModifiedBy>
  <cp:lastPrinted>2002-11-13T13:47:55Z</cp:lastPrinted>
  <dcterms:modified xsi:type="dcterms:W3CDTF">2011-03-21T15:24:50Z</dcterms:modified>
  <cp:revision>372</cp:revision>
  <dc:subject/>
  <dc:title>Análisis Financiero</dc:title>
</cp:coreProperties>
</file>