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98E9D-C1E1-40BF-B554-FCD6CE1B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A042B-7FDC-4EB7-B6DC-49D2B890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7648C-C184-48DB-8F8C-DB43D58B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29A6B-1151-406F-9400-F8278594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CCF27-D2D8-43E0-B5A8-C9FED55B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B3C1A-C2BB-4156-8760-27936CE6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8B405-4C01-4190-BD13-F8584802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E7CD1-3423-4596-9D8C-83A4C4D0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CA5D7-2707-4000-881B-71E3EF9D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D3974-99A6-4FA4-906E-F868F331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3EDD3-088E-4FD9-90B9-51092645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E49AA-B538-46AC-9147-D5E70342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D4C2-6D4F-4853-B908-2EE86ABF947F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3059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234720" indent="-23472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34720" indent="-23472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quilibrio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quilibrio contable ACT=PAS (por defini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: Debe haber un equilibrio financier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fuerza interna a la liquidez debe equilibrarse con la tendencia a la exigibilidad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.: Maquina que vale 100, vida útil 5 años, financiada con crédito a 3 añ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ende a la liquidez a razón de 20/añ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gibilidad de 33,3/año más interes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846720" indent="-1936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AY DESEQUILIBRIO PATRIMONIA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ALISIS PATRIMONIAL I (ESTATICO) 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JO TEST: En el ejemplo anterior, en ausencia de otros activos y pasivos;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La empresa es insolvente? Contestar SI o N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276840" indent="-2768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76840" indent="-276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el ejemplo anterior, en ausencia de otros activos y pasivos;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35320" indent="-257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ución: Pagar con utilidades del proyecto (cash flow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35320" indent="-257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  hay riesgo (Ej.: caída de vent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276840" indent="-276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 La existencia de equilibrio no implica eliminar el riesgo propio del proyecto, pero garantiza más solvencia, un adverso al riesgo preferirá el equilibr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5805360"/>
            <a:ext cx="82915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osible equilibrio para adversos al riesg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149480" y="1981080"/>
            <a:ext cx="6692760" cy="3873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1149480" y="266688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4495680" y="1987560"/>
            <a:ext cx="0" cy="3873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323080" y="211284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756760" y="211284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548720" y="3179880"/>
            <a:ext cx="22359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Activo Fijo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4860000" y="3255840"/>
            <a:ext cx="16275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Exigible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Exigible L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1149480" y="4114800"/>
            <a:ext cx="341604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4502160" y="3657600"/>
            <a:ext cx="3340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4502160" y="4724280"/>
            <a:ext cx="3416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3000"/>
          </a:bodyPr>
          <a:p>
            <a:pPr marL="108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08000" indent="-108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 E= Exigible (CP y LP)/ Capital Propi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’ = Activo Total/Capital Propio= E + 1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ngos (Chile)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&lt;0,4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=0,4 Medi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0,4&lt;E&lt;1 Medio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&gt;1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s país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pañ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: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2: Medio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: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4: Extremadamente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: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2:Medio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: Extremadamente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17884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lgunos ejemplos en Chil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          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99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2004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2009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SQM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28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5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DELNOR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1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4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9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l Tepual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6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6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-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2000"/>
          </a:bodyPr>
          <a:p>
            <a:pPr marL="1501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 mayores ratios de endeudamiento requiero activos con mayor tendencia a la liquidez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alto =&gt; Riesgo </a:t>
            </a:r>
            <a:r>
              <a:rPr b="0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potencial,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ero la empresa podría responder si genera suficiente liquidez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alto y baja liquidez =&gt; Falta de garantías creditici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atios bajos y baja liquidez=&gt; Mayores garantías para los acreedores, estos pueden cobrar (en caso de no pago de deuda) adueñándose del capital propio, cambiando deuda por acciones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depende del sec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8900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tructura General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mpresas deberían tender a diferenciarse según su activ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ductoras (Minería, empresas de energía y de transportes, manufactureras, etc.):AF &gt;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rcializadoras (consultoras, tiendas de abarrotes, restaurantes, etc.):AC&gt;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142640"/>
            <a:ext cx="86421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8000"/>
          </a:bodyPr>
          <a:p>
            <a:pPr marL="842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84240" indent="-84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Funcionales vs extrafuncionales e interino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 normal: Todo 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extrafuncional es pequeño OK, si es mayor al 10% habría que investigar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34720" indent="-70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Si es con ánimo especulativo ¿Es voluntad de los accionistas?, ¿Dificulta nuestra posición frente a nuestros acreedores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inos: Hasta un 5% no es preocupante, mas sí porque los interinos no rinden desde el punto de vista econó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3472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08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4000"/>
          </a:bodyPr>
          <a:p>
            <a:pPr marL="655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65520" indent="-655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rial vs Inmater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Hasta un 30% de inmateriales , con más hay que investigar,ya que  no son garantía creditici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Hay gran volatilidad de precios en inmateriales, no están sujetos a apreciación direc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65520" indent="-655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Grado de consolidación del 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Consolidado: Tiende muy poco a la liquidez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82520" indent="-55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Terrenos superconsolidados (no se deprecia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82520" indent="-55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dificios son muy consolidad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F muy consolidados, no tienden a la liquidez =&gt; Necesidad de correspondencia con el capital propio (no sirven para cubrir exigibles de CP y LP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Grado de obsolescencia del AF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a depreciación acumulada es un alto porcentaje del activo =&gt; necesidad de reponerlos y de contar con cash flow para ell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utofinanci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neración interna de recursos, cuando aplicamos las utilidades 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is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reci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La ampliación de capital no es de generación intern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utofinanci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ntido restringido: Autofinanc.&lt;=&gt;Reserv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 =&gt; Restringir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porción capital propio vs reservas dependerá de los intereses de los accion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lidad del 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uánto exigible es a CP?, ¿Cuánto a LP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ejor LP que CP (Ej: 80% LP y 20% CP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ual es el horizonte del LP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: 80% es a LP pero a 2 años ¡¡¡ARGG!!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A quién le deb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jo con proveedores monopólicos y bancos que tengan garantías hipotecari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cursos cíclicos vs expres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esa tener cíclicos (se regeneran automáticament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édito de proveed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cuento bancario de documen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 vencimiento expreso ( una vez y venc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se adaptan a las necesidades de circul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uede ser un crédito banc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íneas de crédito no son cíclic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Concepto económico financiero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conómico: Riqueza en funcionamiento para generar más riquez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: Una máquina abandonada no es activo desde el punto de vista econó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incipio financiero: Fuerza interna (tendencia) a la liquidez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liquidez el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49480" y="3289320"/>
            <a:ext cx="6692760" cy="3263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Line 5"/>
          <p:cNvSpPr/>
          <p:nvPr/>
        </p:nvSpPr>
        <p:spPr>
          <a:xfrm>
            <a:off x="4419720" y="3289320"/>
            <a:ext cx="0" cy="32637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143000" y="3816360"/>
            <a:ext cx="0" cy="633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7"/>
          <p:cNvSpPr/>
          <p:nvPr/>
        </p:nvSpPr>
        <p:spPr>
          <a:xfrm>
            <a:off x="1149480" y="373392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2094480" y="325584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842360" y="325584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698480" y="3941640"/>
            <a:ext cx="20894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tas. por cobra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P.acabad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P.en curs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Mat.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Arc 11"/>
          <p:cNvSpPr/>
          <p:nvPr/>
        </p:nvSpPr>
        <p:spPr>
          <a:xfrm>
            <a:off x="1258920" y="4365720"/>
            <a:ext cx="146160" cy="298440"/>
          </a:xfrm>
          <a:custGeom>
            <a:avLst/>
            <a:gdLst>
              <a:gd name="textAreaLeft" fmla="*/ 0 w 146160"/>
              <a:gd name="textAreaRight" fmla="*/ 146520 w 1461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761"/>
                  <a:pt x="9528" y="129"/>
                  <a:pt x="21365" y="0"/>
                </a:cubicBezTo>
              </a:path>
              <a:path stroke="0" w="21600" h="21599">
                <a:moveTo>
                  <a:pt x="0" y="21599"/>
                </a:moveTo>
                <a:cubicBezTo>
                  <a:pt x="0" y="9761"/>
                  <a:pt x="9528" y="129"/>
                  <a:pt x="21365" y="0"/>
                </a:cubicBezTo>
                <a:lnTo>
                  <a:pt x="21600" y="21599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Arc 12"/>
          <p:cNvSpPr/>
          <p:nvPr/>
        </p:nvSpPr>
        <p:spPr>
          <a:xfrm>
            <a:off x="1187280" y="4724280"/>
            <a:ext cx="222480" cy="298440"/>
          </a:xfrm>
          <a:custGeom>
            <a:avLst/>
            <a:gdLst>
              <a:gd name="textAreaLeft" fmla="*/ 0 w 222480"/>
              <a:gd name="textAreaRight" fmla="*/ 222840 w 2224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729"/>
                  <a:pt x="9577" y="84"/>
                  <a:pt x="21445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729"/>
                  <a:pt x="9577" y="84"/>
                  <a:pt x="21445" y="-1"/>
                </a:cubicBezTo>
                <a:lnTo>
                  <a:pt x="21600" y="21599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Arc 13"/>
          <p:cNvSpPr/>
          <p:nvPr/>
        </p:nvSpPr>
        <p:spPr>
          <a:xfrm>
            <a:off x="1187280" y="53006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Tiende a la liquidez el Activo Fijo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¡También! =&gt; Vía depreci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depreciación es una parte del cash flow que debería considerarse para reposiciones de equip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cepciones: Terrenos y acc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480" y="1267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91240" indent="-2912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Concepto económico financiero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62680" indent="-270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conómico: El pasivo es la lista de agentes económicos, dueños del activo, a ser retribuído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808920" indent="-244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Propio (Patrimonio): Propietarios de pleno derech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050120" indent="-2401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tribuye con dividen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808920" indent="-244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Exigible (deuda):Propietarios transitor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050120" indent="-2401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tribuye con interes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562680" indent="-270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rincipio financiero: Tendencia a la exigibil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incipi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endencia interna a la exigibilidad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el exigible de CP tenemos  la mayor exigi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LP tiende por definición a la exigi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009800" y="3429000"/>
            <a:ext cx="60832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3962520" y="3130560"/>
            <a:ext cx="0" cy="30351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920880" y="3886200"/>
            <a:ext cx="6006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256400" y="333216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61480" y="333216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645800" y="4170240"/>
            <a:ext cx="1376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Arc 10"/>
          <p:cNvSpPr/>
          <p:nvPr/>
        </p:nvSpPr>
        <p:spPr>
          <a:xfrm>
            <a:off x="6400800" y="4267080"/>
            <a:ext cx="374760" cy="451080"/>
          </a:xfrm>
          <a:custGeom>
            <a:avLst/>
            <a:gdLst>
              <a:gd name="textAreaLeft" fmla="*/ 0 w 374760"/>
              <a:gd name="textAreaRight" fmla="*/ 375120 w 37476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Arc 11"/>
          <p:cNvSpPr/>
          <p:nvPr/>
        </p:nvSpPr>
        <p:spPr>
          <a:xfrm>
            <a:off x="6400800" y="4724280"/>
            <a:ext cx="374760" cy="374760"/>
          </a:xfrm>
          <a:custGeom>
            <a:avLst/>
            <a:gdLst>
              <a:gd name="textAreaLeft" fmla="*/ 0 w 374760"/>
              <a:gd name="textAreaRight" fmla="*/ 375120 w 3747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342720" indent="-342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Y el patrimonio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42720" indent="-342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¡Tambien!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62760" indent="-318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o extremo: Al liquidar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662760" indent="-318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o normal: Cuando hay pérdidas (previsiones y regularización de pérdidas contra reserv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52560" indent="-288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 una exigibilidad sin fecha concreta, no contractu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laudio Jiménez</cp:lastModifiedBy>
  <cp:lastPrinted>2002-11-13T13:47:55Z</cp:lastPrinted>
  <dcterms:modified xsi:type="dcterms:W3CDTF">2011-03-17T16:00:24Z</dcterms:modified>
  <cp:revision>364</cp:revision>
  <dc:subject/>
  <dc:title>Formulación de Proyectos</dc:title>
</cp:coreProperties>
</file>