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078A0-5C48-4FBB-A8A3-F5544A09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F2795-3396-4467-8C8C-48C1D11D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83BCC-0CBB-44F8-B89D-B4A5A515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6455D-7B76-4005-8E9C-36CB4282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8696F-E377-4E45-A8FC-4E64905F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872C5-576A-49E1-AF3B-929E3B3F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AFB5F-8145-4E1A-9CE2-3227D1A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A1DE-BE26-4A9F-B691-FD5A0F59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788F-A8EA-437A-8368-F72C9C3E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82030-3694-4E14-80EC-DD79F619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0F2AA-07F7-4A99-B160-51777A73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772B-7F1A-48F2-87FD-15C73A96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131-CC8F-4179-A546-B94BF09C330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7T16:00:24Z</dcterms:modified>
  <cp:revision>364</cp:revision>
  <dc:subject/>
  <dc:title>Formulación de Proyectos</dc:title>
</cp:coreProperties>
</file>