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18F56-69AE-49E4-A3EB-530A6126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9BB4B-A29F-46D3-B244-E24C1D0B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D50DE-DF0C-4A03-9897-063DF9C4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8D989-A206-4B8F-8D97-73FA32B7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C6ADD-8520-4A56-B46E-66938C44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C3C35-3F5F-48C0-A623-A7CE6E1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407AA-A5E0-4DBF-9F9F-709334C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D37BF-46D0-4803-A18D-57D96F5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814EA-AE3C-4306-B592-DDE5CB3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FA735-C193-4A60-9671-BD00229A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952A0-7C3F-429E-BB4B-A2590408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1583F-AB8B-4481-9DC0-ECF1BCF2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83A-BF9F-4B14-877E-B35BFFC7C610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7T16:00:24Z</dcterms:modified>
  <cp:revision>364</cp:revision>
  <dc:subject/>
  <dc:title>Formulación de Proyectos</dc:title>
</cp:coreProperties>
</file>