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CBE890-61B6-4A23-A401-14D7748D0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DE441-1433-4AA8-9374-F6A95C40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0BB5B-A554-470C-88D6-8689EB0B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EA89A4-0358-4827-86E8-6BDD820C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EF252-ADB9-4D75-A4D7-9C94F2ED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888A0F-4865-4050-93E1-BB150455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7A15B1-92C5-4103-A5A5-1B2ECFB5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318DAB-78AB-44EB-8235-9421A15D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E56266-D731-4E76-BE38-3C4701E0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F9D492-36A2-41FF-990F-7E89FBA6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01C149-85BC-4BD0-B37B-49A1E05FF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8CEF7-2AA2-4AD6-B628-ED3469DF6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1A1B-FC26-49D0-A210-07BEAE8570B3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830592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marL="234720" indent="-23472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234720" indent="-23472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quilibrio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453960" indent="-2181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quilibrio contable ACT=PAS (por definición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453960" indent="-2181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ero: Debe haber un equilibrio financiero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52320" indent="-197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fuerza interna a la liquidez debe equilibrarse con la tendencia a la exigibilidad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453960" indent="-2181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.: Maquina que vale 100, vida útil 5 años, financiada con crédito a 3 añ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52320" indent="-197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iende a la liquidez a razón de 20/añ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52320" indent="-197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xigibilidad de 33,3/año más interes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846720" indent="-1936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AY DESEQUILIBRIO PATRIMONIA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ALISIS PATRIMONIAL I (ESTATICO) 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JO TEST: En el ejemplo anterior, en ausencia de otros activos y pasivos;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La empresa es insolvente? Contestar SI o N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21760" y="5618160"/>
            <a:ext cx="24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9000"/>
          </a:bodyPr>
          <a:p>
            <a:pPr marL="276840" indent="-27684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276840" indent="-2768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n el ejemplo anterior, en ausencia de otros activos y pasivos;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535320" indent="-257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lución: Pagar con utilidades del proyecto (cash flow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35320" indent="-257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ero  hay riesgo (Ej.: caída de ventas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276840" indent="-2768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NOTA: La existencia de equilibrio no implica eliminar el riesgo propio del proyecto, pero garantiza más solvencia, un adverso al riesgo preferirá el equilibri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221760" y="5618160"/>
            <a:ext cx="24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5805360"/>
            <a:ext cx="82915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osible equilibrio para adversos al riesg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149480" y="1981080"/>
            <a:ext cx="6692760" cy="38736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9" name="Line 5"/>
          <p:cNvSpPr/>
          <p:nvPr/>
        </p:nvSpPr>
        <p:spPr>
          <a:xfrm>
            <a:off x="1149480" y="2666880"/>
            <a:ext cx="66927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4495680" y="1987560"/>
            <a:ext cx="0" cy="38736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323080" y="2112840"/>
            <a:ext cx="99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5756760" y="2112840"/>
            <a:ext cx="98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1548720" y="3179880"/>
            <a:ext cx="22359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. Activo 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. Activo Fijo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4860000" y="3255840"/>
            <a:ext cx="16275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. Exigible C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. Exigible L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3. Patrimon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5" name="Line 11"/>
          <p:cNvSpPr/>
          <p:nvPr/>
        </p:nvSpPr>
        <p:spPr>
          <a:xfrm>
            <a:off x="1149480" y="4114800"/>
            <a:ext cx="341604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6" name="Line 12"/>
          <p:cNvSpPr/>
          <p:nvPr/>
        </p:nvSpPr>
        <p:spPr>
          <a:xfrm>
            <a:off x="4502160" y="3657600"/>
            <a:ext cx="33400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7" name="Line 13"/>
          <p:cNvSpPr/>
          <p:nvPr/>
        </p:nvSpPr>
        <p:spPr>
          <a:xfrm>
            <a:off x="4502160" y="4724280"/>
            <a:ext cx="34164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3000"/>
          </a:bodyPr>
          <a:p>
            <a:pPr marL="108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108000" indent="-108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ndeud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208800" indent="-100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tio E= Exigible (CP y LP)/ Capital Propi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08800" indent="-100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’ = Activo Total/Capital Propio= E + 1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08800" indent="-100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ngos (Chile)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299880" indent="-90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&lt;0,4 Baj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299880" indent="-90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=0,4 Medio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299880" indent="-90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0,4&lt;E&lt;1 Medio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299880" indent="-90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&gt;1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tros paíse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paña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1: Baj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2: Medio Baj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3: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4: Extremadamente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1: Baj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2:Medio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3: Extremadamente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178840" cy="525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lgunos ejemplos en Chile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          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1999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2004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2009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SQM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0,69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0,28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1,15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EDELNOR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1,11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0,64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0,69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El Tepual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1,69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1,16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-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2000"/>
          </a:bodyPr>
          <a:p>
            <a:pPr marL="1501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150120" indent="-15012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A mayores ratios de endeudamiento requiero activos con mayor tendencia a la liquidez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150120" indent="-15012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” alto =&gt; Riesgo </a:t>
            </a:r>
            <a:r>
              <a:rPr b="0" lang="es-ES_tradnl" sz="2400" spc="-1" strike="noStrike" u="sng">
                <a:solidFill>
                  <a:srgbClr val="4d4d4d"/>
                </a:solidFill>
                <a:uFillTx/>
                <a:latin typeface="Verdana"/>
              </a:rPr>
              <a:t>potencial,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ero la empresa podría responder si genera suficiente liquidez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150120" indent="-15012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” alto y baja liquidez =&gt; Falta de garantías crediticia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150120" indent="-15012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Ratios bajos y baja liquidez=&gt; Mayores garantías para los acreedores, estos pueden cobrar (en caso de no pago de deuda) adueñándose del capital propio, cambiando deuda por acciones 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150120" indent="-15012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” depende del sector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60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98900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structura General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mpresas deberían tender a diferenciarse según su actividad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ductoras (Minería, empresas de energía y de transportes, manufactureras, etc.):AF &gt; AC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ercializadoras (consultoras, tiendas de abarrotes, restaurantes, etc.):AC&gt;AF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50920" y="1142640"/>
            <a:ext cx="86421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8000"/>
          </a:bodyPr>
          <a:p>
            <a:pPr marL="842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activo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84240" indent="-8424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Funcionales vs extrafuncionales e interinos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163080" indent="-78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 normal: Todo 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163080" indent="-78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extrafuncional es pequeño OK, si es mayor al 10% habría que investigar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234720" indent="-70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.: Si es con ánimo especulativo ¿Es voluntad de los accionistas?, ¿Dificulta nuestra posición frente a nuestros acreedores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163080" indent="-78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inos: Hasta un 5% no es preocupante, mas sí porque los interinos no rinden desde el punto de vista económic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23472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4760" y="-2289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0834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4000"/>
          </a:bodyPr>
          <a:p>
            <a:pPr marL="655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activo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65520" indent="-655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aterial vs Inmater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127080" indent="-60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Hasta un 30% de inmateriales , con más hay que investigar,ya que  no son garantía crediticia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27080" indent="-60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Hay gran volatilidad de precios en inmateriales, no están sujetos a apreciación directa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65520" indent="-655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Grado de consolidación del activo fij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127080" indent="-60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Consolidado: Tiende muy poco a la liquidez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2" marL="182520" indent="-55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.: Terrenos superconsolidados (no se deprecian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82520" indent="-55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dificios son muy consolidad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F muy consolidados, no tienden a la liquidez =&gt; Necesidad de correspondencia con el capital propio (no sirven para cubrir exigibles de CP y LP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Grado de obsolescencia del AF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la depreciación acumulada es un alto porcentaje del activo =&gt; necesidad de reponerlos y de contar con cash flow para ell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54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utofinanci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eneración interna de recursos, cuando aplicamos las utilidades a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65760" indent="-3834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serv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vision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preci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OJO: La ampliación de capital no es de generación intern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554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utofinanci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ntido restringido: Autofinanc.&lt;=&gt;Reserv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utofinanciación =&gt; Restringir dividend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porción capital propio vs reservas dependerá de los intereses de los accionist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alidad del endeud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uánto exigible es a CP?, ¿Cuánto a LP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ejor LP que CP (Ej: 80% LP y 20% CP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ual es el horizonte del LP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: 80% es a LP pero a 2 años ¡¡¡ARGG!!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A quién le debo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Ojo con proveedores monopólicos y bancos que tengan garantías hipotecari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79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cursos cíclicos vs expres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esa tener cíclicos (se regeneran automáticamente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rédito de proveedor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scuento bancario de documen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 vencimiento expreso ( una vez y vence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No se adaptan a las necesidades de circulant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uede ser un crédito banc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íneas de crédito no son cíclic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Concepto económico financier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Concepto económico financiero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la estructura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 la estructura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35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Concepto económico financier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conómico: Riqueza en funcionamiento para generar más riqueza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: Una máquina abandonada no es activo desde el punto de vista económic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rincipio financiero: Fuerza interna (tendencia) a la liquidez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143000" y="0"/>
            <a:ext cx="7543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ANALISIS PATRIMONIAL I (ESTATICO)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Concepto económico financier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iende a la liquidez el circulant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149480" y="3289320"/>
            <a:ext cx="6692760" cy="32637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Line 5"/>
          <p:cNvSpPr/>
          <p:nvPr/>
        </p:nvSpPr>
        <p:spPr>
          <a:xfrm>
            <a:off x="4419720" y="3289320"/>
            <a:ext cx="0" cy="326376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Line 6"/>
          <p:cNvSpPr/>
          <p:nvPr/>
        </p:nvSpPr>
        <p:spPr>
          <a:xfrm>
            <a:off x="1143000" y="3816360"/>
            <a:ext cx="0" cy="6336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Line 7"/>
          <p:cNvSpPr/>
          <p:nvPr/>
        </p:nvSpPr>
        <p:spPr>
          <a:xfrm>
            <a:off x="1149480" y="3733920"/>
            <a:ext cx="66927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2094480" y="3255840"/>
            <a:ext cx="99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4842360" y="3255840"/>
            <a:ext cx="98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1698480" y="3941640"/>
            <a:ext cx="20894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. 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sponib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tas. por cobrar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P.acabad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P.en curs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Mat. 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Arc 11"/>
          <p:cNvSpPr/>
          <p:nvPr/>
        </p:nvSpPr>
        <p:spPr>
          <a:xfrm>
            <a:off x="1258920" y="4365720"/>
            <a:ext cx="146160" cy="298440"/>
          </a:xfrm>
          <a:custGeom>
            <a:avLst/>
            <a:gdLst>
              <a:gd name="textAreaLeft" fmla="*/ 0 w 146160"/>
              <a:gd name="textAreaRight" fmla="*/ 146520 w 1461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fill="none" w="21600" h="21599">
                <a:moveTo>
                  <a:pt x="0" y="21599"/>
                </a:moveTo>
                <a:cubicBezTo>
                  <a:pt x="0" y="9761"/>
                  <a:pt x="9528" y="129"/>
                  <a:pt x="21365" y="0"/>
                </a:cubicBezTo>
              </a:path>
              <a:path stroke="0" w="21600" h="21599">
                <a:moveTo>
                  <a:pt x="0" y="21599"/>
                </a:moveTo>
                <a:cubicBezTo>
                  <a:pt x="0" y="9761"/>
                  <a:pt x="9528" y="129"/>
                  <a:pt x="21365" y="0"/>
                </a:cubicBezTo>
                <a:lnTo>
                  <a:pt x="21600" y="21599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Arc 12"/>
          <p:cNvSpPr/>
          <p:nvPr/>
        </p:nvSpPr>
        <p:spPr>
          <a:xfrm>
            <a:off x="1187280" y="4724280"/>
            <a:ext cx="222480" cy="298440"/>
          </a:xfrm>
          <a:custGeom>
            <a:avLst/>
            <a:gdLst>
              <a:gd name="textAreaLeft" fmla="*/ 0 w 222480"/>
              <a:gd name="textAreaRight" fmla="*/ 222840 w 22248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fill="none" w="21600" h="21599">
                <a:moveTo>
                  <a:pt x="0" y="21599"/>
                </a:moveTo>
                <a:cubicBezTo>
                  <a:pt x="0" y="9729"/>
                  <a:pt x="9577" y="84"/>
                  <a:pt x="21445" y="-1"/>
                </a:cubicBezTo>
              </a:path>
              <a:path stroke="0" w="21600" h="21599">
                <a:moveTo>
                  <a:pt x="0" y="21599"/>
                </a:moveTo>
                <a:cubicBezTo>
                  <a:pt x="0" y="9729"/>
                  <a:pt x="9577" y="84"/>
                  <a:pt x="21445" y="-1"/>
                </a:cubicBezTo>
                <a:lnTo>
                  <a:pt x="21600" y="21599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Arc 13"/>
          <p:cNvSpPr/>
          <p:nvPr/>
        </p:nvSpPr>
        <p:spPr>
          <a:xfrm>
            <a:off x="1187280" y="5300640"/>
            <a:ext cx="374760" cy="298440"/>
          </a:xfrm>
          <a:custGeom>
            <a:avLst/>
            <a:gdLst>
              <a:gd name="textAreaLeft" fmla="*/ 0 w 374760"/>
              <a:gd name="textAreaRight" fmla="*/ 375120 w 3747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</a:path>
              <a:path stroke="0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1143000" y="0"/>
            <a:ext cx="7543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ANALISIS PATRIMONIAL I (ESTATICO)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Tiende a la liquidez el Activo Fijo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¡También! =&gt; Vía depreci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depreciación es una parte del cash flow que debería considerarse para reposiciones de equipo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cepciones: Terrenos y accion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1143000" y="0"/>
            <a:ext cx="7543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ANALISIS PATRIMONIAL I (ESTATICO)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09480" y="1267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2000"/>
          </a:bodyPr>
          <a:p>
            <a:pPr marL="291240" indent="-29124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Concepto económico financiero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562680" indent="-27036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conómico: El pasivo es la lista de agentes económicos, dueños del activo, a ser retribuído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2" marL="808920" indent="-244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ital Propio (Patrimonio): Propietarios de pleno derech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050120" indent="-2401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e retribuye con dividend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808920" indent="-244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ital Exigible (deuda):Propietarios transitori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050120" indent="-2401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e retribuye con interes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562680" indent="-27036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rincipio financiero: Tendencia a la exigibilidad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143000" y="0"/>
            <a:ext cx="7543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ANALISIS PATRIMONIAL I (ESTATICO)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incipio 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endencia interna a la exigibilidad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n el exigible de CP tenemos  la mayor exigibilidad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l LP tiende por definición a la exigibilidad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009800" y="3429000"/>
            <a:ext cx="6083280" cy="2959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3962520" y="3130560"/>
            <a:ext cx="0" cy="303516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920880" y="3886200"/>
            <a:ext cx="60069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256400" y="3332160"/>
            <a:ext cx="99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4461480" y="3332160"/>
            <a:ext cx="98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4645800" y="4170240"/>
            <a:ext cx="13762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C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L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trimon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Arc 10"/>
          <p:cNvSpPr/>
          <p:nvPr/>
        </p:nvSpPr>
        <p:spPr>
          <a:xfrm>
            <a:off x="6400800" y="4267080"/>
            <a:ext cx="374760" cy="451080"/>
          </a:xfrm>
          <a:custGeom>
            <a:avLst/>
            <a:gdLst>
              <a:gd name="textAreaLeft" fmla="*/ 0 w 374760"/>
              <a:gd name="textAreaRight" fmla="*/ 375120 w 374760"/>
              <a:gd name="textAreaTop" fmla="*/ 0 h 451080"/>
              <a:gd name="textAreaBottom" fmla="*/ 451440 h 451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5" name="Arc 11"/>
          <p:cNvSpPr/>
          <p:nvPr/>
        </p:nvSpPr>
        <p:spPr>
          <a:xfrm>
            <a:off x="6400800" y="4724280"/>
            <a:ext cx="374760" cy="374760"/>
          </a:xfrm>
          <a:custGeom>
            <a:avLst/>
            <a:gdLst>
              <a:gd name="textAreaLeft" fmla="*/ 0 w 374760"/>
              <a:gd name="textAreaRight" fmla="*/ 375120 w 37476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342720" indent="-342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Y el patrimonio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42720" indent="-342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¡Tambien!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662760" indent="-3182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so extremo: Al liquidar la empre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662760" indent="-3182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so normal: Cuando hay pérdidas (previsiones y regularización de pérdidas contra reservas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952560" indent="-2883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 una exigibilidad sin fecha concreta, no contractual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Claudio Jiménez</cp:lastModifiedBy>
  <cp:lastPrinted>2002-11-13T13:47:55Z</cp:lastPrinted>
  <dcterms:modified xsi:type="dcterms:W3CDTF">2011-03-17T16:00:24Z</dcterms:modified>
  <cp:revision>364</cp:revision>
  <dc:subject/>
  <dc:title>Formulación de Proyectos</dc:title>
</cp:coreProperties>
</file>