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868B2-1ACC-47F2-BEF7-72C0FF22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54F06-C83C-4888-895D-E39C2167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990D3-13BC-4A0D-9C9C-9FC9BB91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F9583B-B1C3-4DDE-B020-9BE92A7F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13A59-8848-4BC4-8B8D-0870ABDD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D5B5B-314C-4F05-88B9-2B93ECDB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C11B5-95C9-4779-A50D-CBDDBC65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67618-4007-4EE7-9BF5-3DFF4EA2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034E8-E810-421A-B310-91D03B9C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DE722-0091-4EF7-8300-6C517CAE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12F8C-4CED-45B6-A45D-CF079BCF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3F133-6597-4368-A79D-BA3AFA29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3232-33DC-4F89-B9CB-5CE68F47A2FF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iclo de maduración del negoc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3071880" y="3108240"/>
            <a:ext cx="5172120" cy="3368520"/>
            <a:chOff x="3071880" y="3108240"/>
            <a:chExt cx="5172120" cy="3368520"/>
          </a:xfrm>
        </p:grpSpPr>
        <p:sp>
          <p:nvSpPr>
            <p:cNvPr id="107" name="Arc 4"/>
            <p:cNvSpPr/>
            <p:nvPr/>
          </p:nvSpPr>
          <p:spPr>
            <a:xfrm>
              <a:off x="3922560" y="3198600"/>
              <a:ext cx="1484640" cy="1484280"/>
            </a:xfrm>
            <a:custGeom>
              <a:avLst/>
              <a:gdLst>
                <a:gd name="textAreaLeft" fmla="*/ 0 w 1484640"/>
                <a:gd name="textAreaRight" fmla="*/ 1485000 w 148464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8" name="Arc 5"/>
            <p:cNvSpPr/>
            <p:nvPr/>
          </p:nvSpPr>
          <p:spPr>
            <a:xfrm rot="10800000">
              <a:off x="391608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</a:path>
                <a:path stroke="0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  <a:lnTo>
                    <a:pt x="23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9" name="Arc 6"/>
            <p:cNvSpPr/>
            <p:nvPr/>
          </p:nvSpPr>
          <p:spPr>
            <a:xfrm rot="10800000">
              <a:off x="541296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0" name="Arc 7"/>
            <p:cNvSpPr/>
            <p:nvPr/>
          </p:nvSpPr>
          <p:spPr>
            <a:xfrm rot="10800000">
              <a:off x="5325840" y="3803040"/>
              <a:ext cx="1571400" cy="8701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</a:path>
                <a:path stroke="0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5318280" y="3722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H="1">
              <a:off x="3908520" y="4154400"/>
              <a:ext cx="188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4879800" y="600048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6369120" y="5738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6281640" y="389700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5405400" y="310824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357880" y="3457440"/>
              <a:ext cx="790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6802560" y="4246200"/>
              <a:ext cx="144144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5043240" y="5822640"/>
              <a:ext cx="119772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5063400" y="3895560"/>
              <a:ext cx="12844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3071880" y="4858920"/>
              <a:ext cx="8319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3492720" y="3193920"/>
              <a:ext cx="1069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23" name="Rectangle 21"/>
          <p:cNvSpPr/>
          <p:nvPr/>
        </p:nvSpPr>
        <p:spPr>
          <a:xfrm>
            <a:off x="-91800" y="4854600"/>
            <a:ext cx="3133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Económic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opio+Fabricación+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Financiero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eríodo entre Ventas-Pag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4" marL="17586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iclo de maduración = Ciclo económico  +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Cicl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 cuentas de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activo fijo genera muchos ciclos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4857840" y="4038480"/>
            <a:ext cx="3787560" cy="2261160"/>
            <a:chOff x="4857840" y="4038480"/>
            <a:chExt cx="3787560" cy="2261160"/>
          </a:xfrm>
        </p:grpSpPr>
        <p:sp>
          <p:nvSpPr>
            <p:cNvPr id="127" name="Arc 4"/>
            <p:cNvSpPr/>
            <p:nvPr/>
          </p:nvSpPr>
          <p:spPr>
            <a:xfrm>
              <a:off x="5537160" y="410076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Arc 5"/>
            <p:cNvSpPr/>
            <p:nvPr/>
          </p:nvSpPr>
          <p:spPr>
            <a:xfrm rot="10800000">
              <a:off x="552456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</a:path>
                <a:path stroke="0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  <a:lnTo>
                    <a:pt x="44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Arc 6"/>
            <p:cNvSpPr/>
            <p:nvPr/>
          </p:nvSpPr>
          <p:spPr>
            <a:xfrm rot="10800000">
              <a:off x="672804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Arc 7"/>
            <p:cNvSpPr/>
            <p:nvPr/>
          </p:nvSpPr>
          <p:spPr>
            <a:xfrm rot="10800000">
              <a:off x="6657480" y="4523400"/>
              <a:ext cx="1254600" cy="60948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</a:path>
                <a:path stroke="0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6645600" y="4469760"/>
              <a:ext cx="0" cy="1072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 flipH="1">
              <a:off x="5512680" y="4770720"/>
              <a:ext cx="1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6294600" y="60778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7488720" y="5891400"/>
              <a:ext cx="0" cy="106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7418160" y="459432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716160" y="40384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6685560" y="4269960"/>
              <a:ext cx="4316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7855560" y="4826160"/>
              <a:ext cx="7898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6450120" y="5940720"/>
              <a:ext cx="6541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6460200" y="4579200"/>
              <a:ext cx="704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4857840" y="5259960"/>
              <a:ext cx="4546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19"/>
            <p:cNvSpPr/>
            <p:nvPr/>
          </p:nvSpPr>
          <p:spPr>
            <a:xfrm>
              <a:off x="5199480" y="4085640"/>
              <a:ext cx="5824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ivo Fijo : su permanencia material en la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empresa es superior a u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período de maduració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Material : Activo tangible, corpóreo, visibl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 :Todo el activo que tiene que ver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con el giro de la empres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Materi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odo el activo que no tiene que ver con el gi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 o transitor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sicamente activo funcional que aún no entra en ope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dificio en Construc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to por una máquina nueva que se está pagan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uncional - Extrafuncional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nónimo de operacional -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introduce esta distinción para guardar coherencia con las clasificaciones del estado de resultad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s funcionales generan Resultado Operacional y extrafuncionales generan Resultado N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ite calcular correctamente indicadores de Gest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424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ación por apreciación indirec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es voláti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ualmente no son aceptados como garantía crediti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t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216000" indent="-216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16000" indent="-216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ctivo que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no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Bono de próximo ven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se genera debido a la estructura de pasiv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Garantía en efectivo por un préstam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ilosof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no se ordenan de acuerdo a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se ordenan de acuerdo con su función en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misma cuenta puede tener dos clasificaciones al mismo tiemp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Ejemplo: Una empresa compra un terreno y sólo utiliza a la mitad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parte utilizada :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tivo fijo, mater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       funciona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guntamos a la gerencia por el destino del rest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edificaremos en el futuro : Activo fijo, material, interin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á a la venta : Activo circulante, 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amos a plantar : Activo fijo, extrafuncional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materi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40384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85800" y="51055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Profesor: Eduardo Contrer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Ingeniero Civil Industrial - Universidad de Chi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Master of Business Administration (MBA) - ES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constructora usa su posición en el directorio de la segunda empresa para conseguir precios más bara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lasificación : Activo Fijo, Funcional, In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epto :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ctr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Toda obligación reconocida con un tercero”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de Ordenamient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asivos se agruparán según su plazo de vencimien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9320" indent="-31932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“ Muy Largo o no conocido” (no exigible) 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trimonio (capital propio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conocido (exigible)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rgo Plaz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rto Plazo (pasivo circu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18840" y="5886360"/>
            <a:ext cx="788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: La clasificación Corto/Largo plazo depende del ciclo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duración  del negocio, pero habitualmente se usa 1 año como lími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149480" y="252720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495680" y="251460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323440" y="211932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56760" y="211932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5680" y="3186000"/>
            <a:ext cx="2532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pérdi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941720" y="3262320"/>
            <a:ext cx="3008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(Deu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Patrimonio (Cap.Propio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benefici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81080" y="-1717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americano (utilizado en Chile) ordena el activo de mas a menos líquidos y el pasivo de mas a menos exigible (como en cuadro anterior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francés (utilizado en Europa), ordena al revé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S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SIV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Fijo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curso se usarán ambos indistintamente (estamos globalizado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ciedades Anónimas Abierta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videndos de a lo menos el 30% de la utilidad líquida del ejercici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pérdidas acumuladas, las utilidades del ejercicio se destinan primero a absorverl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iferencia entre utilidades y dividendos puede ser traspasadas a Reservas Voluntari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, ¿ qué hacer como analista ?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érdidas se reducen del Capital Propio (regularización de la pérdida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los beneficios son antes de impuestos, debo pagarl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hay Reservas Obligatorias, debo dotarl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cidir Dividendos/Reservas Voluntari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Contrapartida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. Pero detallan cuentas del giro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n compensando cuentas del activo y pasivo (“Existen ssi existe su otra cara”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cuentas pueden aparecer o bien puede reducirse la cuenta fundamental a su “ valor neto “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empresa hace una ampliación de capital de 100 millones, desembolsándose sólo 80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cuenta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no pagadas  20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                       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         1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n cuenta 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Neto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Orden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entas que no afectan actualmente el Balanc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futuro pueden llegar a afectar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 Un empleado guarda en la caja fuerte joyas propias por una valor de 300 Millones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oyas en Custodia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00   Custodia de Joyas 3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visar los conceptos fundamentales del análisis financiero de balances y estados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arrollar destrezas en el cálculo e interpretación de indicadores de la gestión financiera de una empresa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tregar una metodología para la planificación financiera de corto plaz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lternativa múltip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a gran empresa consultora tiene un departamento con oficinas desocupadas y las arrienda a un bufett de abogados que no trabajan para la consultora. Este activo es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. Fij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. Circulante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. Interi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4. Fijo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5.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bás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Principios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21360" y="1719360"/>
            <a:ext cx="790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Tema 1. Introducción - Ordenamiento 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del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Balance.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qué ordenar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rmonía dent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o previo a la interpre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nálisis inter-empres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stencia de tres balanc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Gest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cienda - SI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1. El proceso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 Cómo ordenar el balance 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mienza con un balance desorden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efinen criterios de agrupación de masas patrimon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ordenan las grandes cuentas en base a los criterios de orde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.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5040360" y="2438280"/>
            <a:ext cx="2503440" cy="130356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5783400" y="4343400"/>
            <a:ext cx="1455480" cy="13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.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ort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arg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4T00:18:20Z</dcterms:modified>
  <cp:revision>361</cp:revision>
  <dc:subject/>
  <dc:title>Formulación de Proyectos</dc:title>
</cp:coreProperties>
</file>