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2B48DA-4170-4560-83E9-24E94BFE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FA311-74CD-4C26-B139-E0C0DF42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D4917-2F8C-44DF-8664-7A360583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D3F947-C9FB-4F5E-98A0-73C20FAE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75CC8-713C-4CA1-A6AA-8B811FA3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724730-3F63-4386-B296-E7B48EB4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AA566-9537-418C-8B94-E0427864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B22CB-5CA1-4C08-B335-02C6CAF2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1AEAF-AC8C-473D-8536-CFFE1C9D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CC387-0A2E-41FC-A3FF-FAB9493C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9F49D-613A-412A-BB7B-7DF2F93A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4F396-240F-49B7-89C6-36E47D40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77D3-4D89-468E-9E2C-8E0001003A6C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iclo de maduración del negoc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3071880" y="3108240"/>
            <a:ext cx="5172120" cy="3368520"/>
            <a:chOff x="3071880" y="3108240"/>
            <a:chExt cx="5172120" cy="3368520"/>
          </a:xfrm>
        </p:grpSpPr>
        <p:sp>
          <p:nvSpPr>
            <p:cNvPr id="107" name="Arc 4"/>
            <p:cNvSpPr/>
            <p:nvPr/>
          </p:nvSpPr>
          <p:spPr>
            <a:xfrm>
              <a:off x="3922560" y="3198600"/>
              <a:ext cx="1484640" cy="148428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8" name="Arc 5"/>
            <p:cNvSpPr/>
            <p:nvPr/>
          </p:nvSpPr>
          <p:spPr>
            <a:xfrm rot="10800000">
              <a:off x="391608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</a:path>
                <a:path stroke="0" w="21623" h="21600">
                  <a:moveTo>
                    <a:pt x="0" y="0"/>
                  </a:moveTo>
                  <a:cubicBezTo>
                    <a:pt x="7" y="0"/>
                    <a:pt x="15" y="-1"/>
                    <a:pt x="23" y="0"/>
                  </a:cubicBezTo>
                  <a:cubicBezTo>
                    <a:pt x="11943" y="0"/>
                    <a:pt x="21610" y="9656"/>
                    <a:pt x="21622" y="21577"/>
                  </a:cubicBezTo>
                  <a:lnTo>
                    <a:pt x="23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09" name="Arc 6"/>
            <p:cNvSpPr/>
            <p:nvPr/>
          </p:nvSpPr>
          <p:spPr>
            <a:xfrm rot="10800000">
              <a:off x="5412960" y="4687200"/>
              <a:ext cx="1484280" cy="14842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1484280"/>
                <a:gd name="textAreaBottom" fmla="*/ 1484640 h 1484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</a:path>
                <a:path stroke="0" w="21600" h="21600">
                  <a:moveTo>
                    <a:pt x="0" y="21577"/>
                  </a:moveTo>
                  <a:cubicBezTo>
                    <a:pt x="12" y="9665"/>
                    <a:pt x="9665" y="12"/>
                    <a:pt x="21577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0" name="Arc 7"/>
            <p:cNvSpPr/>
            <p:nvPr/>
          </p:nvSpPr>
          <p:spPr>
            <a:xfrm rot="10800000">
              <a:off x="5325840" y="3803040"/>
              <a:ext cx="1571400" cy="87012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870120"/>
                <a:gd name="textAreaBottom" fmla="*/ 870480 h 8701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</a:path>
                <a:path stroke="0" w="21600" h="21600">
                  <a:moveTo>
                    <a:pt x="21578" y="21599"/>
                  </a:moveTo>
                  <a:cubicBezTo>
                    <a:pt x="9657" y="21587"/>
                    <a:pt x="0" y="11920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5318280" y="3722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 flipH="1">
              <a:off x="3908520" y="4154400"/>
              <a:ext cx="18864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3" name="Line 10"/>
            <p:cNvSpPr/>
            <p:nvPr/>
          </p:nvSpPr>
          <p:spPr>
            <a:xfrm>
              <a:off x="4879800" y="600048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4" name="Line 11"/>
            <p:cNvSpPr/>
            <p:nvPr/>
          </p:nvSpPr>
          <p:spPr>
            <a:xfrm>
              <a:off x="6369120" y="5738400"/>
              <a:ext cx="0" cy="162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5" name="Line 12"/>
            <p:cNvSpPr/>
            <p:nvPr/>
          </p:nvSpPr>
          <p:spPr>
            <a:xfrm>
              <a:off x="6281640" y="389700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6" name="Line 13"/>
            <p:cNvSpPr/>
            <p:nvPr/>
          </p:nvSpPr>
          <p:spPr>
            <a:xfrm>
              <a:off x="5405400" y="3108240"/>
              <a:ext cx="0" cy="1634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7" name="Rectangle 14"/>
            <p:cNvSpPr/>
            <p:nvPr/>
          </p:nvSpPr>
          <p:spPr>
            <a:xfrm>
              <a:off x="5357880" y="3457440"/>
              <a:ext cx="790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8" name="Rectangle 15"/>
            <p:cNvSpPr/>
            <p:nvPr/>
          </p:nvSpPr>
          <p:spPr>
            <a:xfrm>
              <a:off x="6802560" y="4246200"/>
              <a:ext cx="144144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19" name="Rectangle 16"/>
            <p:cNvSpPr/>
            <p:nvPr/>
          </p:nvSpPr>
          <p:spPr>
            <a:xfrm>
              <a:off x="5043240" y="5822640"/>
              <a:ext cx="119772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0" name="Rectangle 17"/>
            <p:cNvSpPr/>
            <p:nvPr/>
          </p:nvSpPr>
          <p:spPr>
            <a:xfrm>
              <a:off x="5063400" y="3895560"/>
              <a:ext cx="128448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1" name="Rectangle 18"/>
            <p:cNvSpPr/>
            <p:nvPr/>
          </p:nvSpPr>
          <p:spPr>
            <a:xfrm>
              <a:off x="3071880" y="4858920"/>
              <a:ext cx="8319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2" name="Rectangle 19"/>
            <p:cNvSpPr/>
            <p:nvPr/>
          </p:nvSpPr>
          <p:spPr>
            <a:xfrm>
              <a:off x="3492720" y="3193920"/>
              <a:ext cx="1069560" cy="37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200" rIns="106200" tIns="52560" bIns="52560" anchor="t">
              <a:spAutoFit/>
            </a:bodyPr>
            <a:p>
              <a:pPr>
                <a:tabLst>
                  <a:tab algn="l" pos="0"/>
                  <a:tab algn="l" pos="1208160"/>
                  <a:tab algn="l" pos="2416320"/>
                  <a:tab algn="l" pos="3624120"/>
                  <a:tab algn="l" pos="4832280"/>
                  <a:tab algn="l" pos="6040440"/>
                  <a:tab algn="l" pos="7248600"/>
                  <a:tab algn="l" pos="8456760"/>
                  <a:tab algn="l" pos="9664560"/>
                  <a:tab algn="l" pos="1087272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23" name="Rectangle 21"/>
          <p:cNvSpPr/>
          <p:nvPr/>
        </p:nvSpPr>
        <p:spPr>
          <a:xfrm>
            <a:off x="-91800" y="4854600"/>
            <a:ext cx="31334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Económico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opio+Fabricación+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iclo Financiero 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eríodo entre Ventas-Pag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lvl="4" marL="17586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iclo de maduración = Ciclo económico  +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    Cicl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 cuentas de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62480" indent="-366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 activo fijo genera muchos ciclos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4857840" y="4038480"/>
            <a:ext cx="3787560" cy="2261160"/>
            <a:chOff x="4857840" y="4038480"/>
            <a:chExt cx="3787560" cy="2261160"/>
          </a:xfrm>
        </p:grpSpPr>
        <p:sp>
          <p:nvSpPr>
            <p:cNvPr id="127" name="Arc 4"/>
            <p:cNvSpPr/>
            <p:nvPr/>
          </p:nvSpPr>
          <p:spPr>
            <a:xfrm>
              <a:off x="5537160" y="410076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8" name="Arc 5"/>
            <p:cNvSpPr/>
            <p:nvPr/>
          </p:nvSpPr>
          <p:spPr>
            <a:xfrm rot="10800000">
              <a:off x="552456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</a:path>
                <a:path stroke="0" w="21644" h="21600">
                  <a:moveTo>
                    <a:pt x="0" y="0"/>
                  </a:moveTo>
                  <a:cubicBezTo>
                    <a:pt x="14" y="0"/>
                    <a:pt x="29" y="-1"/>
                    <a:pt x="44" y="0"/>
                  </a:cubicBezTo>
                  <a:cubicBezTo>
                    <a:pt x="11955" y="0"/>
                    <a:pt x="21619" y="9643"/>
                    <a:pt x="21643" y="21555"/>
                  </a:cubicBezTo>
                  <a:lnTo>
                    <a:pt x="44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29" name="Arc 6"/>
            <p:cNvSpPr/>
            <p:nvPr/>
          </p:nvSpPr>
          <p:spPr>
            <a:xfrm rot="10800000">
              <a:off x="6728040" y="5152680"/>
              <a:ext cx="1184040" cy="10432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1043280"/>
                <a:gd name="textAreaBottom" fmla="*/ 1043280 h 1043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</a:path>
                <a:path stroke="0" w="21600" h="21600">
                  <a:moveTo>
                    <a:pt x="0" y="21556"/>
                  </a:moveTo>
                  <a:cubicBezTo>
                    <a:pt x="24" y="9661"/>
                    <a:pt x="9661" y="24"/>
                    <a:pt x="21556" y="0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0" name="Arc 7"/>
            <p:cNvSpPr/>
            <p:nvPr/>
          </p:nvSpPr>
          <p:spPr>
            <a:xfrm rot="10800000">
              <a:off x="6657480" y="4523400"/>
              <a:ext cx="1254600" cy="609480"/>
            </a:xfrm>
            <a:custGeom>
              <a:avLst/>
              <a:gdLst>
                <a:gd name="textAreaLeft" fmla="*/ 0 w 1254600"/>
                <a:gd name="textAreaRight" fmla="*/ 1254960 w 12546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</a:path>
                <a:path stroke="0" w="21600" h="21600">
                  <a:moveTo>
                    <a:pt x="21558" y="21599"/>
                  </a:moveTo>
                  <a:cubicBezTo>
                    <a:pt x="9645" y="21576"/>
                    <a:pt x="0" y="11912"/>
                    <a:pt x="0" y="0"/>
                  </a:cubicBezTo>
                  <a:lnTo>
                    <a:pt x="21600" y="0"/>
                  </a:lnTo>
                  <a:close/>
                </a:path>
              </a:pathLst>
            </a:custGeom>
            <a:noFill/>
            <a:ln cap="rnd"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1" name="Line 8"/>
            <p:cNvSpPr/>
            <p:nvPr/>
          </p:nvSpPr>
          <p:spPr>
            <a:xfrm>
              <a:off x="6645600" y="4469760"/>
              <a:ext cx="0" cy="10728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2" name="Line 9"/>
            <p:cNvSpPr/>
            <p:nvPr/>
          </p:nvSpPr>
          <p:spPr>
            <a:xfrm flipH="1">
              <a:off x="5512680" y="4770720"/>
              <a:ext cx="16056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>
              <a:off x="6294600" y="60778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7488720" y="5891400"/>
              <a:ext cx="0" cy="1069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7418160" y="459432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6" name="Line 13"/>
            <p:cNvSpPr/>
            <p:nvPr/>
          </p:nvSpPr>
          <p:spPr>
            <a:xfrm>
              <a:off x="6716160" y="4038480"/>
              <a:ext cx="0" cy="105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7" name="Rectangle 14"/>
            <p:cNvSpPr/>
            <p:nvPr/>
          </p:nvSpPr>
          <p:spPr>
            <a:xfrm>
              <a:off x="6685560" y="4269960"/>
              <a:ext cx="4316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7855560" y="4826160"/>
              <a:ext cx="7898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Fabricación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6450120" y="5940720"/>
              <a:ext cx="6541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Stock 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Producto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0" name="Rectangle 17"/>
            <p:cNvSpPr/>
            <p:nvPr/>
          </p:nvSpPr>
          <p:spPr>
            <a:xfrm>
              <a:off x="6460200" y="4579200"/>
              <a:ext cx="7045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M. Prima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1" name="Rectangle 18"/>
            <p:cNvSpPr/>
            <p:nvPr/>
          </p:nvSpPr>
          <p:spPr>
            <a:xfrm>
              <a:off x="4857840" y="5259960"/>
              <a:ext cx="4546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Venta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42" name="Rectangle 19"/>
            <p:cNvSpPr/>
            <p:nvPr/>
          </p:nvSpPr>
          <p:spPr>
            <a:xfrm>
              <a:off x="5199480" y="4085640"/>
              <a:ext cx="5824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5440" rIns="55440" tIns="27000" bIns="27000" anchor="t">
              <a:spAutoFit/>
            </a:bodyPr>
            <a:p>
              <a:pPr>
                <a:tabLst>
                  <a:tab algn="l" pos="0"/>
                  <a:tab algn="l" pos="330120"/>
                  <a:tab algn="l" pos="660240"/>
                  <a:tab algn="l" pos="990720"/>
                  <a:tab algn="l" pos="1320840"/>
                  <a:tab algn="l" pos="1650960"/>
                  <a:tab algn="l" pos="1981080"/>
                  <a:tab algn="l" pos="2311560"/>
                  <a:tab algn="l" pos="2641680"/>
                  <a:tab algn="l" pos="2971800"/>
                  <a:tab algn="l" pos="3301920"/>
                  <a:tab algn="l" pos="3632040"/>
                  <a:tab algn="l" pos="3962520"/>
                  <a:tab algn="l" pos="4292640"/>
                  <a:tab algn="l" pos="4622760"/>
                  <a:tab algn="l" pos="4952880"/>
                  <a:tab algn="l" pos="5283360"/>
                  <a:tab algn="l" pos="5613480"/>
                  <a:tab algn="l" pos="5943600"/>
                  <a:tab algn="l" pos="6273720"/>
                  <a:tab algn="l" pos="6603840"/>
                </a:tabLst>
              </a:pPr>
              <a:r>
                <a:rPr b="0" lang="es-ES_tradnl" sz="1000" spc="-1" strike="noStrike">
                  <a:solidFill>
                    <a:srgbClr val="4d4d4d"/>
                  </a:solidFill>
                  <a:latin typeface="Verdana"/>
                </a:rPr>
                <a:t>Clientes</a:t>
              </a:r>
              <a:endParaRPr b="0" lang="en-US" sz="10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ivo Fijo : su permanencia material en la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empresa es superior a u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   período de maduración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Material : Activo tangible, corpóreo, visibl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 :Todo el activo que tiene que ver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    con el giro de la empresa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Material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odo el activo que no tiene que ver con el gi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 o transitor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sicamente activo funcional que aún no entra en ope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dificio en Construc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821240" indent="-34632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ontrato por una máquina nueva que se está pagand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8280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uncional - Extrafuncional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nónimo de operacional - no opera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introduce esta distinción para guardar coherencia con las clasificaciones del estado de resultad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s funcionales generan Resultado Operacional y extrafuncionales generan Resultado No Operacional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mite calcular correctamente indicadores de Gest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13280" indent="-4132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3280" indent="-4132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84248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ación por apreciación indirect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alores voláti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ualmente no son aceptados como garantía crediti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98840" indent="-383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r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48400" indent="-3477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tent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6000"/>
          </a:bodyPr>
          <a:p>
            <a:pPr marL="216000" indent="-216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16000" indent="-216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 activo que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no genera el ciclo de madur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Bono de próximo ven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417600" indent="-2005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00120" indent="-181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ivo que se genera debido a la estructura de pasiv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779040" indent="-177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emplo : Garantía en efectivo por un préstamo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Filosofía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no se ordenan de acuerdo a su naturalez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cuentas se ordenan de acuerdo con su función en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na misma cuenta puede tener dos clasificaciones al mismo tiemp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Ejemplo: Una empresa compra un terreno y sólo utiliza a la mitad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parte utilizada :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tivo fijo, mater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        funciona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eguntamos a la gerencia por el destino del resto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edificaremos en el futuro : Activo fijo, material, interin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á a la venta : Activo circulante, 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o vamos a plantar : Activo fijo, extrafuncional,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materi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2120" y="40384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85800" y="51055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Profesor: Eduardo Contrer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Ingeniero Civil Industrial - Universidad de Chi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Master of Business Administration (MBA) - ES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 Ejemplo : Una empresa constructora tiene un 30% de las acciones de una empresa distribuidora de materiales.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 algn="just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clasifico estas acciones en mi balance de gestión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constructora usa su posición en el directorio de la segunda empresa para conseguir precios más barato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78720" indent="-38736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lasificación : Activo Fijo, Funcional, Inmateria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60080" indent="-4600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oncepto :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 algn="ctr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“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Toda obligación reconocida con un tercero”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de Ordenamient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9560" indent="-427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asivos se agruparán según su plazo de vencimient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marL="319320" indent="-319320" algn="ctr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“ Muy Largo o no conocido” (no exigible) 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atrimonio (capital propio)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319320" indent="-3193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Plazo de Vencimiento conocido (exigible) 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Largo Plazo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617040" indent="-296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rto Plazo (pasivo circu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18840" y="5886360"/>
            <a:ext cx="7882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 : La clasificación Corto/Largo plazo depende del ciclo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duración  del negocio, pero habitualmente se usa 1 año como límit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149480" y="252720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495680" y="251460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323440" y="211932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756760" y="211932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525680" y="3186000"/>
            <a:ext cx="2532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pérdi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4941720" y="3262320"/>
            <a:ext cx="30085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(Deuda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Patrimonio (Cap.Propio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Resultado (beneficios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4. Ctas. Contrapartid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5. Ctas. de Orden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81080" y="-171720"/>
            <a:ext cx="975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americano (utilizado en Chile) ordena el activo de mas a menos líquidos y el pasivo de mas a menos exigible (como en cuadro anterior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sistema francés (utilizado en Europa), ordena al revé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S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ASIV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Fijo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curso se usarán ambos indistintamente (estamos globalizados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ciedades Anónimas Abiertas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ividendos de a lo menos el 30% de la utilidad líquida del ejercicio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hay pérdidas acumuladas, las utilidades del ejercicio se destinan primero a absorverl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diferencia entre utilidades y dividendos puede ser traspasadas a Reservas Voluntari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ratamiento del Resultado, ¿ qué hacer como analista ?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s pérdidas se reducen del Capital Propio (regularización de la pérdida)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los beneficios son antes de impuestos, debo pagarl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hay Reservas Obligatorias, debo dotarl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cidir Dividendos/Reservas Voluntari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051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Contrapartida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. Pero detallan cuentas del giro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uan compensando cuentas del activo y pasivo (“Existen ssi existe su otra cara”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tas cuentas pueden aparecer o bien puede reducirse la cuenta fundamental a su “ valor neto “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empresa hace una ampliación de capital de 100 millones, desembolsándose sólo 80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on cuenta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ciones no pagadas  20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                       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         1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n cuenta  de Contrapartid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Banco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Neto  80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3. Principios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ALANC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entas de Orden 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tienen vitalidad prop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uentas que no afectan actualmente el Balanc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 el futuro pueden llegar a afectarlo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emplo : Un empleado guarda en la caja fuerte joyas propias por una valor de 300 Millones 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Joyas en Custodia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00   Custodia de Joyas 30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bjetivo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visar los conceptos fundamentales del análisis financiero de balances y estados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arrollar destrezas en el cálculo e interpretación de indicadores de la gestión financiera de una empresa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tregar una metodología para la planificación financiera de corto plaz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OJO: Test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lternativa múltip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a gran empresa consultora tiene un departamento con oficinas desocupadas y las arrienda a un bufett de abogados que no trabajan para la consultora. Este activo es: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1. Fij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2. Circulante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3. Interi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4. Fijo 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5.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2895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Esquema básic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Principios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21360" y="1719360"/>
            <a:ext cx="790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Tema 1. Introducción - Ordenamiento 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del</a:t>
            </a:r>
            <a:r>
              <a:rPr b="1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1" lang="es-ES_tradnl" sz="3200" spc="-1" strike="noStrike">
                <a:solidFill>
                  <a:srgbClr val="4d4d4d"/>
                </a:solidFill>
                <a:latin typeface="Tahoma"/>
              </a:rPr>
              <a:t>Balance.</a:t>
            </a:r>
            <a:endParaRPr b="0" lang="en-US" sz="3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RUCTURA DE </a:t>
            </a:r>
            <a:br>
              <a:rPr sz="3400"/>
            </a:b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BALANCE DE GEST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408600" indent="-4086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El proceso de orden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89840" indent="-3794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Porqué ordenar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rmonía dentro de la empresa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aso previo a la interpre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lemento de análisis inter-empres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35080" indent="-343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stencia de tres balanc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Gest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cienda - SII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473480" indent="-3369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Banco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1. El proceso de ordenamient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 Cómo ordenar el balance 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comienza con un balance desorden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definen criterios de agrupación de masas patrimon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ordenan las grandes cuentas en base a los criterios de orde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.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mater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5040360" y="2438280"/>
            <a:ext cx="2503440" cy="13035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5783400" y="4343400"/>
            <a:ext cx="1455480" cy="13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2. Esquema básic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6765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b.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pital Prop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pital Soci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ort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Larg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laudio Jiménez</cp:lastModifiedBy>
  <cp:lastPrinted>2002-11-13T13:47:55Z</cp:lastPrinted>
  <dcterms:modified xsi:type="dcterms:W3CDTF">2011-03-14T00:18:20Z</dcterms:modified>
  <cp:revision>361</cp:revision>
  <dc:subject/>
  <dc:title>Formulación de Proyectos</dc:title>
</cp:coreProperties>
</file>