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DA5B8E-F98F-45C4-82B5-2CCC32F8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AEAC9F-960B-44AC-BD2D-935DE7C7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59BA8-5D7B-4059-99EB-FB51BBF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06C7E-030B-4042-91FF-CD78347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3684E-32A5-4BB5-AEB4-52665C34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AEB3C-71FF-490B-B461-92F28B49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AD5DA-C57A-40C0-B31D-2DC85079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16EDF-61C3-45EA-A1F6-162C935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C1BB8-5FE9-4AD8-8422-92B5F2E4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EB05F-F7CD-4526-94C7-4803EE3F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2C6BB-5F79-4960-B902-459302F8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A2EEC-127D-4209-AD4A-412C7BFD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7A2-CC27-437A-83A2-575045C1014E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8:20Z</dcterms:modified>
  <cp:revision>361</cp:revision>
  <dc:subject/>
  <dc:title>Formulación de Proyectos</dc:title>
</cp:coreProperties>
</file>