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7E86B-9571-43EA-BF44-3BCFE569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3C1AB-E232-444C-AE8D-EDB9C280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448D8-F16C-4D62-8F81-FE4E5C18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62B94-0EED-44D7-AFE3-34B15DB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1D8DF-7A35-40BA-9245-9577D794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61965-84EE-488F-9621-3A438034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5C636-D6AA-42A3-82CC-C43CB9AF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6F73-DC1F-4837-B734-9C1035E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9DBBC-00FD-4E3D-8082-A7B6F957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25E22-87EA-4572-B25E-EB91E7F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1B6B4-2796-4D8E-B4A6-413B09EF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455E0-BA16-447A-BCEE-DD6C2E75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28A-00AE-447F-81E2-5F6764912AE5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8:20Z</dcterms:modified>
  <cp:revision>361</cp:revision>
  <dc:subject/>
  <dc:title>Formulación de Proyectos</dc:title>
</cp:coreProperties>
</file>