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0668D-6340-4D28-8CB2-DD443145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170A8-0A28-4541-9DB9-8FC4139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5FE87-6A34-4042-8BF5-14628CD6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FD006-6D0B-4F00-B13C-A92AE6F9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84A48-AAE8-4C99-90FB-1BC48DFB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51993-5EAC-4EC6-9A8E-84FB3B54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4813E-6AB4-4C61-82DF-3F17780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762C1-ADAE-4B2E-99E5-D6AE501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5F13D-12D1-473A-8A62-6BE02C3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9CBDF-F9D4-4A10-8E54-76BE4270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96E7A-34A5-4A16-9FAB-D0B692F9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620D3-7A7D-4AB3-903D-65238E8E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2815-8E59-478A-A1A5-2830341E6A8A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2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2:55Z</dcterms:modified>
  <cp:revision>364</cp:revision>
  <dc:subject/>
  <dc:title>Formulación de Proyectos</dc:title>
</cp:coreProperties>
</file>