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DF9DA-C6B7-40C6-A5EC-AEBC593C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53B9F-7B81-49F0-90D0-AFFFF2CB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2F67E-BEC7-47B1-8EE0-6DA4B6BA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245A1-DBC1-45A0-B4FA-4C1F31B2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F8801-BCCC-4398-A859-AD8CA5AB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D3270-EFCC-4532-AFC8-DD836F4B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1520A-7C0D-4051-A16B-5CB39E7A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7555E-5C0D-41DA-B382-54709E01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07D9E-ECF6-46CD-8D02-21FD9324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DE1CB-0E94-4BDE-8817-61FC63CB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7134B-37DF-4BCD-B475-90F7AA6C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CE8FE-8520-424A-B152-7A960E42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9C86-5A30-4140-9A1B-4DE41023123F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2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4T00:12:55Z</dcterms:modified>
  <cp:revision>364</cp:revision>
  <dc:subject/>
  <dc:title>Formulación de Proyectos</dc:title>
</cp:coreProperties>
</file>