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925A5-3706-4163-87F4-BD149795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026BF-52B3-4B15-BA90-84DB0FAC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6FA06-916D-4810-8231-FA5607B8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DA547-F1C1-43EC-B4BF-9670C0F0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897C5-DAA7-4DF5-B218-A7DAE43C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715AE-82D1-48DF-B3F3-29BBF271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B6375-4B65-4CBC-BC7D-22E9E62D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09F85-ACC4-4D40-97E5-D1260E0D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13FE1-BF04-4FDB-B8E7-AC953253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A8EB9-D419-4447-A52A-80F73D03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3C4CE-B7D2-454D-8F0B-CED381A9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FE1AF-34E5-47EE-B63C-18A099FB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BF6E-7AA0-48E4-800B-CB15C0E45D7C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2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4T00:12:55Z</dcterms:modified>
  <cp:revision>364</cp:revision>
  <dc:subject/>
  <dc:title>Formulación de Proyectos</dc:title>
</cp:coreProperties>
</file>