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0E5C-62F1-4F83-B158-6F5382FCED7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FBC7-411F-4CE2-B36C-010D13A8DC4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7A5F-5AB9-49B4-97DC-0F45FA5F37C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5513-35CD-4896-B858-60B598B9E8A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23B7-2FDA-438D-964B-C075682B0A3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EFC-440C-44BB-BF8C-378C7EEB1E1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C229-A7EC-4CEF-806C-6209E1273D1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1C9-3EF6-490A-8B3E-E47A0197C42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16C-4E35-476B-9BD9-C0DC45B4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675-EFC1-47EB-B672-3A4BFB69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A2E-2326-478F-B3DE-BF82ABE4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A1F-107E-4241-A882-71EBEBFF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E3B-F3ED-4FB6-95E7-FF4BED42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869-20BD-4150-B12A-C8C24BC7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B16-A40D-430F-ABF5-9666C18A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C92-B579-4350-9FCC-7B9544AE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A53-3B70-4185-AD3F-50C8BFE9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E46-B8F0-4C95-A146-892D195D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E99-49C2-4588-A2F0-7A04E4F4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A4D-21AF-417A-8CB0-D331485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B0A8-9870-4BAC-B3C3-49505C60B5C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 May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773360"/>
            <a:ext cx="84963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«Lo mejor es enemigo de lo bueno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«No lo quiero bien, lo quiero para el martes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H. Mintz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4 Conector recto de flecha"/>
          <p:cNvCxnSpPr/>
          <p:nvPr/>
        </p:nvCxnSpPr>
        <p:spPr>
          <a:xfrm>
            <a:off x="1692360" y="5300280"/>
            <a:ext cx="698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14 Conector recto de flecha"/>
          <p:cNvCxnSpPr/>
          <p:nvPr/>
        </p:nvCxnSpPr>
        <p:spPr>
          <a:xfrm flipV="1">
            <a:off x="1692000" y="1115640"/>
            <a:ext cx="1080" cy="418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8 CuadroTexto"/>
          <p:cNvSpPr/>
          <p:nvPr/>
        </p:nvSpPr>
        <p:spPr>
          <a:xfrm>
            <a:off x="53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8 CuadroTexto"/>
          <p:cNvSpPr/>
          <p:nvPr/>
        </p:nvSpPr>
        <p:spPr>
          <a:xfrm>
            <a:off x="7308720" y="5462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9 CuadroTexto"/>
          <p:cNvSpPr/>
          <p:nvPr/>
        </p:nvSpPr>
        <p:spPr>
          <a:xfrm>
            <a:off x="6732720" y="2343240"/>
            <a:ext cx="143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seño perfecto sólo en la teoría y ta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1 CuadroTexto"/>
          <p:cNvSpPr/>
          <p:nvPr/>
        </p:nvSpPr>
        <p:spPr>
          <a:xfrm>
            <a:off x="6875640" y="184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3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CuadroTexto"/>
          <p:cNvSpPr/>
          <p:nvPr/>
        </p:nvSpPr>
        <p:spPr>
          <a:xfrm>
            <a:off x="4716360" y="270828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ff"/>
                </a:solidFill>
                <a:latin typeface="Calibri"/>
                <a:ea typeface="Calibri"/>
              </a:rPr>
              <a:t>A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0 CuadroTexto"/>
          <p:cNvSpPr/>
          <p:nvPr/>
        </p:nvSpPr>
        <p:spPr>
          <a:xfrm>
            <a:off x="1042920" y="2703600"/>
            <a:ext cx="29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ff"/>
                </a:solidFill>
                <a:latin typeface="Calibri"/>
                <a:ea typeface="Calibri"/>
              </a:rPr>
              <a:t>Diseñ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Flecha curvada hacia la izquierda"/>
          <p:cNvSpPr/>
          <p:nvPr/>
        </p:nvSpPr>
        <p:spPr>
          <a:xfrm rot="16200000">
            <a:off x="4167000" y="934560"/>
            <a:ext cx="936360" cy="2898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636840 h 2898720"/>
              <a:gd name="textAreaBottom" fmla="*/ 2144880 h 28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92" stAng="-5400000" swAng="5400000"/>
                <a:lnTo>
                  <a:pt x="21600" y="11236"/>
                </a:lnTo>
                <a:arcTo wR="21600" hR="9492" stAng="0" swAng="3573720"/>
                <a:lnTo>
                  <a:pt x="5400" y="21299"/>
                </a:lnTo>
                <a:lnTo>
                  <a:pt x="0" y="19855"/>
                </a:lnTo>
                <a:lnTo>
                  <a:pt x="5400" y="17809"/>
                </a:lnTo>
                <a:lnTo>
                  <a:pt x="5400" y="18682"/>
                </a:lnTo>
                <a:arcTo wR="21600" hR="9492" stAng="3573720" swAng="-3434423"/>
                <a:lnTo>
                  <a:pt x="21509" y="10364"/>
                </a:lnTo>
                <a:arcTo wR="21600" hR="9492" stAng="-139296" swAng="-5260704"/>
                <a:close/>
              </a:path>
              <a:path fill="darkenLess" w="21600" h="21600">
                <a:moveTo>
                  <a:pt x="0" y="0"/>
                </a:moveTo>
                <a:arcTo wR="21600" hR="9492" stAng="-5400000" swAng="5400000"/>
                <a:lnTo>
                  <a:pt x="21600" y="11236"/>
                </a:lnTo>
                <a:arcTo wR="21600" hR="9492" stAng="0" swAng="-139296"/>
                <a:lnTo>
                  <a:pt x="21509" y="10364"/>
                </a:lnTo>
                <a:arcTo wR="21600" hR="9492" stAng="-139296" swAng="-5260704"/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3 Flecha curvada hacia la izquierda"/>
          <p:cNvSpPr/>
          <p:nvPr/>
        </p:nvSpPr>
        <p:spPr>
          <a:xfrm rot="5400000">
            <a:off x="4113000" y="2592000"/>
            <a:ext cx="935280" cy="2897280"/>
          </a:xfrm>
          <a:custGeom>
            <a:avLst/>
            <a:gdLst>
              <a:gd name="textAreaLeft" fmla="*/ 125280 w 935280"/>
              <a:gd name="textAreaRight" fmla="*/ 810000 w 935280"/>
              <a:gd name="textAreaTop" fmla="*/ 636480 h 2897280"/>
              <a:gd name="textAreaBottom" fmla="*/ 2143800 h 289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93" stAng="-5400000" swAng="5400000"/>
                <a:lnTo>
                  <a:pt x="21600" y="11235"/>
                </a:lnTo>
                <a:arcTo wR="21600" hR="9493" stAng="0" swAng="3573957"/>
                <a:lnTo>
                  <a:pt x="5400" y="21299"/>
                </a:lnTo>
                <a:lnTo>
                  <a:pt x="0" y="19857"/>
                </a:lnTo>
                <a:lnTo>
                  <a:pt x="5400" y="17813"/>
                </a:lnTo>
                <a:lnTo>
                  <a:pt x="5400" y="18685"/>
                </a:lnTo>
                <a:arcTo wR="21600" hR="9493" stAng="3573957" swAng="-3434822"/>
                <a:lnTo>
                  <a:pt x="21509" y="10364"/>
                </a:lnTo>
                <a:arcTo wR="21600" hR="9493" stAng="-139135" swAng="-5260865"/>
                <a:close/>
              </a:path>
              <a:path fill="darkenLess" w="21600" h="21600">
                <a:moveTo>
                  <a:pt x="0" y="0"/>
                </a:moveTo>
                <a:arcTo wR="21600" hR="9493" stAng="-5400000" swAng="5400000"/>
                <a:lnTo>
                  <a:pt x="21600" y="11235"/>
                </a:lnTo>
                <a:arcTo wR="21600" hR="9493" stAng="0" swAng="-139135"/>
                <a:lnTo>
                  <a:pt x="21509" y="10364"/>
                </a:lnTo>
                <a:arcTo wR="21600" hR="9493" stAng="-139135" swAng="-5260865"/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95280" y="1773360"/>
            <a:ext cx="849636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. Maximizar el aprendiza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4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95280" y="1268280"/>
            <a:ext cx="849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10.000 horas de práctic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«Outliers», M. Glad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5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1 Imagen" descr=""/>
          <p:cNvPicPr/>
          <p:nvPr/>
        </p:nvPicPr>
        <p:blipFill>
          <a:blip r:embed="rId3"/>
          <a:stretch/>
        </p:blipFill>
        <p:spPr>
          <a:xfrm>
            <a:off x="2195640" y="278136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 May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clase anter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9280" y="1268280"/>
            <a:ext cx="849636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Estrategia 5-0-20´; Conciencia de la ruta crítica; Semanas y trime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Calendario siempre; Anticipar quie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romesas del equipo con el lí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A partir de la ruta crítica; Chequear completit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valuar y re-dise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Evaluar: la única forma de no repetir el pasado, de cambiar la his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Napoleón; Diseño en acción; Flex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stado de án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Ambición; Confianza (sinceridad); Pasión por apr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ho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1. «Test de blancura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268280"/>
            <a:ext cx="84963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"La </a:t>
            </a:r>
            <a:r>
              <a:rPr b="0" i="1" lang="es-CL" sz="4800" spc="-1" strike="noStrike">
                <a:solidFill>
                  <a:srgbClr val="000000"/>
                </a:solidFill>
                <a:latin typeface="Arial"/>
              </a:rPr>
              <a:t>locura</a:t>
            </a: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 es hacer siempre lo mismo y esperar resultados diferentes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 Imagen" descr=""/>
          <p:cNvPicPr/>
          <p:nvPr/>
        </p:nvPicPr>
        <p:blipFill>
          <a:blip r:embed="rId3"/>
          <a:stretch/>
        </p:blipFill>
        <p:spPr>
          <a:xfrm>
            <a:off x="6227640" y="3298680"/>
            <a:ext cx="2562480" cy="300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1773360"/>
            <a:ext cx="84963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2. Apostar 3 fich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(al me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2 Imagen" descr=""/>
          <p:cNvPicPr/>
          <p:nvPr/>
        </p:nvPicPr>
        <p:blipFill>
          <a:blip r:embed="rId3"/>
          <a:stretch/>
        </p:blipFill>
        <p:spPr>
          <a:xfrm>
            <a:off x="0" y="1341360"/>
            <a:ext cx="9109080" cy="489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3. Equilibr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Diseño - 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5-10T15:50:33Z</dcterms:modified>
  <cp:revision>147</cp:revision>
  <dc:subject/>
  <dc:title>Diapositiva 1</dc:title>
</cp:coreProperties>
</file>