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6A7-0ADF-4C3A-8FAD-8B587AE0BBF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FB9-7BE2-4D43-BF37-9D378F621F6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FACB-DF82-4E59-89FE-8EEBDB0BC07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8DA-A569-4849-A594-DAC5861E83F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29FA-1A7B-468A-9441-E2C90E63B0C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3E39-5409-4FDC-8B1F-3A3245D494D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3F85-800F-4CF4-BA7F-5FD9E5EDB08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5F4B-672A-45A5-BD14-A33FF5566F4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22F-4053-4458-8A32-092F9606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C5C-8CB0-4E1B-8027-0F64164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7EA-A87E-42F9-8A24-A601A50F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96D-7876-4DED-A72C-32A71232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CF1-FDD4-4304-BCAE-330642FC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232-E68F-439A-97D5-368A2AF3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E79-BA58-4B1D-991E-547B6A1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09D-9760-49AE-9B86-F2CD0DBD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E3B-AC9E-4F49-95BB-87F959B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D34-75A7-4FBA-B758-DE41878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6E4-7C88-4FEE-8054-D14509F3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4AA-5E93-4190-A4D3-77CA919F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FCD-2510-45F7-BE59-2715C4B4618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 May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«Lo mejor es enemigo de lo bueno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«No lo quiero bien, lo quiero para el martes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H. Mintz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4 Conector recto de flecha"/>
          <p:cNvCxnSpPr/>
          <p:nvPr/>
        </p:nvCxnSpPr>
        <p:spPr>
          <a:xfrm>
            <a:off x="1692360" y="5300280"/>
            <a:ext cx="698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14 Conector recto de flecha"/>
          <p:cNvCxnSpPr/>
          <p:nvPr/>
        </p:nvCxnSpPr>
        <p:spPr>
          <a:xfrm flipV="1">
            <a:off x="1692000" y="1115640"/>
            <a:ext cx="1080" cy="418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8 CuadroTexto"/>
          <p:cNvSpPr/>
          <p:nvPr/>
        </p:nvSpPr>
        <p:spPr>
          <a:xfrm>
            <a:off x="53964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8 CuadroTexto"/>
          <p:cNvSpPr/>
          <p:nvPr/>
        </p:nvSpPr>
        <p:spPr>
          <a:xfrm>
            <a:off x="7308720" y="5462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9 CuadroTexto"/>
          <p:cNvSpPr/>
          <p:nvPr/>
        </p:nvSpPr>
        <p:spPr>
          <a:xfrm>
            <a:off x="6732720" y="2343240"/>
            <a:ext cx="143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seño perfecto sólo en la teoría y ta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1 CuadroTexto"/>
          <p:cNvSpPr/>
          <p:nvPr/>
        </p:nvSpPr>
        <p:spPr>
          <a:xfrm>
            <a:off x="6875640" y="184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3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CuadroTexto"/>
          <p:cNvSpPr/>
          <p:nvPr/>
        </p:nvSpPr>
        <p:spPr>
          <a:xfrm>
            <a:off x="4716360" y="270828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ff"/>
                </a:solidFill>
                <a:latin typeface="Calibri"/>
                <a:ea typeface="Calibri"/>
              </a:rPr>
              <a:t>A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0 CuadroTexto"/>
          <p:cNvSpPr/>
          <p:nvPr/>
        </p:nvSpPr>
        <p:spPr>
          <a:xfrm>
            <a:off x="1042920" y="2703600"/>
            <a:ext cx="29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ff"/>
                </a:solidFill>
                <a:latin typeface="Calibri"/>
                <a:ea typeface="Calibri"/>
              </a:rPr>
              <a:t>Diseñ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Flecha curvada hacia la izquierda"/>
          <p:cNvSpPr/>
          <p:nvPr/>
        </p:nvSpPr>
        <p:spPr>
          <a:xfrm rot="16200000">
            <a:off x="4167000" y="934560"/>
            <a:ext cx="936360" cy="2898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636840 h 2898720"/>
              <a:gd name="textAreaBottom" fmla="*/ 2144880 h 28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92" stAng="-5400000" swAng="5400000"/>
                <a:lnTo>
                  <a:pt x="21600" y="11236"/>
                </a:lnTo>
                <a:arcTo wR="21600" hR="9492" stAng="0" swAng="3573720"/>
                <a:lnTo>
                  <a:pt x="5400" y="21299"/>
                </a:lnTo>
                <a:lnTo>
                  <a:pt x="0" y="19855"/>
                </a:lnTo>
                <a:lnTo>
                  <a:pt x="5400" y="17809"/>
                </a:lnTo>
                <a:lnTo>
                  <a:pt x="5400" y="18682"/>
                </a:lnTo>
                <a:arcTo wR="21600" hR="9492" stAng="3573720" swAng="-3434423"/>
                <a:lnTo>
                  <a:pt x="21509" y="10364"/>
                </a:lnTo>
                <a:arcTo wR="21600" hR="9492" stAng="-139296" swAng="-5260704"/>
                <a:close/>
              </a:path>
              <a:path fill="darkenLess" w="21600" h="21600">
                <a:moveTo>
                  <a:pt x="0" y="0"/>
                </a:moveTo>
                <a:arcTo wR="21600" hR="9492" stAng="-5400000" swAng="5400000"/>
                <a:lnTo>
                  <a:pt x="21600" y="11236"/>
                </a:lnTo>
                <a:arcTo wR="21600" hR="9492" stAng="0" swAng="-139296"/>
                <a:lnTo>
                  <a:pt x="21509" y="10364"/>
                </a:lnTo>
                <a:arcTo wR="21600" hR="9492" stAng="-139296" swAng="-5260704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3 Flecha curvada hacia la izquierda"/>
          <p:cNvSpPr/>
          <p:nvPr/>
        </p:nvSpPr>
        <p:spPr>
          <a:xfrm rot="5400000">
            <a:off x="4113000" y="2592000"/>
            <a:ext cx="935280" cy="2897280"/>
          </a:xfrm>
          <a:custGeom>
            <a:avLst/>
            <a:gdLst>
              <a:gd name="textAreaLeft" fmla="*/ 125280 w 935280"/>
              <a:gd name="textAreaRight" fmla="*/ 810000 w 935280"/>
              <a:gd name="textAreaTop" fmla="*/ 636480 h 2897280"/>
              <a:gd name="textAreaBottom" fmla="*/ 2143800 h 289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93" stAng="-5400000" swAng="5400000"/>
                <a:lnTo>
                  <a:pt x="21600" y="11235"/>
                </a:lnTo>
                <a:arcTo wR="21600" hR="9493" stAng="0" swAng="3573957"/>
                <a:lnTo>
                  <a:pt x="5400" y="21299"/>
                </a:lnTo>
                <a:lnTo>
                  <a:pt x="0" y="19857"/>
                </a:lnTo>
                <a:lnTo>
                  <a:pt x="5400" y="17813"/>
                </a:lnTo>
                <a:lnTo>
                  <a:pt x="5400" y="18685"/>
                </a:lnTo>
                <a:arcTo wR="21600" hR="9493" stAng="3573957" swAng="-3434822"/>
                <a:lnTo>
                  <a:pt x="21509" y="10364"/>
                </a:lnTo>
                <a:arcTo wR="21600" hR="9493" stAng="-139135" swAng="-5260865"/>
                <a:close/>
              </a:path>
              <a:path fill="darkenLess" w="21600" h="21600">
                <a:moveTo>
                  <a:pt x="0" y="0"/>
                </a:moveTo>
                <a:arcTo wR="21600" hR="9493" stAng="-5400000" swAng="5400000"/>
                <a:lnTo>
                  <a:pt x="21600" y="11235"/>
                </a:lnTo>
                <a:arcTo wR="21600" hR="9493" stAng="0" swAng="-139135"/>
                <a:lnTo>
                  <a:pt x="21509" y="10364"/>
                </a:lnTo>
                <a:arcTo wR="21600" hR="9493" stAng="-139135" swAng="-5260865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95280" y="1773360"/>
            <a:ext cx="849636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. Maximizar el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4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95280" y="1268280"/>
            <a:ext cx="849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10.000 horas de práctic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«Outliers», M. Gla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1 Imagen" descr=""/>
          <p:cNvPicPr/>
          <p:nvPr/>
        </p:nvPicPr>
        <p:blipFill>
          <a:blip r:embed="rId3"/>
          <a:stretch/>
        </p:blipFill>
        <p:spPr>
          <a:xfrm>
            <a:off x="2195640" y="278136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4 May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clase anter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9280" y="1268280"/>
            <a:ext cx="849636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Estrategia 5-0-20´; Conciencia de la ruta crítica; Semanas y trime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Calendario siempre; Anticipar quie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romesas del equipo con el lí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A partir de la ruta crítica; Chequear completit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valuar y re-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Evaluar: la única forma de no repetir el pasado, de cambiar la his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Napoleón; Diseño en acción; Flex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Estado de á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Ambición; Confianza (sinceridad); Pasión por apr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4 claves ho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1. «Test de blancura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268280"/>
            <a:ext cx="84963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"La </a:t>
            </a:r>
            <a:r>
              <a:rPr b="0" i="1" lang="es-CL" sz="4800" spc="-1" strike="noStrike">
                <a:solidFill>
                  <a:srgbClr val="000000"/>
                </a:solidFill>
                <a:latin typeface="Arial"/>
              </a:rPr>
              <a:t>locura</a:t>
            </a: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 es hacer siempre lo mismo y esperar resultados diferentes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 Imagen" descr=""/>
          <p:cNvPicPr/>
          <p:nvPr/>
        </p:nvPicPr>
        <p:blipFill>
          <a:blip r:embed="rId3"/>
          <a:stretch/>
        </p:blipFill>
        <p:spPr>
          <a:xfrm>
            <a:off x="6227640" y="3298680"/>
            <a:ext cx="2562480" cy="300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1773360"/>
            <a:ext cx="84963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2. Apostar 3 fich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(al me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3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2 Imagen" descr=""/>
          <p:cNvPicPr/>
          <p:nvPr/>
        </p:nvPicPr>
        <p:blipFill>
          <a:blip r:embed="rId3"/>
          <a:stretch/>
        </p:blipFill>
        <p:spPr>
          <a:xfrm>
            <a:off x="0" y="1341360"/>
            <a:ext cx="9109080" cy="489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35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3. Equilibr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Diseño - 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5-10T15:50:33Z</dcterms:modified>
  <cp:revision>147</cp:revision>
  <dc:subject/>
  <dc:title>Diapositiva 1</dc:title>
</cp:coreProperties>
</file>