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CD2F-0A66-429F-92DD-B897AA39A20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6C02-81F6-40F2-BC41-9985655BF61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946A-1514-47A5-98E2-A51FE7009B8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3A76-2AAF-479F-AE72-49F10C4F536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D053-1398-4E94-AEAA-60470BF11C5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F4D8-91D8-45CE-AC48-E77A52BF812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F566-8D46-4566-9D1F-ED68B2602D3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9FDD-A64D-4CAA-8829-904D95178C8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2F52-D83D-44E8-84B1-58141B42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2046-2413-4445-AC83-9CF58848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62F3-61C2-4BA3-B667-DE2F26A8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EA40-BD96-4787-89CC-95B9BC94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9006-AB49-474A-B431-A0B48E48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EF39-68F3-499A-AF4E-6478A6D2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13EA-AC64-4090-B809-E378D314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BAA-A5DB-485F-8509-4E895420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138F-3707-4A59-A857-FA7C09D4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4673-90E4-4470-A953-59F40F6E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AE0-3CDE-463B-97EB-E2E0859C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718-22AD-4490-A913-D8C874F4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aller de Ingeniería Industrial l -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539F-BB53-4067-98F1-C76D88704409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4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4 May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5280" y="2131920"/>
            <a:ext cx="8137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Taller de Ingeniería Industrial 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5280" y="1773360"/>
            <a:ext cx="849636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«Lo mejor es enemigo de lo bueno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Vol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«No lo quiero bien, lo quiero para el martes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H. Mintz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1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20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4 Conector recto de flecha"/>
          <p:cNvCxnSpPr/>
          <p:nvPr/>
        </p:nvCxnSpPr>
        <p:spPr>
          <a:xfrm>
            <a:off x="1692360" y="5300280"/>
            <a:ext cx="6984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14 Conector recto de flecha"/>
          <p:cNvCxnSpPr/>
          <p:nvPr/>
        </p:nvCxnSpPr>
        <p:spPr>
          <a:xfrm flipV="1">
            <a:off x="1692000" y="1115640"/>
            <a:ext cx="1080" cy="4185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7" name="8 CuadroTexto"/>
          <p:cNvSpPr/>
          <p:nvPr/>
        </p:nvSpPr>
        <p:spPr>
          <a:xfrm>
            <a:off x="53964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8 CuadroTexto"/>
          <p:cNvSpPr/>
          <p:nvPr/>
        </p:nvSpPr>
        <p:spPr>
          <a:xfrm>
            <a:off x="7308720" y="546264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9 CuadroTexto"/>
          <p:cNvSpPr/>
          <p:nvPr/>
        </p:nvSpPr>
        <p:spPr>
          <a:xfrm>
            <a:off x="6732720" y="2343240"/>
            <a:ext cx="143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iseño perfecto sólo en la teoría y tar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1 CuadroTexto"/>
          <p:cNvSpPr/>
          <p:nvPr/>
        </p:nvSpPr>
        <p:spPr>
          <a:xfrm>
            <a:off x="6875640" y="1844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32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1 CuadroTexto"/>
          <p:cNvSpPr/>
          <p:nvPr/>
        </p:nvSpPr>
        <p:spPr>
          <a:xfrm>
            <a:off x="4716360" y="2708280"/>
            <a:ext cx="27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0000ff"/>
                </a:solidFill>
                <a:latin typeface="Calibri"/>
                <a:ea typeface="Calibri"/>
              </a:rPr>
              <a:t>A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10 CuadroTexto"/>
          <p:cNvSpPr/>
          <p:nvPr/>
        </p:nvSpPr>
        <p:spPr>
          <a:xfrm>
            <a:off x="1042920" y="2703600"/>
            <a:ext cx="29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0000ff"/>
                </a:solidFill>
                <a:latin typeface="Calibri"/>
                <a:ea typeface="Calibri"/>
              </a:rPr>
              <a:t>Diseñ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2 Flecha curvada hacia la izquierda"/>
          <p:cNvSpPr/>
          <p:nvPr/>
        </p:nvSpPr>
        <p:spPr>
          <a:xfrm rot="16200000">
            <a:off x="4167000" y="934560"/>
            <a:ext cx="936360" cy="2898720"/>
          </a:xfrm>
          <a:custGeom>
            <a:avLst/>
            <a:gdLst>
              <a:gd name="textAreaLeft" fmla="*/ 125280 w 936360"/>
              <a:gd name="textAreaRight" fmla="*/ 811080 w 936360"/>
              <a:gd name="textAreaTop" fmla="*/ 636840 h 2898720"/>
              <a:gd name="textAreaBottom" fmla="*/ 2144880 h 28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92" stAng="-5400000" swAng="5400000"/>
                <a:lnTo>
                  <a:pt x="21600" y="11236"/>
                </a:lnTo>
                <a:arcTo wR="21600" hR="9492" stAng="0" swAng="3573720"/>
                <a:lnTo>
                  <a:pt x="5400" y="21299"/>
                </a:lnTo>
                <a:lnTo>
                  <a:pt x="0" y="19855"/>
                </a:lnTo>
                <a:lnTo>
                  <a:pt x="5400" y="17809"/>
                </a:lnTo>
                <a:lnTo>
                  <a:pt x="5400" y="18682"/>
                </a:lnTo>
                <a:arcTo wR="21600" hR="9492" stAng="3573720" swAng="-3434423"/>
                <a:lnTo>
                  <a:pt x="21509" y="10364"/>
                </a:lnTo>
                <a:arcTo wR="21600" hR="9492" stAng="-139296" swAng="-5260704"/>
                <a:close/>
              </a:path>
              <a:path fill="darkenLess" w="21600" h="21600">
                <a:moveTo>
                  <a:pt x="0" y="0"/>
                </a:moveTo>
                <a:arcTo wR="21600" hR="9492" stAng="-5400000" swAng="5400000"/>
                <a:lnTo>
                  <a:pt x="21600" y="11236"/>
                </a:lnTo>
                <a:arcTo wR="21600" hR="9492" stAng="0" swAng="-139296"/>
                <a:lnTo>
                  <a:pt x="21509" y="10364"/>
                </a:lnTo>
                <a:arcTo wR="21600" hR="9492" stAng="-139296" swAng="-5260704"/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13 Flecha curvada hacia la izquierda"/>
          <p:cNvSpPr/>
          <p:nvPr/>
        </p:nvSpPr>
        <p:spPr>
          <a:xfrm rot="5400000">
            <a:off x="4113000" y="2592000"/>
            <a:ext cx="935280" cy="2897280"/>
          </a:xfrm>
          <a:custGeom>
            <a:avLst/>
            <a:gdLst>
              <a:gd name="textAreaLeft" fmla="*/ 125280 w 935280"/>
              <a:gd name="textAreaRight" fmla="*/ 810000 w 935280"/>
              <a:gd name="textAreaTop" fmla="*/ 636480 h 2897280"/>
              <a:gd name="textAreaBottom" fmla="*/ 2143800 h 289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93" stAng="-5400000" swAng="5400000"/>
                <a:lnTo>
                  <a:pt x="21600" y="11235"/>
                </a:lnTo>
                <a:arcTo wR="21600" hR="9493" stAng="0" swAng="3573957"/>
                <a:lnTo>
                  <a:pt x="5400" y="21299"/>
                </a:lnTo>
                <a:lnTo>
                  <a:pt x="0" y="19857"/>
                </a:lnTo>
                <a:lnTo>
                  <a:pt x="5400" y="17813"/>
                </a:lnTo>
                <a:lnTo>
                  <a:pt x="5400" y="18685"/>
                </a:lnTo>
                <a:arcTo wR="21600" hR="9493" stAng="3573957" swAng="-3434822"/>
                <a:lnTo>
                  <a:pt x="21509" y="10364"/>
                </a:lnTo>
                <a:arcTo wR="21600" hR="9493" stAng="-139135" swAng="-5260865"/>
                <a:close/>
              </a:path>
              <a:path fill="darkenLess" w="21600" h="21600">
                <a:moveTo>
                  <a:pt x="0" y="0"/>
                </a:moveTo>
                <a:arcTo wR="21600" hR="9493" stAng="-5400000" swAng="5400000"/>
                <a:lnTo>
                  <a:pt x="21600" y="11235"/>
                </a:lnTo>
                <a:arcTo wR="21600" hR="9493" stAng="0" swAng="-139135"/>
                <a:lnTo>
                  <a:pt x="21509" y="10364"/>
                </a:lnTo>
                <a:arcTo wR="21600" hR="9493" stAng="-139135" swAng="-5260865"/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95280" y="1773360"/>
            <a:ext cx="8496360" cy="31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4. Maximizar el aprendizaj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43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395280" y="1268280"/>
            <a:ext cx="849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10.000 horas de práctica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«Outliers», M. Glad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50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1 Imagen" descr=""/>
          <p:cNvPicPr/>
          <p:nvPr/>
        </p:nvPicPr>
        <p:blipFill>
          <a:blip r:embed="rId3"/>
          <a:stretch/>
        </p:blipFill>
        <p:spPr>
          <a:xfrm>
            <a:off x="2195640" y="278136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5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4 May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95280" y="2131920"/>
            <a:ext cx="8137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Taller de Ingeniería Industrial 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4 Claves clase anteri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5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79280" y="1268280"/>
            <a:ext cx="849636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Estrategia 5-0-20´; Conciencia de la ruta crítica; Semanas y trimest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Calendario siempre; Anticipar quie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Promesas del equipo con el lí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A partir de la ruta crítica; Chequear completit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Evaluar y re-diseñ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Evaluar: la única forma de no repetir el pasado, de cambiar la his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Napoleón; Diseño en acción; Flexi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Estado de án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Ambición; Confianza (sinceridad); Pasión por apr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6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4 claves ho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71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1. «Test de blancura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78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95280" y="1268280"/>
            <a:ext cx="8496360" cy="27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"La </a:t>
            </a:r>
            <a:r>
              <a:rPr b="0" i="1" lang="es-CL" sz="4800" spc="-1" strike="noStrike">
                <a:solidFill>
                  <a:srgbClr val="000000"/>
                </a:solidFill>
                <a:latin typeface="Arial"/>
              </a:rPr>
              <a:t>locura</a:t>
            </a: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 es hacer siempre lo mismo y esperar resultados diferentes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85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1 Imagen" descr=""/>
          <p:cNvPicPr/>
          <p:nvPr/>
        </p:nvPicPr>
        <p:blipFill>
          <a:blip r:embed="rId3"/>
          <a:stretch/>
        </p:blipFill>
        <p:spPr>
          <a:xfrm>
            <a:off x="6227640" y="3298680"/>
            <a:ext cx="2562480" cy="3009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95280" y="1773360"/>
            <a:ext cx="8496360" cy="35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2. Apostar 3 ficha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(al me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93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9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2 Imagen" descr=""/>
          <p:cNvPicPr/>
          <p:nvPr/>
        </p:nvPicPr>
        <p:blipFill>
          <a:blip r:embed="rId3"/>
          <a:stretch/>
        </p:blipFill>
        <p:spPr>
          <a:xfrm>
            <a:off x="0" y="1341360"/>
            <a:ext cx="9109080" cy="4894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95280" y="1773360"/>
            <a:ext cx="8496360" cy="35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3. Equilibri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Diseño - A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0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22:21:09Z</dcterms:created>
  <dc:creator>VAIO</dc:creator>
  <dc:description/>
  <dc:language>en-US</dc:language>
  <cp:lastModifiedBy>Guido</cp:lastModifiedBy>
  <dcterms:modified xsi:type="dcterms:W3CDTF">2011-05-10T15:50:33Z</dcterms:modified>
  <cp:revision>147</cp:revision>
  <dc:subject/>
  <dc:title>Diapositiva 1</dc:title>
</cp:coreProperties>
</file>