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C757-978B-462A-A13D-A280E796A05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17DC-AA44-4689-A13F-3768F8CE524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CCBC-F30E-4A19-BD19-8F5E81B82DE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6B46-5249-4F4D-9348-6A8045E71CA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F44E-E62B-42CB-838D-DA3CCA0A31C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49A4-C803-4262-B360-B1DE16DAF2D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F358-0835-4B41-8462-F36B64B5B98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BE33-C8D7-4A30-A364-BCEBF79D8C3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1E5-4CD6-43B2-8703-60E365F1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AD9-0496-4BC9-B110-E82F5E97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BD29-9742-48AC-BC14-4BE3AB6C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EF7-7390-49B7-90FF-D6DD131D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621-B679-4B68-BC59-5057B4A7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212-C0FF-48AE-BA9E-8081621C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394-1AB5-4C31-AD91-18504A15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AC0-3D5C-4E61-8A56-D0038DC4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D7C-7EB1-4715-9150-683C95B7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301-F277-44FA-9C7C-A89E159A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5CC-1676-49F6-8B74-6EAEA451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BF1-AAAD-47D8-A05D-08E9EDFE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ller de Ingeniería Industrial l 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6A1F-BFC5-44BD-93D5-4FF951986482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4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4 May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1773360"/>
            <a:ext cx="849636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«Lo mejor es enemigo de lo bueno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Vol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«No lo quiero bien, lo quiero para el martes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H. Mintz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1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20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4 Conector recto de flecha"/>
          <p:cNvCxnSpPr/>
          <p:nvPr/>
        </p:nvCxnSpPr>
        <p:spPr>
          <a:xfrm>
            <a:off x="1692360" y="5300280"/>
            <a:ext cx="6984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14 Conector recto de flecha"/>
          <p:cNvCxnSpPr/>
          <p:nvPr/>
        </p:nvCxnSpPr>
        <p:spPr>
          <a:xfrm flipV="1">
            <a:off x="1692000" y="1115640"/>
            <a:ext cx="1080" cy="4185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8 CuadroTexto"/>
          <p:cNvSpPr/>
          <p:nvPr/>
        </p:nvSpPr>
        <p:spPr>
          <a:xfrm>
            <a:off x="53964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8 CuadroTexto"/>
          <p:cNvSpPr/>
          <p:nvPr/>
        </p:nvSpPr>
        <p:spPr>
          <a:xfrm>
            <a:off x="7308720" y="54626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9 CuadroTexto"/>
          <p:cNvSpPr/>
          <p:nvPr/>
        </p:nvSpPr>
        <p:spPr>
          <a:xfrm>
            <a:off x="6732720" y="2343240"/>
            <a:ext cx="143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iseño perfecto sólo en la teoría y ta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1 CuadroTexto"/>
          <p:cNvSpPr/>
          <p:nvPr/>
        </p:nvSpPr>
        <p:spPr>
          <a:xfrm>
            <a:off x="6875640" y="1844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3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 CuadroTexto"/>
          <p:cNvSpPr/>
          <p:nvPr/>
        </p:nvSpPr>
        <p:spPr>
          <a:xfrm>
            <a:off x="4716360" y="270828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000ff"/>
                </a:solidFill>
                <a:latin typeface="Calibri"/>
                <a:ea typeface="Calibri"/>
              </a:rPr>
              <a:t>A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0 CuadroTexto"/>
          <p:cNvSpPr/>
          <p:nvPr/>
        </p:nvSpPr>
        <p:spPr>
          <a:xfrm>
            <a:off x="1042920" y="2703600"/>
            <a:ext cx="29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000ff"/>
                </a:solidFill>
                <a:latin typeface="Calibri"/>
                <a:ea typeface="Calibri"/>
              </a:rPr>
              <a:t>Diseñ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 Flecha curvada hacia la izquierda"/>
          <p:cNvSpPr/>
          <p:nvPr/>
        </p:nvSpPr>
        <p:spPr>
          <a:xfrm rot="16200000">
            <a:off x="4167000" y="934560"/>
            <a:ext cx="936360" cy="2898720"/>
          </a:xfrm>
          <a:custGeom>
            <a:avLst/>
            <a:gdLst>
              <a:gd name="textAreaLeft" fmla="*/ 125280 w 936360"/>
              <a:gd name="textAreaRight" fmla="*/ 811080 w 936360"/>
              <a:gd name="textAreaTop" fmla="*/ 636840 h 2898720"/>
              <a:gd name="textAreaBottom" fmla="*/ 2144880 h 28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92" stAng="-5400000" swAng="5400000"/>
                <a:lnTo>
                  <a:pt x="21600" y="11236"/>
                </a:lnTo>
                <a:arcTo wR="21600" hR="9492" stAng="0" swAng="3573720"/>
                <a:lnTo>
                  <a:pt x="5400" y="21299"/>
                </a:lnTo>
                <a:lnTo>
                  <a:pt x="0" y="19855"/>
                </a:lnTo>
                <a:lnTo>
                  <a:pt x="5400" y="17809"/>
                </a:lnTo>
                <a:lnTo>
                  <a:pt x="5400" y="18682"/>
                </a:lnTo>
                <a:arcTo wR="21600" hR="9492" stAng="3573720" swAng="-3434423"/>
                <a:lnTo>
                  <a:pt x="21509" y="10364"/>
                </a:lnTo>
                <a:arcTo wR="21600" hR="9492" stAng="-139296" swAng="-5260704"/>
                <a:close/>
              </a:path>
              <a:path fill="darkenLess" w="21600" h="21600">
                <a:moveTo>
                  <a:pt x="0" y="0"/>
                </a:moveTo>
                <a:arcTo wR="21600" hR="9492" stAng="-5400000" swAng="5400000"/>
                <a:lnTo>
                  <a:pt x="21600" y="11236"/>
                </a:lnTo>
                <a:arcTo wR="21600" hR="9492" stAng="0" swAng="-139296"/>
                <a:lnTo>
                  <a:pt x="21509" y="10364"/>
                </a:lnTo>
                <a:arcTo wR="21600" hR="9492" stAng="-139296" swAng="-5260704"/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3 Flecha curvada hacia la izquierda"/>
          <p:cNvSpPr/>
          <p:nvPr/>
        </p:nvSpPr>
        <p:spPr>
          <a:xfrm rot="5400000">
            <a:off x="4113000" y="2592000"/>
            <a:ext cx="935280" cy="2897280"/>
          </a:xfrm>
          <a:custGeom>
            <a:avLst/>
            <a:gdLst>
              <a:gd name="textAreaLeft" fmla="*/ 125280 w 935280"/>
              <a:gd name="textAreaRight" fmla="*/ 810000 w 935280"/>
              <a:gd name="textAreaTop" fmla="*/ 636480 h 2897280"/>
              <a:gd name="textAreaBottom" fmla="*/ 2143800 h 289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93" stAng="-5400000" swAng="5400000"/>
                <a:lnTo>
                  <a:pt x="21600" y="11235"/>
                </a:lnTo>
                <a:arcTo wR="21600" hR="9493" stAng="0" swAng="3573957"/>
                <a:lnTo>
                  <a:pt x="5400" y="21299"/>
                </a:lnTo>
                <a:lnTo>
                  <a:pt x="0" y="19857"/>
                </a:lnTo>
                <a:lnTo>
                  <a:pt x="5400" y="17813"/>
                </a:lnTo>
                <a:lnTo>
                  <a:pt x="5400" y="18685"/>
                </a:lnTo>
                <a:arcTo wR="21600" hR="9493" stAng="3573957" swAng="-3434822"/>
                <a:lnTo>
                  <a:pt x="21509" y="10364"/>
                </a:lnTo>
                <a:arcTo wR="21600" hR="9493" stAng="-139135" swAng="-5260865"/>
                <a:close/>
              </a:path>
              <a:path fill="darkenLess" w="21600" h="21600">
                <a:moveTo>
                  <a:pt x="0" y="0"/>
                </a:moveTo>
                <a:arcTo wR="21600" hR="9493" stAng="-5400000" swAng="5400000"/>
                <a:lnTo>
                  <a:pt x="21600" y="11235"/>
                </a:lnTo>
                <a:arcTo wR="21600" hR="9493" stAng="0" swAng="-139135"/>
                <a:lnTo>
                  <a:pt x="21509" y="10364"/>
                </a:lnTo>
                <a:arcTo wR="21600" hR="9493" stAng="-139135" swAng="-5260865"/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95280" y="1773360"/>
            <a:ext cx="8496360" cy="31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4. Maximizar el aprendiza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43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395280" y="1268280"/>
            <a:ext cx="849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10.000 horas de práctica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«Outliers», M. Glad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50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1 Imagen" descr=""/>
          <p:cNvPicPr/>
          <p:nvPr/>
        </p:nvPicPr>
        <p:blipFill>
          <a:blip r:embed="rId3"/>
          <a:stretch/>
        </p:blipFill>
        <p:spPr>
          <a:xfrm>
            <a:off x="2195640" y="278136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5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4 May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4 Claves clase anteri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5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79280" y="1268280"/>
            <a:ext cx="849636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Estrategia 5-0-20´; Conciencia de la ruta crítica; Semanas y trimes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Calendario siempre; Anticipar quie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Promesas del equipo con el lí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A partir de la ruta crítica; Chequear completit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Evaluar y re-diseñ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Evaluar: la única forma de no repetir el pasado, de cambiar la his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Napoleón; Diseño en acción; Flex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Estado de án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Ambición; Confianza (sinceridad); Pasión por apr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6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4 claves ho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1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1. «Test de blancura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8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95280" y="1268280"/>
            <a:ext cx="849636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"La </a:t>
            </a:r>
            <a:r>
              <a:rPr b="0" i="1" lang="es-CL" sz="4800" spc="-1" strike="noStrike">
                <a:solidFill>
                  <a:srgbClr val="000000"/>
                </a:solidFill>
                <a:latin typeface="Arial"/>
              </a:rPr>
              <a:t>locura</a:t>
            </a: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 es hacer siempre lo mismo y esperar resultados diferentes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85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1 Imagen" descr=""/>
          <p:cNvPicPr/>
          <p:nvPr/>
        </p:nvPicPr>
        <p:blipFill>
          <a:blip r:embed="rId3"/>
          <a:stretch/>
        </p:blipFill>
        <p:spPr>
          <a:xfrm>
            <a:off x="6227640" y="3298680"/>
            <a:ext cx="2562480" cy="3009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95280" y="1773360"/>
            <a:ext cx="849636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2. Apostar 3 ficha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(al me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93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9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2 Imagen" descr=""/>
          <p:cNvPicPr/>
          <p:nvPr/>
        </p:nvPicPr>
        <p:blipFill>
          <a:blip r:embed="rId3"/>
          <a:stretch/>
        </p:blipFill>
        <p:spPr>
          <a:xfrm>
            <a:off x="0" y="1341360"/>
            <a:ext cx="9109080" cy="4894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95280" y="1773360"/>
            <a:ext cx="849636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3. Equilibri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Diseño - A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0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22:21:09Z</dcterms:created>
  <dc:creator>VAIO</dc:creator>
  <dc:description/>
  <dc:language>en-US</dc:language>
  <cp:lastModifiedBy>Guido</cp:lastModifiedBy>
  <dcterms:modified xsi:type="dcterms:W3CDTF">2011-05-10T15:50:33Z</dcterms:modified>
  <cp:revision>147</cp:revision>
  <dc:subject/>
  <dc:title>Diapositiva 1</dc:title>
</cp:coreProperties>
</file>