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FFB-2990-4F23-A2DE-48167334D8F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CB3A-A66A-43DD-847F-4327EC36C06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994-FAEA-4C7F-9CAC-619665DB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566-9A60-4675-8CB0-AB01E640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767-008A-4597-ACD8-79DA7AC8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1CA-8708-413E-BEE5-B903FB8E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B94-765B-4DAB-BA33-993A2D8C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762-D7C0-4B85-B130-9EC91FC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B69-F24E-4294-A1E7-9B17B3A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661-34D9-40D4-A75F-BC11A391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90E-97BE-4F78-A428-821C2706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947-0CBF-4C2C-A7BB-7D5664B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440-7F41-46F4-B21E-83564EC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15B-37A3-4C06-BC07-1E26CC5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32A-A7E4-40C5-8A22-9EDDB15DE6C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Verdana"/>
              </a:rPr>
              <a:t>Pedido avance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50920" y="1506600"/>
            <a:ext cx="864396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 en mejora rendimiento académico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 en mejora calidad de vida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1 Explicar  forma de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aumentar rendimiento y mejorar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3.1 Incluir 1 slide de resumen y otras con mayor det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3.2 Incluir fuentes bibliográficas y entrevis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cciones ejecutadas a la fecha para mejorar el rendimiento y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4.1 Explicitar fecha de ejecución y eficacia de cada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50920" y="1539720"/>
            <a:ext cx="86439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de entrevistas a 45 ICI´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de 5 visitas a empresas donde «pasaron 1 dí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jemplo funcionando de como comunicarán los resultados de las entrevistas (incluir algunas entrevistas de ejemp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generar información a comun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en detalle del Encuentro* / Cada equipo presenta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El Encuentro lo deben realizar a más tardar la semana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39720"/>
            <a:ext cx="86439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y evaluación del Encuentro realizad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esentar benchmark completo de 1 país y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nto ($) necesario para el viaje y Modelo para financi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s a la fecha (¿Qué han logrado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1.1 Monto ($) recaudado a la f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1.2 Otros (concre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cciones concretas realizadas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El Encuentro lo deben realizar a más tardar la semana 8, y debe ser evaluado por el Auxiliar o ayudante. Además d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cumentar, sacar fotos y/o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4-15T04:30:33Z</dcterms:modified>
  <cp:revision>120</cp:revision>
  <dc:subject/>
  <dc:title>Diapositiva 1</dc:title>
</cp:coreProperties>
</file>