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7B27-12F1-4AAF-BE91-775CE605EFA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B04A-479C-49AF-AAB2-449ECF22370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487-9AD9-444F-A983-738F9ED6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754-7707-4790-B536-3266D985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8A4-0CB4-472C-8CDE-8760CBD4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82F-48FA-4EA9-B8FF-04182502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5AB-4FD6-484E-B142-4E5BEFFD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63A-6669-4402-9E0C-75592B64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B7F-14F1-4DB1-9405-0024F863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3EA-A819-4C84-A127-6E4D3FB1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DEC-9C81-4893-9228-58DE7B27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A27-08C1-4707-929F-79DC07AB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AB5-5154-4AEC-98E0-E41A5F05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041-1840-4994-BE33-1A9F5381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C928-25F3-44BA-BD81-C1AA582FB06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Verdana"/>
              </a:rPr>
              <a:t>Pedido avance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50920" y="1506600"/>
            <a:ext cx="864396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 en mejora rendimiento académico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 en mejora calidad de vida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1 Explicar  forma de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aumentar rendimiento y mejorar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3.1 Incluir 1 slide de resumen y otras con mayor det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3.2 Incluir fuentes bibliográficas y entrevis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cciones ejecutadas a la fecha para mejorar el rendimiento y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4.1 Explicitar fecha de ejecución y eficacia de cada 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50920" y="1539720"/>
            <a:ext cx="86439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de entrevistas a 45 ICI´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de 5 visitas a empresas donde «pasaron 1 dí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jemplo funcionando de como comunicarán los resultados de las entrevistas (incluir algunas entrevistas de ejemp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generar información a comun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en detalle del Encuentro* / Cada equipo presenta Pro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El Encuentro lo deben realizar a más tardar la semana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50920" y="1539720"/>
            <a:ext cx="864396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y evaluación del Encuentro realizad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resentar benchmark completo de 1 país y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nto ($) necesario para el viaje y Modelo para financi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s a la fecha (¿Qué han logrado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1.1 Monto ($) recaudado a la f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1.2 Otros (concre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cciones concretas realizadas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El Encuentro lo deben realizar a más tardar la semana 8, y debe ser evaluado por el Auxiliar o ayudante. Además d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cumentar, sacar fotos y/o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4-15T04:30:33Z</dcterms:modified>
  <cp:revision>120</cp:revision>
  <dc:subject/>
  <dc:title>Diapositiva 1</dc:title>
</cp:coreProperties>
</file>