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13BCD-2B62-4752-95AB-2F4DBF3E74F4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3 Marcador de número de diapositiva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1548A-E35F-4D8D-BF34-FC8EB94A7C49}" type="slidenum">
              <a:rPr b="0" lang="es-C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E840-1ABC-4999-8D9D-2AF6AB6DA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BF8E4-C50E-4888-AD99-BB6F8AEEA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C8CA4-8E90-46C5-82C3-6E2FA71F9B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8858E-5C4C-4F11-AA8C-8A605313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8CFFC-4236-4D5C-8F69-EFAEED2BD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F266F-935E-4551-973B-BA48CE756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8930D-1381-4ADE-9087-368F3CC16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4E2F-7C30-4F9B-AF95-0DCACF1E3F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66BEE-EB6A-4780-A08E-0BF6BB0D9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4ECA-A950-4C16-ADA5-4CFAF3E4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4B37-07A2-413A-BFEE-4D84CF534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7CC66-C423-4D3A-B0F0-C8088DEB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aller de Ingeniería Industrial l - Proyect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92BAB-59ED-4FA5-A2A5-77FF54773771}" type="slidenum">
              <a:rPr b="0" lang="es-C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14"/>
          <p:cNvGrpSpPr/>
          <p:nvPr/>
        </p:nvGrpSpPr>
        <p:grpSpPr>
          <a:xfrm>
            <a:off x="3203640" y="549360"/>
            <a:ext cx="2735280" cy="647640"/>
            <a:chOff x="3203640" y="549360"/>
            <a:chExt cx="2735280" cy="647640"/>
          </a:xfrm>
        </p:grpSpPr>
        <p:sp>
          <p:nvSpPr>
            <p:cNvPr id="49" name="Rounded Rectangle 9"/>
            <p:cNvSpPr/>
            <p:nvPr/>
          </p:nvSpPr>
          <p:spPr>
            <a:xfrm>
              <a:off x="3203640" y="549360"/>
              <a:ext cx="2735280" cy="600120"/>
            </a:xfrm>
            <a:prstGeom prst="roundRect">
              <a:avLst>
                <a:gd name="adj" fmla="val 4477"/>
              </a:avLst>
            </a:prstGeom>
            <a:noFill/>
            <a:ln w="0">
              <a:noFill/>
            </a:ln>
            <a:effectLst>
              <a:outerShdw dist="23040" dir="5400000" blurRad="0" rotWithShape="0">
                <a:srgbClr val="80808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" name="Picture 13" descr="logo_new2007.jpg"/>
            <p:cNvPicPr/>
            <p:nvPr/>
          </p:nvPicPr>
          <p:blipFill>
            <a:blip r:embed="rId1"/>
            <a:stretch/>
          </p:blipFill>
          <p:spPr>
            <a:xfrm>
              <a:off x="3257280" y="585360"/>
              <a:ext cx="2628000" cy="611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1" name="Picture 22" descr="Logo_FCFM_ApaisadoOficial2006_con-fondo"/>
          <p:cNvPicPr/>
          <p:nvPr/>
        </p:nvPicPr>
        <p:blipFill>
          <a:blip r:embed="rId2"/>
          <a:srcRect l="18866" t="0" r="37978" b="0"/>
          <a:stretch/>
        </p:blipFill>
        <p:spPr>
          <a:xfrm>
            <a:off x="4284720" y="5853240"/>
            <a:ext cx="503280" cy="4554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23"/>
          <p:cNvSpPr/>
          <p:nvPr/>
        </p:nvSpPr>
        <p:spPr>
          <a:xfrm>
            <a:off x="0" y="630864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Abril 20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24"/>
          <p:cNvSpPr/>
          <p:nvPr/>
        </p:nvSpPr>
        <p:spPr>
          <a:xfrm>
            <a:off x="0" y="-27000"/>
            <a:ext cx="914400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3"/>
          <p:cNvSpPr/>
          <p:nvPr/>
        </p:nvSpPr>
        <p:spPr>
          <a:xfrm>
            <a:off x="395280" y="2131920"/>
            <a:ext cx="8137440" cy="115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800" spc="-1" strike="noStrike">
                <a:solidFill>
                  <a:srgbClr val="000000"/>
                </a:solidFill>
                <a:latin typeface="Verdana"/>
              </a:rPr>
              <a:t>Taller de Ingeniería Industrial l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00"/>
                </a:solidFill>
                <a:latin typeface="Verdana"/>
              </a:rPr>
              <a:t>Proyec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3600" spc="-1" strike="noStrike">
                <a:solidFill>
                  <a:srgbClr val="000000"/>
                </a:solidFill>
                <a:latin typeface="Verdana"/>
              </a:rPr>
              <a:t>Pedido avance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2"/>
          <p:cNvSpPr/>
          <p:nvPr/>
        </p:nvSpPr>
        <p:spPr>
          <a:xfrm>
            <a:off x="250920" y="1506600"/>
            <a:ext cx="8643960" cy="469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rendimiento académico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 en mejora calidad de vida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2.1 Explicar  forma de medi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aumentar rendimiento y mejorar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1 Incluir 1 slide de resumen y otras con mayor detal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3.2 Incluir fuentes bibliográficas y entrevistado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ejecutadas a la fecha para mejorar el rendimiento y calidad de v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Verdana"/>
                <a:ea typeface="Arial"/>
              </a:rPr>
              <a:t>4.1 Explicitar fecha de ejecución y eficacia de cada acció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5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"/>
          <p:cNvSpPr/>
          <p:nvPr/>
        </p:nvSpPr>
        <p:spPr>
          <a:xfrm>
            <a:off x="250920" y="1539720"/>
            <a:ext cx="8643960" cy="475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entrevistas a 45 ICI´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de 5 visitas a empresas donde «pasaron 1 día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jemplo funcionando de como comunicarán los resultados de las entrevistas (incluir algunas entrevistas de ejempl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delo para generar información a comuni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Diseño en detalle del Encuentro* / Cada equipo presenta Propues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6"/>
          <p:cNvSpPr/>
          <p:nvPr/>
        </p:nvSpPr>
        <p:spPr>
          <a:xfrm>
            <a:off x="-36360" y="-216000"/>
            <a:ext cx="9180360" cy="549360"/>
          </a:xfrm>
          <a:prstGeom prst="rect">
            <a:avLst/>
          </a:prstGeom>
          <a:solidFill>
            <a:srgbClr val="99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"/>
          <p:cNvSpPr/>
          <p:nvPr/>
        </p:nvSpPr>
        <p:spPr>
          <a:xfrm>
            <a:off x="250920" y="500040"/>
            <a:ext cx="820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993300"/>
                </a:solidFill>
                <a:latin typeface="Verdana"/>
              </a:rPr>
              <a:t>Pedidos para el 4 de may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2400" spc="-1" strike="noStrike">
                <a:solidFill>
                  <a:srgbClr val="000000"/>
                </a:solidFill>
                <a:latin typeface="Verdana"/>
              </a:rPr>
              <a:t>Equipo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"/>
          <p:cNvSpPr/>
          <p:nvPr/>
        </p:nvSpPr>
        <p:spPr>
          <a:xfrm>
            <a:off x="250920" y="1539720"/>
            <a:ext cx="8643960" cy="496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men y evaluación del Encuentro realizado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Presentar benchmark completo de 1 país y Ch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Monto ($) necesario para el viaje y Modelo para financiar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Resultados a la fecha (¿Qué han logrado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1 Monto ($) recaudado a la fech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1.2 Otros (concreto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cciones concretas realizadas a la fech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vance en diseño Modelo de negoc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1 Potenciales clien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2 ¿De qué quiebre(s) de cada potencial cliente  se hacen cargo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3 Posibles ofertas a cada cli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6285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  <a:ea typeface="Arial"/>
              </a:rPr>
              <a:t>6.4 Resumen del Mode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lendario de avance con «ruta crítica» para el resto del semestre (ocupar formato publicado en u-curs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Evaluación de líderes de área y de integrantes de cada á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Verdana"/>
              </a:rPr>
              <a:t>*El Encuentro lo deben realizar a más tardar la semana 8, y debe ser evaluado por el Auxiliar o ayudante. Además d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ocumentar, sacar fotos y/o vide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9" descr="Logo_FCFM_ApaisadoOficial2006_con-fondo"/>
          <p:cNvPicPr/>
          <p:nvPr/>
        </p:nvPicPr>
        <p:blipFill>
          <a:blip r:embed="rId1"/>
          <a:srcRect l="18866" t="0" r="37978" b="0"/>
          <a:stretch/>
        </p:blipFill>
        <p:spPr>
          <a:xfrm>
            <a:off x="108000" y="6237360"/>
            <a:ext cx="503280" cy="455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3" descr=""/>
          <p:cNvPicPr/>
          <p:nvPr/>
        </p:nvPicPr>
        <p:blipFill>
          <a:blip r:embed="rId2"/>
          <a:stretch/>
        </p:blipFill>
        <p:spPr>
          <a:xfrm>
            <a:off x="6802560" y="6246720"/>
            <a:ext cx="216216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22:21:09Z</dcterms:created>
  <dc:creator>VAIO</dc:creator>
  <dc:description/>
  <dc:language>en-US</dc:language>
  <cp:lastModifiedBy>Guido</cp:lastModifiedBy>
  <dcterms:modified xsi:type="dcterms:W3CDTF">2011-04-15T04:30:33Z</dcterms:modified>
  <cp:revision>120</cp:revision>
  <dc:subject/>
  <dc:title>Diapositiva 1</dc:title>
</cp:coreProperties>
</file>