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0998-3EFF-4F81-8A2A-FE9ABC189DC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24A6-C062-4ABC-90BE-0CBEF071E0F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4B1-F6BF-47D0-A3DF-48CF7016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42D-DF8E-4D36-8F70-3AFA1011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FC47-50AE-4462-89FB-CA9C7551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2BE-CBA1-4668-8451-99482440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EE2-A5EB-41B6-AB6F-E0F52BEF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15E-6DAF-4D6C-8418-0B5AE680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5BB0-F26E-4A34-8FC2-A2AD120A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880-FE3F-4908-A5EA-9F54FAF1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BDB-05CC-4EB3-B219-2328E29F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CCB5-87E6-450C-9503-D16C5E6B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8C1-6792-40F3-AFB2-F69AAF32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0CC7-8CDE-4024-BAD6-F1DBA6F3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ller de Ingeniería Industrial l 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0867-D241-4B0A-8F97-6C4380F2673C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4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13 Ab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95280" y="1773360"/>
            <a:ext cx="849636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Promesas del equipo con el lí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A partir de la ruta cr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Chequear complet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23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2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Flores, Fernando, «Creando organizaciones para el futuro», Dolmen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icl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 flipH="1" flipV="1">
            <a:off x="4741920" y="464184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 flipV="1">
            <a:off x="1655640" y="37656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3236760" y="1717560"/>
            <a:ext cx="49068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 flipH="1">
            <a:off x="6799320" y="2146320"/>
            <a:ext cx="318960" cy="57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8"/>
          <p:cNvSpPr/>
          <p:nvPr/>
        </p:nvSpPr>
        <p:spPr>
          <a:xfrm>
            <a:off x="493560" y="692280"/>
            <a:ext cx="8147160" cy="4976640"/>
          </a:xfrm>
          <a:prstGeom prst="rect">
            <a:avLst/>
          </a:prstGeom>
          <a:solidFill>
            <a:srgbClr val="4f81bd"/>
          </a:solidFill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7093080" y="3308400"/>
            <a:ext cx="98100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4510080" y="497520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950760" y="3308400"/>
            <a:ext cx="99072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3"/>
          <p:cNvSpPr/>
          <p:nvPr/>
        </p:nvSpPr>
        <p:spPr>
          <a:xfrm>
            <a:off x="898200" y="2854440"/>
            <a:ext cx="99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4"/>
          <p:cNvSpPr/>
          <p:nvPr/>
        </p:nvSpPr>
        <p:spPr>
          <a:xfrm>
            <a:off x="7025400" y="2905200"/>
            <a:ext cx="150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Realiz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5"/>
          <p:cNvSpPr/>
          <p:nvPr/>
        </p:nvSpPr>
        <p:spPr>
          <a:xfrm>
            <a:off x="607680" y="977400"/>
            <a:ext cx="167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. Prepa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6"/>
          <p:cNvSpPr/>
          <p:nvPr/>
        </p:nvSpPr>
        <p:spPr>
          <a:xfrm>
            <a:off x="6828480" y="958680"/>
            <a:ext cx="178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. Nego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7"/>
          <p:cNvSpPr/>
          <p:nvPr/>
        </p:nvSpPr>
        <p:spPr>
          <a:xfrm>
            <a:off x="538200" y="5211360"/>
            <a:ext cx="169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V. Ace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8"/>
          <p:cNvSpPr/>
          <p:nvPr/>
        </p:nvSpPr>
        <p:spPr>
          <a:xfrm>
            <a:off x="7056360" y="5207400"/>
            <a:ext cx="152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I. Ejec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0"/>
          <p:cNvSpPr/>
          <p:nvPr/>
        </p:nvSpPr>
        <p:spPr>
          <a:xfrm>
            <a:off x="2614680" y="1479600"/>
            <a:ext cx="142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edido u O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1"/>
          <p:cNvSpPr/>
          <p:nvPr/>
        </p:nvSpPr>
        <p:spPr>
          <a:xfrm>
            <a:off x="6273720" y="1636560"/>
            <a:ext cx="1747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Acuerdo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 (2 </a:t>
            </a: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romesas mutuas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2"/>
          <p:cNvSpPr/>
          <p:nvPr/>
        </p:nvSpPr>
        <p:spPr>
          <a:xfrm>
            <a:off x="5060880" y="4741920"/>
            <a:ext cx="1481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Cumpl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3"/>
          <p:cNvSpPr/>
          <p:nvPr/>
        </p:nvSpPr>
        <p:spPr>
          <a:xfrm>
            <a:off x="1079640" y="4160880"/>
            <a:ext cx="1604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Satisf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4"/>
          <p:cNvSpPr/>
          <p:nvPr/>
        </p:nvSpPr>
        <p:spPr>
          <a:xfrm>
            <a:off x="2216160" y="1919160"/>
            <a:ext cx="2254320" cy="1282680"/>
          </a:xfrm>
          <a:custGeom>
            <a:avLst/>
            <a:gdLst/>
            <a:ahLst/>
            <a:rect l="l" t="t" r="r" b="b"/>
            <a:pathLst>
              <a:path w="1420" h="808">
                <a:moveTo>
                  <a:pt x="0" y="807"/>
                </a:moveTo>
                <a:lnTo>
                  <a:pt x="148" y="807"/>
                </a:lnTo>
                <a:lnTo>
                  <a:pt x="169" y="728"/>
                </a:lnTo>
                <a:lnTo>
                  <a:pt x="202" y="656"/>
                </a:lnTo>
                <a:lnTo>
                  <a:pt x="248" y="585"/>
                </a:lnTo>
                <a:lnTo>
                  <a:pt x="307" y="523"/>
                </a:lnTo>
                <a:lnTo>
                  <a:pt x="374" y="459"/>
                </a:lnTo>
                <a:lnTo>
                  <a:pt x="455" y="406"/>
                </a:lnTo>
                <a:lnTo>
                  <a:pt x="545" y="355"/>
                </a:lnTo>
                <a:lnTo>
                  <a:pt x="645" y="307"/>
                </a:lnTo>
                <a:lnTo>
                  <a:pt x="759" y="266"/>
                </a:lnTo>
                <a:lnTo>
                  <a:pt x="877" y="232"/>
                </a:lnTo>
                <a:lnTo>
                  <a:pt x="1007" y="199"/>
                </a:lnTo>
                <a:lnTo>
                  <a:pt x="1148" y="174"/>
                </a:lnTo>
                <a:lnTo>
                  <a:pt x="1156" y="235"/>
                </a:lnTo>
                <a:lnTo>
                  <a:pt x="1419" y="95"/>
                </a:lnTo>
                <a:lnTo>
                  <a:pt x="1105" y="0"/>
                </a:lnTo>
                <a:lnTo>
                  <a:pt x="1120" y="61"/>
                </a:lnTo>
                <a:lnTo>
                  <a:pt x="964" y="89"/>
                </a:lnTo>
                <a:lnTo>
                  <a:pt x="823" y="123"/>
                </a:lnTo>
                <a:lnTo>
                  <a:pt x="690" y="164"/>
                </a:lnTo>
                <a:lnTo>
                  <a:pt x="563" y="212"/>
                </a:lnTo>
                <a:lnTo>
                  <a:pt x="452" y="266"/>
                </a:lnTo>
                <a:lnTo>
                  <a:pt x="350" y="325"/>
                </a:lnTo>
                <a:lnTo>
                  <a:pt x="263" y="393"/>
                </a:lnTo>
                <a:lnTo>
                  <a:pt x="184" y="465"/>
                </a:lnTo>
                <a:lnTo>
                  <a:pt x="118" y="544"/>
                </a:lnTo>
                <a:lnTo>
                  <a:pt x="67" y="628"/>
                </a:lnTo>
                <a:lnTo>
                  <a:pt x="28" y="715"/>
                </a:lnTo>
                <a:lnTo>
                  <a:pt x="0" y="80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5"/>
          <p:cNvSpPr/>
          <p:nvPr/>
        </p:nvSpPr>
        <p:spPr>
          <a:xfrm>
            <a:off x="4640400" y="2021040"/>
            <a:ext cx="2181240" cy="1228680"/>
          </a:xfrm>
          <a:custGeom>
            <a:avLst/>
            <a:gdLst/>
            <a:ahLst/>
            <a:rect l="l" t="t" r="r" b="b"/>
            <a:pathLst>
              <a:path w="1374" h="774">
                <a:moveTo>
                  <a:pt x="1373" y="502"/>
                </a:moveTo>
                <a:lnTo>
                  <a:pt x="1355" y="773"/>
                </a:lnTo>
                <a:lnTo>
                  <a:pt x="1102" y="561"/>
                </a:lnTo>
                <a:lnTo>
                  <a:pt x="1174" y="554"/>
                </a:lnTo>
                <a:lnTo>
                  <a:pt x="1120" y="488"/>
                </a:lnTo>
                <a:lnTo>
                  <a:pt x="1051" y="428"/>
                </a:lnTo>
                <a:lnTo>
                  <a:pt x="972" y="372"/>
                </a:lnTo>
                <a:lnTo>
                  <a:pt x="882" y="317"/>
                </a:lnTo>
                <a:lnTo>
                  <a:pt x="780" y="270"/>
                </a:lnTo>
                <a:lnTo>
                  <a:pt x="668" y="229"/>
                </a:lnTo>
                <a:lnTo>
                  <a:pt x="545" y="194"/>
                </a:lnTo>
                <a:lnTo>
                  <a:pt x="419" y="164"/>
                </a:lnTo>
                <a:lnTo>
                  <a:pt x="286" y="143"/>
                </a:lnTo>
                <a:lnTo>
                  <a:pt x="145" y="127"/>
                </a:lnTo>
                <a:lnTo>
                  <a:pt x="0" y="118"/>
                </a:lnTo>
                <a:lnTo>
                  <a:pt x="0" y="0"/>
                </a:lnTo>
                <a:lnTo>
                  <a:pt x="118" y="3"/>
                </a:lnTo>
                <a:lnTo>
                  <a:pt x="245" y="13"/>
                </a:lnTo>
                <a:lnTo>
                  <a:pt x="368" y="33"/>
                </a:lnTo>
                <a:lnTo>
                  <a:pt x="491" y="58"/>
                </a:lnTo>
                <a:lnTo>
                  <a:pt x="611" y="89"/>
                </a:lnTo>
                <a:lnTo>
                  <a:pt x="726" y="123"/>
                </a:lnTo>
                <a:lnTo>
                  <a:pt x="838" y="168"/>
                </a:lnTo>
                <a:lnTo>
                  <a:pt x="939" y="215"/>
                </a:lnTo>
                <a:lnTo>
                  <a:pt x="1033" y="270"/>
                </a:lnTo>
                <a:lnTo>
                  <a:pt x="1120" y="327"/>
                </a:lnTo>
                <a:lnTo>
                  <a:pt x="1192" y="387"/>
                </a:lnTo>
                <a:lnTo>
                  <a:pt x="1256" y="451"/>
                </a:lnTo>
                <a:lnTo>
                  <a:pt x="1307" y="516"/>
                </a:lnTo>
                <a:lnTo>
                  <a:pt x="1373" y="50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6"/>
          <p:cNvSpPr/>
          <p:nvPr/>
        </p:nvSpPr>
        <p:spPr>
          <a:xfrm>
            <a:off x="2236680" y="3435480"/>
            <a:ext cx="2185920" cy="1226880"/>
          </a:xfrm>
          <a:custGeom>
            <a:avLst/>
            <a:gdLst/>
            <a:ahLst/>
            <a:rect l="l" t="t" r="r" b="b"/>
            <a:pathLst>
              <a:path w="1377" h="773">
                <a:moveTo>
                  <a:pt x="0" y="271"/>
                </a:moveTo>
                <a:lnTo>
                  <a:pt x="21" y="0"/>
                </a:lnTo>
                <a:lnTo>
                  <a:pt x="271" y="212"/>
                </a:lnTo>
                <a:lnTo>
                  <a:pt x="199" y="218"/>
                </a:lnTo>
                <a:lnTo>
                  <a:pt x="256" y="284"/>
                </a:lnTo>
                <a:lnTo>
                  <a:pt x="325" y="345"/>
                </a:lnTo>
                <a:lnTo>
                  <a:pt x="406" y="401"/>
                </a:lnTo>
                <a:lnTo>
                  <a:pt x="496" y="455"/>
                </a:lnTo>
                <a:lnTo>
                  <a:pt x="596" y="503"/>
                </a:lnTo>
                <a:lnTo>
                  <a:pt x="708" y="544"/>
                </a:lnTo>
                <a:lnTo>
                  <a:pt x="828" y="578"/>
                </a:lnTo>
                <a:lnTo>
                  <a:pt x="957" y="608"/>
                </a:lnTo>
                <a:lnTo>
                  <a:pt x="1092" y="629"/>
                </a:lnTo>
                <a:lnTo>
                  <a:pt x="1232" y="646"/>
                </a:lnTo>
                <a:lnTo>
                  <a:pt x="1376" y="652"/>
                </a:lnTo>
                <a:lnTo>
                  <a:pt x="1376" y="772"/>
                </a:lnTo>
                <a:lnTo>
                  <a:pt x="1254" y="769"/>
                </a:lnTo>
                <a:lnTo>
                  <a:pt x="1131" y="756"/>
                </a:lnTo>
                <a:lnTo>
                  <a:pt x="1008" y="739"/>
                </a:lnTo>
                <a:lnTo>
                  <a:pt x="885" y="715"/>
                </a:lnTo>
                <a:lnTo>
                  <a:pt x="767" y="683"/>
                </a:lnTo>
                <a:lnTo>
                  <a:pt x="650" y="646"/>
                </a:lnTo>
                <a:lnTo>
                  <a:pt x="539" y="604"/>
                </a:lnTo>
                <a:lnTo>
                  <a:pt x="437" y="554"/>
                </a:lnTo>
                <a:lnTo>
                  <a:pt x="343" y="503"/>
                </a:lnTo>
                <a:lnTo>
                  <a:pt x="256" y="445"/>
                </a:lnTo>
                <a:lnTo>
                  <a:pt x="184" y="383"/>
                </a:lnTo>
                <a:lnTo>
                  <a:pt x="120" y="322"/>
                </a:lnTo>
                <a:lnTo>
                  <a:pt x="69" y="256"/>
                </a:lnTo>
                <a:lnTo>
                  <a:pt x="0" y="27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"/>
          <p:cNvSpPr/>
          <p:nvPr/>
        </p:nvSpPr>
        <p:spPr>
          <a:xfrm>
            <a:off x="4640400" y="3435480"/>
            <a:ext cx="2249280" cy="1276200"/>
          </a:xfrm>
          <a:custGeom>
            <a:avLst/>
            <a:gdLst/>
            <a:ahLst/>
            <a:rect l="l" t="t" r="r" b="b"/>
            <a:pathLst>
              <a:path w="1417" h="804">
                <a:moveTo>
                  <a:pt x="1416" y="0"/>
                </a:moveTo>
                <a:lnTo>
                  <a:pt x="1271" y="0"/>
                </a:lnTo>
                <a:lnTo>
                  <a:pt x="1250" y="79"/>
                </a:lnTo>
                <a:lnTo>
                  <a:pt x="1217" y="151"/>
                </a:lnTo>
                <a:lnTo>
                  <a:pt x="1171" y="222"/>
                </a:lnTo>
                <a:lnTo>
                  <a:pt x="1112" y="284"/>
                </a:lnTo>
                <a:lnTo>
                  <a:pt x="1045" y="345"/>
                </a:lnTo>
                <a:lnTo>
                  <a:pt x="964" y="401"/>
                </a:lnTo>
                <a:lnTo>
                  <a:pt x="874" y="452"/>
                </a:lnTo>
                <a:lnTo>
                  <a:pt x="774" y="499"/>
                </a:lnTo>
                <a:lnTo>
                  <a:pt x="660" y="540"/>
                </a:lnTo>
                <a:lnTo>
                  <a:pt x="539" y="575"/>
                </a:lnTo>
                <a:lnTo>
                  <a:pt x="407" y="608"/>
                </a:lnTo>
                <a:lnTo>
                  <a:pt x="271" y="629"/>
                </a:lnTo>
                <a:lnTo>
                  <a:pt x="260" y="571"/>
                </a:lnTo>
                <a:lnTo>
                  <a:pt x="0" y="711"/>
                </a:lnTo>
                <a:lnTo>
                  <a:pt x="310" y="803"/>
                </a:lnTo>
                <a:lnTo>
                  <a:pt x="299" y="746"/>
                </a:lnTo>
                <a:lnTo>
                  <a:pt x="452" y="718"/>
                </a:lnTo>
                <a:lnTo>
                  <a:pt x="596" y="683"/>
                </a:lnTo>
                <a:lnTo>
                  <a:pt x="729" y="642"/>
                </a:lnTo>
                <a:lnTo>
                  <a:pt x="853" y="594"/>
                </a:lnTo>
                <a:lnTo>
                  <a:pt x="964" y="540"/>
                </a:lnTo>
                <a:lnTo>
                  <a:pt x="1066" y="478"/>
                </a:lnTo>
                <a:lnTo>
                  <a:pt x="1156" y="411"/>
                </a:lnTo>
                <a:lnTo>
                  <a:pt x="1232" y="342"/>
                </a:lnTo>
                <a:lnTo>
                  <a:pt x="1298" y="263"/>
                </a:lnTo>
                <a:lnTo>
                  <a:pt x="1352" y="179"/>
                </a:lnTo>
                <a:lnTo>
                  <a:pt x="1391" y="92"/>
                </a:lnTo>
                <a:lnTo>
                  <a:pt x="14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649908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4503600" y="1859040"/>
            <a:ext cx="44640" cy="49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4503600" y="4325760"/>
            <a:ext cx="44640" cy="492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206064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2"/>
          <p:cNvSpPr/>
          <p:nvPr/>
        </p:nvSpPr>
        <p:spPr>
          <a:xfrm>
            <a:off x="4311720" y="230976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6143760" y="316692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4"/>
          <p:cNvSpPr/>
          <p:nvPr/>
        </p:nvSpPr>
        <p:spPr>
          <a:xfrm>
            <a:off x="4311720" y="402444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5"/>
          <p:cNvSpPr/>
          <p:nvPr/>
        </p:nvSpPr>
        <p:spPr>
          <a:xfrm>
            <a:off x="2597040" y="3238560"/>
            <a:ext cx="5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7"/>
          <p:cNvSpPr/>
          <p:nvPr/>
        </p:nvSpPr>
        <p:spPr>
          <a:xfrm>
            <a:off x="3195720" y="2644920"/>
            <a:ext cx="264456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rebuchet MS"/>
              </a:rPr>
              <a:t>CONDICIONES DE SATISFA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¿Qué y cua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537080" y="98892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3. Evaluar y re-diseñ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65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395280" y="1773360"/>
            <a:ext cx="8496360" cy="39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Evaluar y re-diseñ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Evaluar: la única forma de no repetir el pasado, de cambiar la 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Napole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Diseño en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Flex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7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4. Estado de áni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7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95280" y="1773360"/>
            <a:ext cx="8496360" cy="34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Estado de án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Amb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Confianza (sincerid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Pasión por ap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86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9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392800" y="1608120"/>
            <a:ext cx="1584360" cy="403236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4311720" y="2184480"/>
            <a:ext cx="1081080" cy="345600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002040" y="4257720"/>
            <a:ext cx="1295280" cy="138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360440" y="5064120"/>
            <a:ext cx="16272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6"/>
          <p:cNvSpPr/>
          <p:nvPr/>
        </p:nvSpPr>
        <p:spPr>
          <a:xfrm rot="255000">
            <a:off x="1692000" y="2104920"/>
            <a:ext cx="5400720" cy="3600720"/>
          </a:xfrm>
          <a:custGeom>
            <a:avLst/>
            <a:gdLst/>
            <a:ahLst/>
            <a:rect l="l" t="t" r="r" b="b"/>
            <a:pathLst>
              <a:path w="3402" h="2268">
                <a:moveTo>
                  <a:pt x="0" y="2268"/>
                </a:moveTo>
                <a:cubicBezTo>
                  <a:pt x="552" y="2189"/>
                  <a:pt x="1104" y="2110"/>
                  <a:pt x="1452" y="1815"/>
                </a:cubicBezTo>
                <a:cubicBezTo>
                  <a:pt x="1800" y="1520"/>
                  <a:pt x="1762" y="801"/>
                  <a:pt x="2087" y="499"/>
                </a:cubicBezTo>
                <a:cubicBezTo>
                  <a:pt x="2412" y="197"/>
                  <a:pt x="2907" y="98"/>
                  <a:pt x="340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7"/>
          <p:cNvSpPr/>
          <p:nvPr/>
        </p:nvSpPr>
        <p:spPr>
          <a:xfrm flipV="1">
            <a:off x="1187280" y="1052640"/>
            <a:ext cx="0" cy="488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7592400" y="5770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1547640" y="4437000"/>
            <a:ext cx="131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Entusiasmo inicia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2987640" y="3703680"/>
            <a:ext cx="136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Travesía por el desierto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4211640" y="1844640"/>
            <a:ext cx="115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ontagio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5435640" y="11970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Asentamiento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1788840" y="573264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er 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3231720" y="573264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do 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5179680" y="573264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er 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>
            <a:off x="1187280" y="5950080"/>
            <a:ext cx="578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3"/>
          <p:cNvSpPr/>
          <p:nvPr/>
        </p:nvSpPr>
        <p:spPr>
          <a:xfrm>
            <a:off x="3780000" y="4726080"/>
            <a:ext cx="1008000" cy="1006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1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13 Ab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95280" y="1773360"/>
            <a:ext cx="849636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4 claves hoy para sus Proyec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5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1. Veloc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6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0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684360" y="1319040"/>
            <a:ext cx="8280360" cy="4989600"/>
          </a:xfrm>
          <a:prstGeom prst="rect">
            <a:avLst/>
          </a:prstGeom>
          <a:ln w="0">
            <a:noFill/>
          </a:ln>
        </p:spPr>
      </p:pic>
      <p:sp>
        <p:nvSpPr>
          <p:cNvPr id="76" name="2 Abrir llave"/>
          <p:cNvSpPr/>
          <p:nvPr/>
        </p:nvSpPr>
        <p:spPr>
          <a:xfrm>
            <a:off x="449280" y="1484280"/>
            <a:ext cx="162000" cy="1800360"/>
          </a:xfrm>
          <a:custGeom>
            <a:avLst/>
            <a:gdLst>
              <a:gd name="textAreaLeft" fmla="*/ 103680 w 162000"/>
              <a:gd name="textAreaRight" fmla="*/ 162360 w 162000"/>
              <a:gd name="textAreaTop" fmla="*/ 3960 h 1800360"/>
              <a:gd name="textAreaBottom" fmla="*/ 179640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bbb5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 Elipse"/>
          <p:cNvSpPr/>
          <p:nvPr/>
        </p:nvSpPr>
        <p:spPr>
          <a:xfrm>
            <a:off x="34920" y="1989000"/>
            <a:ext cx="396720" cy="32400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6 Abrir llave"/>
          <p:cNvSpPr/>
          <p:nvPr/>
        </p:nvSpPr>
        <p:spPr>
          <a:xfrm>
            <a:off x="449280" y="3262320"/>
            <a:ext cx="162000" cy="3046320"/>
          </a:xfrm>
          <a:custGeom>
            <a:avLst/>
            <a:gdLst>
              <a:gd name="textAreaLeft" fmla="*/ 103680 w 162000"/>
              <a:gd name="textAreaRight" fmla="*/ 162360 w 162000"/>
              <a:gd name="textAreaTop" fmla="*/ 3960 h 3046320"/>
              <a:gd name="textAreaBottom" fmla="*/ 3042360 h 304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"/>
                  <a:pt x="10800" y="96"/>
                </a:cubicBezTo>
                <a:lnTo>
                  <a:pt x="10800" y="10704"/>
                </a:lnTo>
                <a:cubicBezTo>
                  <a:pt x="10800" y="10752"/>
                  <a:pt x="5400" y="10800"/>
                  <a:pt x="0" y="10800"/>
                </a:cubicBezTo>
                <a:cubicBezTo>
                  <a:pt x="5400" y="10800"/>
                  <a:pt x="10800" y="10848"/>
                  <a:pt x="10800" y="10896"/>
                </a:cubicBezTo>
                <a:lnTo>
                  <a:pt x="10800" y="21504"/>
                </a:lnTo>
                <a:cubicBezTo>
                  <a:pt x="10800" y="21552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7 Elipse"/>
          <p:cNvSpPr/>
          <p:nvPr/>
        </p:nvSpPr>
        <p:spPr>
          <a:xfrm>
            <a:off x="-36360" y="4329000"/>
            <a:ext cx="539640" cy="3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95280" y="1773360"/>
            <a:ext cx="8496360" cy="41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Estrategia 5-0-20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Conciencia de la ruta cr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Semanas y trime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Calendario siem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Anticipar quie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8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88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684360" y="1319040"/>
            <a:ext cx="8280360" cy="4989600"/>
          </a:xfrm>
          <a:prstGeom prst="rect">
            <a:avLst/>
          </a:prstGeom>
          <a:ln w="0">
            <a:noFill/>
          </a:ln>
        </p:spPr>
      </p:pic>
      <p:sp>
        <p:nvSpPr>
          <p:cNvPr id="94" name="2 Abrir llave"/>
          <p:cNvSpPr/>
          <p:nvPr/>
        </p:nvSpPr>
        <p:spPr>
          <a:xfrm>
            <a:off x="449280" y="1484280"/>
            <a:ext cx="162000" cy="1800360"/>
          </a:xfrm>
          <a:custGeom>
            <a:avLst/>
            <a:gdLst>
              <a:gd name="textAreaLeft" fmla="*/ 103680 w 162000"/>
              <a:gd name="textAreaRight" fmla="*/ 162360 w 162000"/>
              <a:gd name="textAreaTop" fmla="*/ 3960 h 1800360"/>
              <a:gd name="textAreaBottom" fmla="*/ 179640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bbb5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3 Elipse"/>
          <p:cNvSpPr/>
          <p:nvPr/>
        </p:nvSpPr>
        <p:spPr>
          <a:xfrm>
            <a:off x="34920" y="1989000"/>
            <a:ext cx="396720" cy="32400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6 Abrir llave"/>
          <p:cNvSpPr/>
          <p:nvPr/>
        </p:nvSpPr>
        <p:spPr>
          <a:xfrm>
            <a:off x="449280" y="3262320"/>
            <a:ext cx="162000" cy="3046320"/>
          </a:xfrm>
          <a:custGeom>
            <a:avLst/>
            <a:gdLst>
              <a:gd name="textAreaLeft" fmla="*/ 103680 w 162000"/>
              <a:gd name="textAreaRight" fmla="*/ 162360 w 162000"/>
              <a:gd name="textAreaTop" fmla="*/ 3960 h 3046320"/>
              <a:gd name="textAreaBottom" fmla="*/ 3042360 h 304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"/>
                  <a:pt x="10800" y="96"/>
                </a:cubicBezTo>
                <a:lnTo>
                  <a:pt x="10800" y="10704"/>
                </a:lnTo>
                <a:cubicBezTo>
                  <a:pt x="10800" y="10752"/>
                  <a:pt x="5400" y="10800"/>
                  <a:pt x="0" y="10800"/>
                </a:cubicBezTo>
                <a:cubicBezTo>
                  <a:pt x="5400" y="10800"/>
                  <a:pt x="10800" y="10848"/>
                  <a:pt x="10800" y="10896"/>
                </a:cubicBezTo>
                <a:lnTo>
                  <a:pt x="10800" y="21504"/>
                </a:lnTo>
                <a:cubicBezTo>
                  <a:pt x="10800" y="21552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7 Elipse"/>
          <p:cNvSpPr/>
          <p:nvPr/>
        </p:nvSpPr>
        <p:spPr>
          <a:xfrm>
            <a:off x="-36360" y="4329000"/>
            <a:ext cx="539640" cy="3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95280" y="1773360"/>
            <a:ext cx="849636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2. Promesas del equipo con el Lí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00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95280" y="1773360"/>
            <a:ext cx="849636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«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Gestión de recursos para llevar a cabo una se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de actividades debidamente planeadas y organizadas con el fin de conseguir un objetiv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«Es una </a:t>
            </a:r>
            <a:r>
              <a:rPr b="1" i="1" lang="es-CL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red de compromisos hecha por seres humanos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 trabajando juntos, los cumplimientos de estos compromisos, sus quiebres y la recurrente reconstitución de compromisos que estos quiebres y cumplimientos generan a su vez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0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 Conector recto"/>
          <p:cNvSpPr/>
          <p:nvPr/>
        </p:nvSpPr>
        <p:spPr>
          <a:xfrm flipV="1">
            <a:off x="684360" y="2491920"/>
            <a:ext cx="7704000" cy="143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95280" y="1773360"/>
            <a:ext cx="84963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Foco 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Actividades y Tare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            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Los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compromisos 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que las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ersonas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 hacen y cump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15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2 Conector recto"/>
          <p:cNvSpPr/>
          <p:nvPr/>
        </p:nvSpPr>
        <p:spPr>
          <a:xfrm flipV="1">
            <a:off x="2124000" y="2349360"/>
            <a:ext cx="482436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22:21:09Z</dcterms:created>
  <dc:creator>VAIO</dc:creator>
  <dc:description/>
  <dc:language>en-US</dc:language>
  <cp:lastModifiedBy>Guido</cp:lastModifiedBy>
  <dcterms:modified xsi:type="dcterms:W3CDTF">2011-04-13T18:15:37Z</dcterms:modified>
  <cp:revision>137</cp:revision>
  <dc:subject/>
  <dc:title>Diapositiva 1</dc:title>
</cp:coreProperties>
</file>