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8E9D-575B-4744-8940-87C3868628A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994-F9FC-4BFD-B59F-351586B6104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90A-678C-49B8-AE97-CBB8ADE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520-C309-4D8C-8D9E-415A8DA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F3F-AE05-48BB-9309-25CA7149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763-D8D4-47B2-9073-A740D5EB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017-4C1B-43BD-931A-5D524F8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421-88CE-424F-9672-1DDB21F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E16-A9C4-4DD1-877F-7FC152B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5AB-AEF6-4AE3-AB34-AAF5DDB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866-E7D7-4635-B15A-60C00F74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0E1-0B51-4C21-9870-521CF8D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EA-1C0E-493E-AD8D-5B10899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DDC-6DA4-456E-832C-28392C53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D338-51C8-47F2-A268-5937776FC0B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95280" y="1773360"/>
            <a:ext cx="84963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hequear comple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valuar y re-diseñ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6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95280" y="1773360"/>
            <a:ext cx="84963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Napole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Diseño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Estado de án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7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95280" y="1773360"/>
            <a:ext cx="8496360" cy="34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m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fianza (sincer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Pasión por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8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9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2800" y="1608120"/>
            <a:ext cx="1584360" cy="403236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311720" y="2184480"/>
            <a:ext cx="1081080" cy="3456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002040" y="4257720"/>
            <a:ext cx="1295280" cy="138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360440" y="5064120"/>
            <a:ext cx="16272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rot="255000">
            <a:off x="1692000" y="2104920"/>
            <a:ext cx="5400720" cy="3600720"/>
          </a:xfrm>
          <a:custGeom>
            <a:avLst/>
            <a:gdLst/>
            <a:ahLst/>
            <a:rect l="l" t="t" r="r" b="b"/>
            <a:pathLst>
              <a:path w="3402" h="2268">
                <a:moveTo>
                  <a:pt x="0" y="2268"/>
                </a:moveTo>
                <a:cubicBezTo>
                  <a:pt x="552" y="2189"/>
                  <a:pt x="1104" y="2110"/>
                  <a:pt x="1452" y="1815"/>
                </a:cubicBezTo>
                <a:cubicBezTo>
                  <a:pt x="1800" y="1520"/>
                  <a:pt x="1762" y="801"/>
                  <a:pt x="2087" y="499"/>
                </a:cubicBezTo>
                <a:cubicBezTo>
                  <a:pt x="2412" y="197"/>
                  <a:pt x="2907" y="98"/>
                  <a:pt x="340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1187280" y="1052640"/>
            <a:ext cx="0" cy="488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592400" y="5770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47640" y="4437000"/>
            <a:ext cx="131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tusiasmo inici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987640" y="370368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ravesía por el desier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211640" y="184464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ag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435640" y="11970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sentamient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78884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231720" y="57326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do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5179680" y="5732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er 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187280" y="5950080"/>
            <a:ext cx="578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3"/>
          <p:cNvSpPr/>
          <p:nvPr/>
        </p:nvSpPr>
        <p:spPr>
          <a:xfrm>
            <a:off x="3780000" y="4726080"/>
            <a:ext cx="1008000" cy="1006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13 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 para sus Proyec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Veloc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76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95280" y="1773360"/>
            <a:ext cx="8496360" cy="41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onciencia de la rut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Semanas y trime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Arial"/>
              </a:rPr>
              <a:t>Anticipar quie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84360" y="1319040"/>
            <a:ext cx="8280360" cy="4989600"/>
          </a:xfrm>
          <a:prstGeom prst="rect">
            <a:avLst/>
          </a:prstGeom>
          <a:ln w="0">
            <a:noFill/>
          </a:ln>
        </p:spPr>
      </p:pic>
      <p:sp>
        <p:nvSpPr>
          <p:cNvPr id="94" name="2 Abrir llave"/>
          <p:cNvSpPr/>
          <p:nvPr/>
        </p:nvSpPr>
        <p:spPr>
          <a:xfrm>
            <a:off x="449280" y="1484280"/>
            <a:ext cx="162000" cy="180036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1800360"/>
              <a:gd name="textAreaBottom" fmla="*/ 17964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bbb5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Elipse"/>
          <p:cNvSpPr/>
          <p:nvPr/>
        </p:nvSpPr>
        <p:spPr>
          <a:xfrm>
            <a:off x="34920" y="1989000"/>
            <a:ext cx="396720" cy="3240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6 Abrir llave"/>
          <p:cNvSpPr/>
          <p:nvPr/>
        </p:nvSpPr>
        <p:spPr>
          <a:xfrm>
            <a:off x="449280" y="3262320"/>
            <a:ext cx="162000" cy="304632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60 h 3046320"/>
              <a:gd name="textAreaBottom" fmla="*/ 3042360 h 30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7 Elipse"/>
          <p:cNvSpPr/>
          <p:nvPr/>
        </p:nvSpPr>
        <p:spPr>
          <a:xfrm>
            <a:off x="-36360" y="4329000"/>
            <a:ext cx="539640" cy="3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Promesas del equipo con el 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3T18:15:37Z</dcterms:modified>
  <cp:revision>137</cp:revision>
  <dc:subject/>
  <dc:title>Diapositiva 1</dc:title>
</cp:coreProperties>
</file>