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966B-95A9-42B8-882C-795C243EE9F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35F1-05C9-4897-9102-ADA4AFEB6BF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005-8245-49CB-B6D7-4366D2C5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D4A-94CC-47BF-B532-9B6EB3FE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EFD-38EE-4EE8-9E19-DD0852F6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D7C-6FA0-4882-8249-9DD73A58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84C-9AA8-422B-AF19-787D1E25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4AB-BF44-440D-B1DC-3E747A14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AA9-6932-4A3A-84AF-EEDF4AEF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04E-C8CF-455E-B2E2-C534EB3B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DEE-B6F6-45C7-B2B4-E7EC6AAC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0DA-900E-4F29-B90D-EB342830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CD0-A93B-4C44-95F7-C1E97837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C83-725F-463A-8CC2-E01B5F63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AC9F-E0AC-4F3B-B59A-F1B990AF9D0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13 Ab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95280" y="1773360"/>
            <a:ext cx="84963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Promesas del equipo con el lí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A partir de la ruta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hequear comple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8"/>
          <p:cNvSpPr/>
          <p:nvPr/>
        </p:nvSpPr>
        <p:spPr>
          <a:xfrm>
            <a:off x="493560" y="69228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3"/>
          <p:cNvSpPr/>
          <p:nvPr/>
        </p:nvSpPr>
        <p:spPr>
          <a:xfrm>
            <a:off x="898200" y="2854440"/>
            <a:ext cx="99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4"/>
          <p:cNvSpPr/>
          <p:nvPr/>
        </p:nvSpPr>
        <p:spPr>
          <a:xfrm>
            <a:off x="7025400" y="2905200"/>
            <a:ext cx="15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Reali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7"/>
          <p:cNvSpPr/>
          <p:nvPr/>
        </p:nvSpPr>
        <p:spPr>
          <a:xfrm>
            <a:off x="538200" y="5211360"/>
            <a:ext cx="169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4"/>
          <p:cNvSpPr/>
          <p:nvPr/>
        </p:nvSpPr>
        <p:spPr>
          <a:xfrm>
            <a:off x="4311720" y="402444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3195720" y="2644920"/>
            <a:ext cx="26445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rebuchet MS"/>
              </a:rPr>
              <a:t>CONDICIONES DE SATISF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¿Qué y cu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3. Evaluar y re-diseñ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6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95280" y="1773360"/>
            <a:ext cx="849636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Evaluar y re-diseñ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Evaluar: la única forma de no repetir el pasado, de cambiar la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Napole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Diseño e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7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. Estado de áni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7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95280" y="1773360"/>
            <a:ext cx="8496360" cy="34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Estado de án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Am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onfianza (sincer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Pasión por ap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86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9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392800" y="1608120"/>
            <a:ext cx="1584360" cy="403236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311720" y="2184480"/>
            <a:ext cx="1081080" cy="3456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002040" y="4257720"/>
            <a:ext cx="1295280" cy="138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360440" y="5064120"/>
            <a:ext cx="16272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"/>
          <p:cNvSpPr/>
          <p:nvPr/>
        </p:nvSpPr>
        <p:spPr>
          <a:xfrm rot="255000">
            <a:off x="1692000" y="2104920"/>
            <a:ext cx="5400720" cy="3600720"/>
          </a:xfrm>
          <a:custGeom>
            <a:avLst/>
            <a:gdLst/>
            <a:ahLst/>
            <a:rect l="l" t="t" r="r" b="b"/>
            <a:pathLst>
              <a:path w="3402" h="2268">
                <a:moveTo>
                  <a:pt x="0" y="2268"/>
                </a:moveTo>
                <a:cubicBezTo>
                  <a:pt x="552" y="2189"/>
                  <a:pt x="1104" y="2110"/>
                  <a:pt x="1452" y="1815"/>
                </a:cubicBezTo>
                <a:cubicBezTo>
                  <a:pt x="1800" y="1520"/>
                  <a:pt x="1762" y="801"/>
                  <a:pt x="2087" y="499"/>
                </a:cubicBezTo>
                <a:cubicBezTo>
                  <a:pt x="2412" y="197"/>
                  <a:pt x="2907" y="98"/>
                  <a:pt x="340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 flipV="1">
            <a:off x="1187280" y="1052640"/>
            <a:ext cx="0" cy="488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7592400" y="5770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547640" y="4437000"/>
            <a:ext cx="131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ntusiasmo inici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987640" y="3703680"/>
            <a:ext cx="136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Travesía por el desiert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211640" y="184464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ntagi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5435640" y="11970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Asentamient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1788840" y="57326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er 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3231720" y="573264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do 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5179680" y="57326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er 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187280" y="5950080"/>
            <a:ext cx="578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3"/>
          <p:cNvSpPr/>
          <p:nvPr/>
        </p:nvSpPr>
        <p:spPr>
          <a:xfrm>
            <a:off x="3780000" y="4726080"/>
            <a:ext cx="1008000" cy="1006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13 Ab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hoy para sus Proyec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1. Veloc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684360" y="1319040"/>
            <a:ext cx="8280360" cy="4989600"/>
          </a:xfrm>
          <a:prstGeom prst="rect">
            <a:avLst/>
          </a:prstGeom>
          <a:ln w="0">
            <a:noFill/>
          </a:ln>
        </p:spPr>
      </p:pic>
      <p:sp>
        <p:nvSpPr>
          <p:cNvPr id="76" name="2 Abrir llave"/>
          <p:cNvSpPr/>
          <p:nvPr/>
        </p:nvSpPr>
        <p:spPr>
          <a:xfrm>
            <a:off x="449280" y="1484280"/>
            <a:ext cx="162000" cy="180036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1800360"/>
              <a:gd name="textAreaBottom" fmla="*/ 17964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bbb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 Elipse"/>
          <p:cNvSpPr/>
          <p:nvPr/>
        </p:nvSpPr>
        <p:spPr>
          <a:xfrm>
            <a:off x="34920" y="1989000"/>
            <a:ext cx="396720" cy="32400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6 Abrir llave"/>
          <p:cNvSpPr/>
          <p:nvPr/>
        </p:nvSpPr>
        <p:spPr>
          <a:xfrm>
            <a:off x="449280" y="3262320"/>
            <a:ext cx="162000" cy="304632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3046320"/>
              <a:gd name="textAreaBottom" fmla="*/ 3042360 h 30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6"/>
                </a:cubicBezTo>
                <a:lnTo>
                  <a:pt x="10800" y="10704"/>
                </a:lnTo>
                <a:cubicBezTo>
                  <a:pt x="10800" y="10752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6"/>
                </a:cubicBezTo>
                <a:lnTo>
                  <a:pt x="10800" y="21504"/>
                </a:lnTo>
                <a:cubicBezTo>
                  <a:pt x="10800" y="2155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7 Elipse"/>
          <p:cNvSpPr/>
          <p:nvPr/>
        </p:nvSpPr>
        <p:spPr>
          <a:xfrm>
            <a:off x="-36360" y="4329000"/>
            <a:ext cx="539640" cy="3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95280" y="1773360"/>
            <a:ext cx="8496360" cy="41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Estrategia 5-0-20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onciencia de la ruta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Semanas y trime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alendario sie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Anticipar quie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84360" y="1319040"/>
            <a:ext cx="8280360" cy="4989600"/>
          </a:xfrm>
          <a:prstGeom prst="rect">
            <a:avLst/>
          </a:prstGeom>
          <a:ln w="0">
            <a:noFill/>
          </a:ln>
        </p:spPr>
      </p:pic>
      <p:sp>
        <p:nvSpPr>
          <p:cNvPr id="94" name="2 Abrir llave"/>
          <p:cNvSpPr/>
          <p:nvPr/>
        </p:nvSpPr>
        <p:spPr>
          <a:xfrm>
            <a:off x="449280" y="1484280"/>
            <a:ext cx="162000" cy="180036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1800360"/>
              <a:gd name="textAreaBottom" fmla="*/ 17964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bbb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Elipse"/>
          <p:cNvSpPr/>
          <p:nvPr/>
        </p:nvSpPr>
        <p:spPr>
          <a:xfrm>
            <a:off x="34920" y="1989000"/>
            <a:ext cx="396720" cy="32400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6 Abrir llave"/>
          <p:cNvSpPr/>
          <p:nvPr/>
        </p:nvSpPr>
        <p:spPr>
          <a:xfrm>
            <a:off x="449280" y="3262320"/>
            <a:ext cx="162000" cy="304632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3046320"/>
              <a:gd name="textAreaBottom" fmla="*/ 3042360 h 30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6"/>
                </a:cubicBezTo>
                <a:lnTo>
                  <a:pt x="10800" y="10704"/>
                </a:lnTo>
                <a:cubicBezTo>
                  <a:pt x="10800" y="10752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6"/>
                </a:cubicBezTo>
                <a:lnTo>
                  <a:pt x="10800" y="21504"/>
                </a:lnTo>
                <a:cubicBezTo>
                  <a:pt x="10800" y="2155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7 Elipse"/>
          <p:cNvSpPr/>
          <p:nvPr/>
        </p:nvSpPr>
        <p:spPr>
          <a:xfrm>
            <a:off x="-36360" y="4329000"/>
            <a:ext cx="539640" cy="3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2. Promesas del equipo con el 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Gestión de recursos para llevar a cabo una s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de actividades debidamente planeadas y organizadas con el fin de conseguir un 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Es una </a:t>
            </a: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red de compromisos hecha por seres humano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 trabajando juntos, los cumplimientos de estos compromisos, sus quiebres y la recurrente reconstitución de compromisos que estos quiebres y cumplimientos generan a su vez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Conector recto"/>
          <p:cNvSpPr/>
          <p:nvPr/>
        </p:nvSpPr>
        <p:spPr>
          <a:xfrm flipV="1">
            <a:off x="684360" y="2491920"/>
            <a:ext cx="7704000" cy="14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95280" y="1773360"/>
            <a:ext cx="8496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Foco 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Actividades y Tare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          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Lo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ompromisos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que la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ersonas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hacen y cump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 Conector recto"/>
          <p:cNvSpPr/>
          <p:nvPr/>
        </p:nvSpPr>
        <p:spPr>
          <a:xfrm flipV="1">
            <a:off x="2124000" y="2349360"/>
            <a:ext cx="482436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4-13T18:15:37Z</dcterms:modified>
  <cp:revision>137</cp:revision>
  <dc:subject/>
  <dc:title>Diapositiva 1</dc:title>
</cp:coreProperties>
</file>