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1089-DF8F-4869-BA43-6B63F14EAE0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8210-0286-4530-B2A9-5D23554BA5C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8B29-007D-4E9D-BE62-45D4FC89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9381-CE3B-4CAB-95A9-60887840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D173-5018-4B8C-857F-C276C4CE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BA0-9BCA-4598-9DFA-427EA8C0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97BD-D9ED-46E4-A956-32B82955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8D7A-CB9A-46B1-A76B-A4BD3DDC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DA8-A7BD-4C6F-AE40-4E9E0656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BBC9-EEBE-4B68-BA96-88816FE8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582F-568E-4D45-9697-B7DC5BB3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F72F-A1AA-4EB6-833E-B41A55B3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18A-9C53-4349-B570-AB805152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399-94BD-4A17-8C4C-3064F411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ller de Ingeniería Industrial l 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8EFE-51DD-47F4-A3BF-FAEF39F8302A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4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rz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-36360" y="-216000"/>
            <a:ext cx="918036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250920" y="50004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3300"/>
                </a:solidFill>
                <a:latin typeface="Verdana"/>
              </a:rPr>
              <a:t>Pedidos para el 13 de ab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Equip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50920" y="1506600"/>
            <a:ext cx="8643960" cy="47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odelo para cumplir promesa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cciones realizadas a la fecha para mejorar el rendimiento y calidad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sultados a la fec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3.1 Mejora en rendimiento (número y tablas de respaldo para poder revisar result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3.2 Mejora en calidad de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vance en diseño Modelo de negoc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4.1 Potenciale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4.2 Posibles ofertas a cada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alendario de avance para el resto del sem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108000" y="6237360"/>
            <a:ext cx="503280" cy="45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6802560" y="624672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-36360" y="-216000"/>
            <a:ext cx="918036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250920" y="50004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3300"/>
                </a:solidFill>
                <a:latin typeface="Verdana"/>
              </a:rPr>
              <a:t>Pedidos para el 13 de ab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Equip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250920" y="1539720"/>
            <a:ext cx="864396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Modelo para generar información a comun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Información* que comunicarán de: Ingenieros entrevistados  y Empresas donde «pasarán 1 día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sultados a la fech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2.1 30 primeros entrevis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2.2  2 empresas donde «pasaron 1 día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iseño del Encuentro** a realizar/ Cada equipo presenta Propu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5.1 ¿En qué consistirá el Encuent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5.2 ¿Cómo lo hará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vance en diseño Modelo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4.1 Potenciale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4.2 Posibles ofertas a cada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lendario de avance para el resto del semest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iseño de cómo comunicarán a sus compañeros el contenido (ambos equipos lo presentan junt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* A más tardar semana 5 deben tener esto aprobado por el Equipo doc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**El Encuentro lo deben realizar a más tardar la semana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108000" y="6237360"/>
            <a:ext cx="503280" cy="455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802560" y="624672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-36360" y="-216000"/>
            <a:ext cx="918036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250920" y="50004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3300"/>
                </a:solidFill>
                <a:latin typeface="Verdana"/>
              </a:rPr>
              <a:t>Pedidos para el 13 de ab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Equip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250920" y="1539720"/>
            <a:ext cx="864396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odelo para financiar y coordinar vi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cciones concretas realizadas a la fe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sultados a la fecha (¿Qué han lograd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3.1 $ recau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3.2 Otros (concre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efinir en detalle que tendrá cada benchmark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iseño del Encuentro a realizar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vance en diseño Modelo de nego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5.1 Potenciale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5.2 Posibles ofertas a cada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alendario de avance para el resto del semes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* A más tardar semana 5 deben tener esto aprobado por el Equipo do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**El Encuentro lo deben realizar a más tardar la semana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108000" y="6237360"/>
            <a:ext cx="503280" cy="45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6802560" y="624672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22:21:09Z</dcterms:created>
  <dc:creator>VAIO</dc:creator>
  <dc:description/>
  <dc:language>en-US</dc:language>
  <cp:lastModifiedBy>Ismael Aguilera</cp:lastModifiedBy>
  <dcterms:modified xsi:type="dcterms:W3CDTF">2011-03-29T01:02:54Z</dcterms:modified>
  <cp:revision>105</cp:revision>
  <dc:subject/>
  <dc:title>Diapositiva 1</dc:title>
</cp:coreProperties>
</file>