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B8D3-882B-4260-8836-63FFD61C8A4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7F64-207D-47A7-AD48-5E1BE70D2AC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6AF-B5E0-4AD9-B529-05ADBD9C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F02-D6D8-4D29-AD09-78D3708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9B8-445D-4CE6-AF5D-83F87705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F22-B38D-46CF-A33B-EA006E83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F75-0E02-4058-8880-9449264B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B1DE-8BB7-4B3A-A237-430147A8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CD4-0A1B-4323-93A3-591AD4B1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7C5-7A88-4F33-AE83-B0DC640E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08E-F63B-474F-8135-03E8AD9B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E33-7BCF-4739-BCE3-AEDDF67D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438-3FB1-46B9-A270-C3B6C446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0EF-14BC-48BA-93F5-6F1E229D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2439-54BC-4969-8745-F34AF450B19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rzo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13 de ab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50920" y="1506600"/>
            <a:ext cx="8643960" cy="47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odelo para cumplir promesa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ciones realizadas a la fecha para mejorar el rendimiento y calidad de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sultados a l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1 Mejora en rendimiento (número y tablas de respaldo para poder revisar result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2 Mejora en calidad de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vance en diseño Modelo de negoc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4.1 Potenciale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4.2 Posibles ofertas a cad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lendario de avance para el resto del se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13 de ab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250920" y="1539720"/>
            <a:ext cx="8643960" cy="50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delo para generar información a comun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nformación* que comunicarán de: Ingenieros entrevistados  y Empresas donde «pasarán 1 día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s a la fech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2.1 30 primeros entrevi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2.2  2 empresas donde «pasaron 1 dí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iseño del Encuentro** a realizar/ Cada equipo presenta Pro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1 ¿En qué consistirá el Encue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2 ¿Cómo lo hará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4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4.2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para el resto del semes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iseño de cómo comunicarán a sus compañeros el contenido (ambos equipos lo presentan junt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* A más tardar semana 5 deben tener esto aprobado por el Equipo doc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**El Encuentro lo deben realizar a más tardar la semana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13 de ab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50920" y="1539720"/>
            <a:ext cx="864396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odelo para financiar y coordinar vi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cciones concretas realizadas a la f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Resultados a la fecha (¿Qué han lograd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1 $ recaud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3.2 Otros (concre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efinir en detalle que tendrá cada benchmark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Diseño del Encuentro a realizar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5.1 Potenciale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Arial"/>
              </a:rPr>
              <a:t>5.2 Posibles ofertas a cada 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alendario de avance para el resto del seme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* A más tardar semana 5 deben tener esto aprobado por el Equipo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**El Encuentro lo deben realizar a más tardar la semana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Ismael Aguilera</cp:lastModifiedBy>
  <dcterms:modified xsi:type="dcterms:W3CDTF">2011-03-29T01:02:54Z</dcterms:modified>
  <cp:revision>105</cp:revision>
  <dc:subject/>
  <dc:title>Diapositiva 1</dc:title>
</cp:coreProperties>
</file>