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4A2B-CCA3-42DC-A091-FA185471038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CBD-92A9-42CD-8631-BBC8FE785A0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7C8-CF72-42F9-8170-251CC19C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7EB-557F-4906-A24B-C4B9C72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9D1-7CDE-4DFB-BC99-8F55283F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D44-D4A3-40D8-BE47-16BD836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34B-EAE0-4A44-9FFC-068008F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1F6-0E2C-4A3D-9DD1-84213A5E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D16-67C3-4EA0-AF5E-B458053B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2AF-9E69-4B2F-B330-B8B4D31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87A-2092-460A-BA0F-2ECBDB5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99F-A563-4678-A8C2-AAA0C81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465-780B-4387-8DCD-E0ADE20F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0CB-C1AC-4F7A-B4CB-6FF8CAD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C57-CC60-4F1F-9EEA-F0B8984A80A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7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cumplir promes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realizadas a la fecha para mejorar el rendimiento y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Mejora en rendimiento (número y tablas de respaldo para poder revisar resul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Mejora en calidad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rmación* que comunicarán de: Ingenieros entrevistados  y Empresas donde «pasará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30 primeros entrevi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2  2 empresas donde «pasaron 1 dí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l Encuentro** a realizar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¿En qué consistirá el Encue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Cómo lo hará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 cómo comunicarán a sus compañeros el contenido (ambos equipos lo presentan jun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financiar y coordinar 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$ recau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Otros (concre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r en detalle que tendrá cada benchmark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iseño del Encuentro a realiza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Ismael Aguilera</cp:lastModifiedBy>
  <dcterms:modified xsi:type="dcterms:W3CDTF">2011-03-29T01:02:54Z</dcterms:modified>
  <cp:revision>105</cp:revision>
  <dc:subject/>
  <dc:title>Diapositiva 1</dc:title>
</cp:coreProperties>
</file>