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139-E10A-4113-A82B-6C0013B3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63C-7474-482E-B009-721F7904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084-373B-46B8-A480-40E86499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F6F-3CB4-4F44-90B0-191E99DD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9DC-EEBF-439B-B8CE-8153F4F1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677-5A39-4F04-8F89-21047A6B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703-B68A-44E1-B199-C61EBCD7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801-EB07-4D09-9549-011FF454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9D7-BED2-4270-8832-6E61A0D2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97F-1E67-4863-8D23-906FB827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B7A-BA31-46ED-ABA7-97F9EF0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2ED-565C-461D-A9ED-8977929B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B4C2-EC8D-4122-ACDE-7D7985F7709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3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773360"/>
            <a:ext cx="849636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Gestión de recursos para llevar a cabo una s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de actividades debidamente planeadas y organizadas con el fin de conseguir un 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Es una </a:t>
            </a: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red de compromisos hecha por seres humano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 trabajando juntos, los cumplimientos de estos compromisos, sus quiebres y la recurrente reconstitución de compromisos que estos quiebres y cumplimientos generan a su vez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Conector recto"/>
          <p:cNvSpPr/>
          <p:nvPr/>
        </p:nvSpPr>
        <p:spPr>
          <a:xfrm flipV="1">
            <a:off x="684360" y="2491920"/>
            <a:ext cx="7704000" cy="14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95280" y="1773360"/>
            <a:ext cx="849636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Promesa central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Condiciones de 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Conversaciones claves del equipo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Sintonización con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«Espina dorsal»: red de compromisos sobre la cual descansa la promesa central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Estado de ánimo 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95280" y="1773360"/>
            <a:ext cx="8496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Foco 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Actividades y Tare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          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Lo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ompromisos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que la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ersonas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hacen y cump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 Conector recto"/>
          <p:cNvSpPr/>
          <p:nvPr/>
        </p:nvSpPr>
        <p:spPr>
          <a:xfrm flipV="1">
            <a:off x="2124000" y="2349360"/>
            <a:ext cx="482436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493560" y="69228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3"/>
          <p:cNvSpPr/>
          <p:nvPr/>
        </p:nvSpPr>
        <p:spPr>
          <a:xfrm>
            <a:off x="898200" y="2854440"/>
            <a:ext cx="99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4"/>
          <p:cNvSpPr/>
          <p:nvPr/>
        </p:nvSpPr>
        <p:spPr>
          <a:xfrm>
            <a:off x="7025400" y="2905200"/>
            <a:ext cx="15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Reali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7"/>
          <p:cNvSpPr/>
          <p:nvPr/>
        </p:nvSpPr>
        <p:spPr>
          <a:xfrm>
            <a:off x="538200" y="5211360"/>
            <a:ext cx="169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4"/>
          <p:cNvSpPr/>
          <p:nvPr/>
        </p:nvSpPr>
        <p:spPr>
          <a:xfrm>
            <a:off x="4311720" y="402444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3195720" y="2644920"/>
            <a:ext cx="26445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rebuchet MS"/>
              </a:rPr>
              <a:t>CONDICIONES DE SATISF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¿Qué y cu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 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493560" y="82872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3"/>
          <p:cNvSpPr/>
          <p:nvPr/>
        </p:nvSpPr>
        <p:spPr>
          <a:xfrm>
            <a:off x="654120" y="2781720"/>
            <a:ext cx="126396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Lí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4"/>
          <p:cNvSpPr/>
          <p:nvPr/>
        </p:nvSpPr>
        <p:spPr>
          <a:xfrm>
            <a:off x="7027920" y="3092040"/>
            <a:ext cx="112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Sub Lí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7"/>
          <p:cNvSpPr/>
          <p:nvPr/>
        </p:nvSpPr>
        <p:spPr>
          <a:xfrm>
            <a:off x="540720" y="5211360"/>
            <a:ext cx="165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4"/>
          <p:cNvSpPr/>
          <p:nvPr/>
        </p:nvSpPr>
        <p:spPr>
          <a:xfrm>
            <a:off x="3851280" y="402444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990000"/>
                </a:solidFill>
                <a:latin typeface="Arial"/>
              </a:rPr>
              <a:t>18  de Jun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3195720" y="2847960"/>
            <a:ext cx="2644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rebuchet MS"/>
              </a:rPr>
              <a:t>RECAUDAR 2 MILLONES DE PESOS ANTES DEL 18 DE JU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95280" y="1773360"/>
            <a:ext cx="849636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Puntos cla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: hacer pedidos efe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Realizadores: hacer of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 y Realizador : acordar promesas entre con estándar específico y tiempo cl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Realizador: cumplir promesas y anticipar se si no va a cump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 y Realizador : evaluar cumpl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: declarar satisfacción / in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95280" y="1773360"/>
            <a:ext cx="84963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¿Cómo ejecutar impecablemen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95280" y="1773360"/>
            <a:ext cx="849636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90% de las organizaciones experimentan fracasos totales o parciales en la ejecución de sus estrategia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. Kaplan y P. Norton, Harvard Business Sch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Las empresas realizan solo el 63% del valor potencial de sus estrategias debido a fallas serias en la implementaci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The Economist Intelligence Unit, Estudio en base a una muestra de 197 empresas multi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80% de las empresas piensan que tienen las estrategias correctas pero solo 14% creen que las están implementando bi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97% de los CEOs piensan que tienen visión estratégica pero solo 33% evalúan que consiguen éxito en lo estratég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inancial Times, Estudio de 200 empresas del FT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2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95280" y="1773360"/>
            <a:ext cx="84963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hace un ejecutivo durante el d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2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«Managing», Henry Mintzberg, Norma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8 Elipse"/>
          <p:cNvSpPr/>
          <p:nvPr/>
        </p:nvSpPr>
        <p:spPr>
          <a:xfrm>
            <a:off x="971640" y="3141720"/>
            <a:ext cx="7129440" cy="272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Conver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(60-90%*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EXPECTATIV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95280" y="1773360"/>
            <a:ext cx="849636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Bibliografí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lores, Fernando, «Creando organizaciones para el futuro», Dolmen,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intzberg, Henry, «Managing», Norma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ta, Luis, «Proyectos que resultan», E-Class Diario la Tercera, 6 de septiembre 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36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VIS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1773360"/>
            <a:ext cx="849636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MODELO DE NEGOC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1773360"/>
            <a:ext cx="849636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MODELO DE APRENDIZA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1773360"/>
            <a:ext cx="849636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PARADIG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641840" y="65721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-2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8532720" y="44280"/>
            <a:ext cx="503280" cy="455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1258920" y="549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9933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3975120" y="8174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2" descr="logo_new2007"/>
          <p:cNvPicPr/>
          <p:nvPr/>
        </p:nvPicPr>
        <p:blipFill>
          <a:blip r:embed="rId2"/>
          <a:stretch/>
        </p:blipFill>
        <p:spPr>
          <a:xfrm>
            <a:off x="34920" y="115920"/>
            <a:ext cx="1185840" cy="27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1258920" y="1976400"/>
            <a:ext cx="6929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¿Cómo ejecutar impecable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Conversaciones claves en la gest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http://www.secretaria-virtual.com/imagenes/agenda.jpg"/>
          <p:cNvPicPr/>
          <p:nvPr/>
        </p:nvPicPr>
        <p:blipFill>
          <a:blip r:embed="rId3"/>
          <a:stretch/>
        </p:blipFill>
        <p:spPr>
          <a:xfrm>
            <a:off x="5565600" y="749160"/>
            <a:ext cx="290844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«Proyectos que resultan», E-Class Diario la Tercera, 6 de septiembre 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tre el 30% y el 45% de los Proyectos fracasa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1 Imagen" descr=""/>
          <p:cNvPicPr/>
          <p:nvPr/>
        </p:nvPicPr>
        <p:blipFill>
          <a:blip r:embed="rId3"/>
          <a:stretch/>
        </p:blipFill>
        <p:spPr>
          <a:xfrm>
            <a:off x="611280" y="549360"/>
            <a:ext cx="7848360" cy="576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3-23T18:34:15Z</dcterms:modified>
  <cp:revision>125</cp:revision>
  <dc:subject/>
  <dc:title>Diapositiva 1</dc:title>
</cp:coreProperties>
</file>