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938-BB5D-47C6-ADD6-21772490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396-244A-417C-B21C-77C00D10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D48-F507-49A8-8732-67275027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5E1-29C1-44E0-B148-989BF7D4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53D-1A25-448A-82D8-DCE8B362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61D-2A70-4781-AECD-27A33147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C96-AA67-48FA-8DF5-78B531AD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A1F-2015-4731-B413-50607EF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89D-F04D-4DF5-BFB8-7EC1E53E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D47-7E68-42F7-BF21-CF3491C7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17C-1D6A-4AC1-B8A8-CB4306F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769-D77D-4E62-8D8A-89384D7D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68A0-9FA8-491C-8E75-65ACE9455FE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3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773360"/>
            <a:ext cx="84963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Gestión de recursos para llevar a cabo una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de actividades debidamente planeadas y organizadas con el fin de conseguir un 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Es una </a:t>
            </a: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red de compromisos hecha por seres humano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 trabajando juntos, los cumplimientos de estos compromisos, sus quiebres y la recurrente reconstitución de compromisos que estos quiebres y cumplimientos generan a su vez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onector recto"/>
          <p:cNvSpPr/>
          <p:nvPr/>
        </p:nvSpPr>
        <p:spPr>
          <a:xfrm flipV="1">
            <a:off x="684360" y="2491920"/>
            <a:ext cx="7704000" cy="14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95280" y="1773360"/>
            <a:ext cx="849636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Promesa central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ondiciones de 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Conversaciones claves del equip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Sintonización con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«Espina dorsal»: red de compromisos sobre la cual descansa la promesa central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Estado de ánimo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95280" y="1773360"/>
            <a:ext cx="8496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Foco 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Actividades y Tare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          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Lo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mpromisos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que la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ersonas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hacen y cump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 Conector recto"/>
          <p:cNvSpPr/>
          <p:nvPr/>
        </p:nvSpPr>
        <p:spPr>
          <a:xfrm flipV="1">
            <a:off x="2124000" y="2349360"/>
            <a:ext cx="482436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493560" y="69228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3"/>
          <p:cNvSpPr/>
          <p:nvPr/>
        </p:nvSpPr>
        <p:spPr>
          <a:xfrm>
            <a:off x="898200" y="2854440"/>
            <a:ext cx="99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4"/>
          <p:cNvSpPr/>
          <p:nvPr/>
        </p:nvSpPr>
        <p:spPr>
          <a:xfrm>
            <a:off x="7025400" y="2905200"/>
            <a:ext cx="15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Reali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7"/>
          <p:cNvSpPr/>
          <p:nvPr/>
        </p:nvSpPr>
        <p:spPr>
          <a:xfrm>
            <a:off x="538200" y="5211360"/>
            <a:ext cx="16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4311720" y="402444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3195720" y="2644920"/>
            <a:ext cx="2644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rebuchet MS"/>
              </a:rPr>
              <a:t>CONDICIONES DE SATISF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Qué y cu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 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493560" y="82872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3"/>
          <p:cNvSpPr/>
          <p:nvPr/>
        </p:nvSpPr>
        <p:spPr>
          <a:xfrm>
            <a:off x="654120" y="2781720"/>
            <a:ext cx="126396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Lí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4"/>
          <p:cNvSpPr/>
          <p:nvPr/>
        </p:nvSpPr>
        <p:spPr>
          <a:xfrm>
            <a:off x="7027920" y="3092040"/>
            <a:ext cx="112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Sub Lí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7"/>
          <p:cNvSpPr/>
          <p:nvPr/>
        </p:nvSpPr>
        <p:spPr>
          <a:xfrm>
            <a:off x="540720" y="5211360"/>
            <a:ext cx="165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4"/>
          <p:cNvSpPr/>
          <p:nvPr/>
        </p:nvSpPr>
        <p:spPr>
          <a:xfrm>
            <a:off x="3851280" y="402444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0000"/>
                </a:solidFill>
                <a:latin typeface="Arial"/>
              </a:rPr>
              <a:t>18  de Jun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3195720" y="2847960"/>
            <a:ext cx="2644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rebuchet MS"/>
              </a:rPr>
              <a:t>RECAUDAR 2 MILLONES DE PESOS ANTES DEL 18 DE JU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95280" y="1773360"/>
            <a:ext cx="849636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Puntos cla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hacer pedidos efe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es: hacer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acordar promesas entre con estándar específico y tiempo cl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: cumplir promesas y anticipar se si no va a cump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evaluar cumpl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declarar satisfacción / in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95280" y="1773360"/>
            <a:ext cx="849636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0% de las organizaciones experimentan fracasos totales o parciales en la ejecución de sus estrategi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. Kaplan y P. Norton, Harvard Business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Las empresas realizan solo el 63% del valor potencial de sus estrategias debido a fallas serias en la implementaci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The Economist Intelligence Unit, Estudio en base a una muestra de 197 empresas multi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80% de las empresas piensan que tienen las estrategias correctas pero solo 14% creen que las están implementando bi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7% de los CEOs piensan que tienen visión estratégica pero solo 33% evalúan que consiguen éxito en lo estratég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inancial Times, Estudio de 200 empresas del FT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95280" y="1773360"/>
            <a:ext cx="84963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hace un ejecutivo durante el d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«Managing», Henry Mintzberg, Norma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8 Elipse"/>
          <p:cNvSpPr/>
          <p:nvPr/>
        </p:nvSpPr>
        <p:spPr>
          <a:xfrm>
            <a:off x="971640" y="3141720"/>
            <a:ext cx="7129440" cy="272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ver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(60-90%*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XPECTATIV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95280" y="1773360"/>
            <a:ext cx="849636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Bibliografí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lores, Fernando, «Creando organizaciones para el futuro», Dolmen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intzberg, Henry, «Managing», Norma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ta, Luis, «Proyectos que resultan», E-Class Diario la Tercera, 6 de septiembre 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36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VIS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APRENDIZA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PARADIG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41840" y="65721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-2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8532720" y="44280"/>
            <a:ext cx="503280" cy="455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1258920" y="549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9933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3975120" y="8174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2" descr="logo_new2007"/>
          <p:cNvPicPr/>
          <p:nvPr/>
        </p:nvPicPr>
        <p:blipFill>
          <a:blip r:embed="rId2"/>
          <a:stretch/>
        </p:blipFill>
        <p:spPr>
          <a:xfrm>
            <a:off x="34920" y="115920"/>
            <a:ext cx="1185840" cy="27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1258920" y="1976400"/>
            <a:ext cx="6929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onversaciones claves en la gest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http://www.secretaria-virtual.com/imagenes/agenda.jpg"/>
          <p:cNvPicPr/>
          <p:nvPr/>
        </p:nvPicPr>
        <p:blipFill>
          <a:blip r:embed="rId3"/>
          <a:stretch/>
        </p:blipFill>
        <p:spPr>
          <a:xfrm>
            <a:off x="5565600" y="749160"/>
            <a:ext cx="290844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«Proyectos que resultan», E-Class Diario la Tercera, 6 de septiembre 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tre el 30% y el 45% de los Proyectos fracas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1 Imagen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7848360" cy="576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3-23T18:34:15Z</dcterms:modified>
  <cp:revision>125</cp:revision>
  <dc:subject/>
  <dc:title>Diapositiva 1</dc:title>
</cp:coreProperties>
</file>