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CFF1-0A88-4876-8A22-54469FBA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6CD8-0737-4286-B1C6-B9629E27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DD81-AA04-4B69-A3E5-2D686B9F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06FE-EEF4-4B6C-B43A-AB884BB8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D9D2-8230-49D0-BB09-236A8640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D5CC-7D74-4F83-891A-DD252BE3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332D-CF0C-466D-BFCF-23571E78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E7A3-FE2C-4C46-9D03-BFB99284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3FD6-B590-4D21-9110-ED7DBE8E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C694-CC80-4022-AA0A-C7352104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E53-D825-478A-B8AE-636A222A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7B03-AB86-4843-980D-D677069B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aller de Ingeniería Industrial l -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34F4-4418-4253-A0B2-FD1C6F6A1DDC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42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23 Marz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95280" y="2131920"/>
            <a:ext cx="8137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Taller de Ingeniería Industrial 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¿Qué es un Proyect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0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5280" y="1773360"/>
            <a:ext cx="849636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¿Qué es un Proyec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«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Gestión de recursos para llevar a cabo una se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de actividades debidamente planeadas y organizadas con el fin de conseguir un objetiv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«Es una </a:t>
            </a:r>
            <a:r>
              <a:rPr b="1" i="1" lang="es-CL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red de compromisos hecha por seres humanos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 trabajando juntos, los cumplimientos de estos compromisos, sus quiebres y la recurrente reconstitución de compromisos que estos quiebres y cumplimientos generan a su vez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1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8 Conector recto"/>
          <p:cNvSpPr/>
          <p:nvPr/>
        </p:nvSpPr>
        <p:spPr>
          <a:xfrm flipV="1">
            <a:off x="684360" y="2491920"/>
            <a:ext cx="7704000" cy="143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95280" y="1773360"/>
            <a:ext cx="8496360" cy="41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¿Qué es un Proyec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Promesa central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Condiciones de satisf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Conversaciones claves del equipo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Sintonización con el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«Espina dorsal»: red de compromisos sobre la cual descansa la promesa central d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Estado de ánimo del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22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95280" y="1773360"/>
            <a:ext cx="84963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Foco 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Actividades y Tare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            </a:t>
            </a: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Los 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compromisos </a:t>
            </a: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que las 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ersonas</a:t>
            </a: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 hacen y cump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2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2 Conector recto"/>
          <p:cNvSpPr/>
          <p:nvPr/>
        </p:nvSpPr>
        <p:spPr>
          <a:xfrm flipV="1">
            <a:off x="2124000" y="2349360"/>
            <a:ext cx="482436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2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Verdana"/>
              </a:rPr>
              <a:t>Flores, Fernando, «Creando organizaciones para el futuro», Dolmen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icl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 flipH="1" flipV="1">
            <a:off x="4741920" y="464184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1655640" y="37656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3236760" y="1717560"/>
            <a:ext cx="49068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 flipH="1">
            <a:off x="6799320" y="2146320"/>
            <a:ext cx="318960" cy="57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8"/>
          <p:cNvSpPr/>
          <p:nvPr/>
        </p:nvSpPr>
        <p:spPr>
          <a:xfrm>
            <a:off x="493560" y="692280"/>
            <a:ext cx="8147160" cy="4976640"/>
          </a:xfrm>
          <a:prstGeom prst="rect">
            <a:avLst/>
          </a:prstGeom>
          <a:solidFill>
            <a:srgbClr val="4f81bd"/>
          </a:solidFill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7"/>
          <p:cNvSpPr/>
          <p:nvPr/>
        </p:nvSpPr>
        <p:spPr>
          <a:xfrm>
            <a:off x="7093080" y="3308400"/>
            <a:ext cx="981000" cy="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9"/>
          <p:cNvSpPr/>
          <p:nvPr/>
        </p:nvSpPr>
        <p:spPr>
          <a:xfrm>
            <a:off x="4510080" y="4975200"/>
            <a:ext cx="15840" cy="62244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 flipH="1">
            <a:off x="950760" y="3308400"/>
            <a:ext cx="990720" cy="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3"/>
          <p:cNvSpPr/>
          <p:nvPr/>
        </p:nvSpPr>
        <p:spPr>
          <a:xfrm>
            <a:off x="898200" y="2854440"/>
            <a:ext cx="99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</a:t>
            </a: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4"/>
          <p:cNvSpPr/>
          <p:nvPr/>
        </p:nvSpPr>
        <p:spPr>
          <a:xfrm>
            <a:off x="7025400" y="2905200"/>
            <a:ext cx="150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Realiz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5"/>
          <p:cNvSpPr/>
          <p:nvPr/>
        </p:nvSpPr>
        <p:spPr>
          <a:xfrm>
            <a:off x="607680" y="977400"/>
            <a:ext cx="167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. Prepa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6"/>
          <p:cNvSpPr/>
          <p:nvPr/>
        </p:nvSpPr>
        <p:spPr>
          <a:xfrm>
            <a:off x="6828480" y="958680"/>
            <a:ext cx="178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I. Nego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7"/>
          <p:cNvSpPr/>
          <p:nvPr/>
        </p:nvSpPr>
        <p:spPr>
          <a:xfrm>
            <a:off x="538200" y="5211360"/>
            <a:ext cx="169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V. Acep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8"/>
          <p:cNvSpPr/>
          <p:nvPr/>
        </p:nvSpPr>
        <p:spPr>
          <a:xfrm>
            <a:off x="7056360" y="5207400"/>
            <a:ext cx="152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II. Ejec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0"/>
          <p:cNvSpPr/>
          <p:nvPr/>
        </p:nvSpPr>
        <p:spPr>
          <a:xfrm>
            <a:off x="2614680" y="1479600"/>
            <a:ext cx="1423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Pedido u Of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1"/>
          <p:cNvSpPr/>
          <p:nvPr/>
        </p:nvSpPr>
        <p:spPr>
          <a:xfrm>
            <a:off x="6273720" y="1636560"/>
            <a:ext cx="1747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Acuerdo</a:t>
            </a:r>
            <a:r>
              <a:rPr b="0" i="1" lang="en-US" sz="1400" spc="-1" strike="noStrike">
                <a:solidFill>
                  <a:srgbClr val="ffffff"/>
                </a:solidFill>
                <a:latin typeface="Trebuchet MS"/>
              </a:rPr>
              <a:t> (2 </a:t>
            </a: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promesas mutuas</a:t>
            </a:r>
            <a:r>
              <a:rPr b="0" i="1" lang="en-US" sz="1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2"/>
          <p:cNvSpPr/>
          <p:nvPr/>
        </p:nvSpPr>
        <p:spPr>
          <a:xfrm>
            <a:off x="5060880" y="4741920"/>
            <a:ext cx="1481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Declaración de Cumpl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3"/>
          <p:cNvSpPr/>
          <p:nvPr/>
        </p:nvSpPr>
        <p:spPr>
          <a:xfrm>
            <a:off x="1079640" y="4160880"/>
            <a:ext cx="1604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Declaración de Satisf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4"/>
          <p:cNvSpPr/>
          <p:nvPr/>
        </p:nvSpPr>
        <p:spPr>
          <a:xfrm>
            <a:off x="2216160" y="1919160"/>
            <a:ext cx="2254320" cy="1282680"/>
          </a:xfrm>
          <a:custGeom>
            <a:avLst/>
            <a:gdLst/>
            <a:ahLst/>
            <a:rect l="l" t="t" r="r" b="b"/>
            <a:pathLst>
              <a:path w="1420" h="808">
                <a:moveTo>
                  <a:pt x="0" y="807"/>
                </a:moveTo>
                <a:lnTo>
                  <a:pt x="148" y="807"/>
                </a:lnTo>
                <a:lnTo>
                  <a:pt x="169" y="728"/>
                </a:lnTo>
                <a:lnTo>
                  <a:pt x="202" y="656"/>
                </a:lnTo>
                <a:lnTo>
                  <a:pt x="248" y="585"/>
                </a:lnTo>
                <a:lnTo>
                  <a:pt x="307" y="523"/>
                </a:lnTo>
                <a:lnTo>
                  <a:pt x="374" y="459"/>
                </a:lnTo>
                <a:lnTo>
                  <a:pt x="455" y="406"/>
                </a:lnTo>
                <a:lnTo>
                  <a:pt x="545" y="355"/>
                </a:lnTo>
                <a:lnTo>
                  <a:pt x="645" y="307"/>
                </a:lnTo>
                <a:lnTo>
                  <a:pt x="759" y="266"/>
                </a:lnTo>
                <a:lnTo>
                  <a:pt x="877" y="232"/>
                </a:lnTo>
                <a:lnTo>
                  <a:pt x="1007" y="199"/>
                </a:lnTo>
                <a:lnTo>
                  <a:pt x="1148" y="174"/>
                </a:lnTo>
                <a:lnTo>
                  <a:pt x="1156" y="235"/>
                </a:lnTo>
                <a:lnTo>
                  <a:pt x="1419" y="95"/>
                </a:lnTo>
                <a:lnTo>
                  <a:pt x="1105" y="0"/>
                </a:lnTo>
                <a:lnTo>
                  <a:pt x="1120" y="61"/>
                </a:lnTo>
                <a:lnTo>
                  <a:pt x="964" y="89"/>
                </a:lnTo>
                <a:lnTo>
                  <a:pt x="823" y="123"/>
                </a:lnTo>
                <a:lnTo>
                  <a:pt x="690" y="164"/>
                </a:lnTo>
                <a:lnTo>
                  <a:pt x="563" y="212"/>
                </a:lnTo>
                <a:lnTo>
                  <a:pt x="452" y="266"/>
                </a:lnTo>
                <a:lnTo>
                  <a:pt x="350" y="325"/>
                </a:lnTo>
                <a:lnTo>
                  <a:pt x="263" y="393"/>
                </a:lnTo>
                <a:lnTo>
                  <a:pt x="184" y="465"/>
                </a:lnTo>
                <a:lnTo>
                  <a:pt x="118" y="544"/>
                </a:lnTo>
                <a:lnTo>
                  <a:pt x="67" y="628"/>
                </a:lnTo>
                <a:lnTo>
                  <a:pt x="28" y="715"/>
                </a:lnTo>
                <a:lnTo>
                  <a:pt x="0" y="80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5"/>
          <p:cNvSpPr/>
          <p:nvPr/>
        </p:nvSpPr>
        <p:spPr>
          <a:xfrm>
            <a:off x="4640400" y="2021040"/>
            <a:ext cx="2181240" cy="1228680"/>
          </a:xfrm>
          <a:custGeom>
            <a:avLst/>
            <a:gdLst/>
            <a:ahLst/>
            <a:rect l="l" t="t" r="r" b="b"/>
            <a:pathLst>
              <a:path w="1374" h="774">
                <a:moveTo>
                  <a:pt x="1373" y="502"/>
                </a:moveTo>
                <a:lnTo>
                  <a:pt x="1355" y="773"/>
                </a:lnTo>
                <a:lnTo>
                  <a:pt x="1102" y="561"/>
                </a:lnTo>
                <a:lnTo>
                  <a:pt x="1174" y="554"/>
                </a:lnTo>
                <a:lnTo>
                  <a:pt x="1120" y="488"/>
                </a:lnTo>
                <a:lnTo>
                  <a:pt x="1051" y="428"/>
                </a:lnTo>
                <a:lnTo>
                  <a:pt x="972" y="372"/>
                </a:lnTo>
                <a:lnTo>
                  <a:pt x="882" y="317"/>
                </a:lnTo>
                <a:lnTo>
                  <a:pt x="780" y="270"/>
                </a:lnTo>
                <a:lnTo>
                  <a:pt x="668" y="229"/>
                </a:lnTo>
                <a:lnTo>
                  <a:pt x="545" y="194"/>
                </a:lnTo>
                <a:lnTo>
                  <a:pt x="419" y="164"/>
                </a:lnTo>
                <a:lnTo>
                  <a:pt x="286" y="143"/>
                </a:lnTo>
                <a:lnTo>
                  <a:pt x="145" y="127"/>
                </a:lnTo>
                <a:lnTo>
                  <a:pt x="0" y="118"/>
                </a:lnTo>
                <a:lnTo>
                  <a:pt x="0" y="0"/>
                </a:lnTo>
                <a:lnTo>
                  <a:pt x="118" y="3"/>
                </a:lnTo>
                <a:lnTo>
                  <a:pt x="245" y="13"/>
                </a:lnTo>
                <a:lnTo>
                  <a:pt x="368" y="33"/>
                </a:lnTo>
                <a:lnTo>
                  <a:pt x="491" y="58"/>
                </a:lnTo>
                <a:lnTo>
                  <a:pt x="611" y="89"/>
                </a:lnTo>
                <a:lnTo>
                  <a:pt x="726" y="123"/>
                </a:lnTo>
                <a:lnTo>
                  <a:pt x="838" y="168"/>
                </a:lnTo>
                <a:lnTo>
                  <a:pt x="939" y="215"/>
                </a:lnTo>
                <a:lnTo>
                  <a:pt x="1033" y="270"/>
                </a:lnTo>
                <a:lnTo>
                  <a:pt x="1120" y="327"/>
                </a:lnTo>
                <a:lnTo>
                  <a:pt x="1192" y="387"/>
                </a:lnTo>
                <a:lnTo>
                  <a:pt x="1256" y="451"/>
                </a:lnTo>
                <a:lnTo>
                  <a:pt x="1307" y="516"/>
                </a:lnTo>
                <a:lnTo>
                  <a:pt x="1373" y="50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"/>
          <p:cNvSpPr/>
          <p:nvPr/>
        </p:nvSpPr>
        <p:spPr>
          <a:xfrm>
            <a:off x="2236680" y="3435480"/>
            <a:ext cx="2185920" cy="1226880"/>
          </a:xfrm>
          <a:custGeom>
            <a:avLst/>
            <a:gdLst/>
            <a:ahLst/>
            <a:rect l="l" t="t" r="r" b="b"/>
            <a:pathLst>
              <a:path w="1377" h="773">
                <a:moveTo>
                  <a:pt x="0" y="271"/>
                </a:moveTo>
                <a:lnTo>
                  <a:pt x="21" y="0"/>
                </a:lnTo>
                <a:lnTo>
                  <a:pt x="271" y="212"/>
                </a:lnTo>
                <a:lnTo>
                  <a:pt x="199" y="218"/>
                </a:lnTo>
                <a:lnTo>
                  <a:pt x="256" y="284"/>
                </a:lnTo>
                <a:lnTo>
                  <a:pt x="325" y="345"/>
                </a:lnTo>
                <a:lnTo>
                  <a:pt x="406" y="401"/>
                </a:lnTo>
                <a:lnTo>
                  <a:pt x="496" y="455"/>
                </a:lnTo>
                <a:lnTo>
                  <a:pt x="596" y="503"/>
                </a:lnTo>
                <a:lnTo>
                  <a:pt x="708" y="544"/>
                </a:lnTo>
                <a:lnTo>
                  <a:pt x="828" y="578"/>
                </a:lnTo>
                <a:lnTo>
                  <a:pt x="957" y="608"/>
                </a:lnTo>
                <a:lnTo>
                  <a:pt x="1092" y="629"/>
                </a:lnTo>
                <a:lnTo>
                  <a:pt x="1232" y="646"/>
                </a:lnTo>
                <a:lnTo>
                  <a:pt x="1376" y="652"/>
                </a:lnTo>
                <a:lnTo>
                  <a:pt x="1376" y="772"/>
                </a:lnTo>
                <a:lnTo>
                  <a:pt x="1254" y="769"/>
                </a:lnTo>
                <a:lnTo>
                  <a:pt x="1131" y="756"/>
                </a:lnTo>
                <a:lnTo>
                  <a:pt x="1008" y="739"/>
                </a:lnTo>
                <a:lnTo>
                  <a:pt x="885" y="715"/>
                </a:lnTo>
                <a:lnTo>
                  <a:pt x="767" y="683"/>
                </a:lnTo>
                <a:lnTo>
                  <a:pt x="650" y="646"/>
                </a:lnTo>
                <a:lnTo>
                  <a:pt x="539" y="604"/>
                </a:lnTo>
                <a:lnTo>
                  <a:pt x="437" y="554"/>
                </a:lnTo>
                <a:lnTo>
                  <a:pt x="343" y="503"/>
                </a:lnTo>
                <a:lnTo>
                  <a:pt x="256" y="445"/>
                </a:lnTo>
                <a:lnTo>
                  <a:pt x="184" y="383"/>
                </a:lnTo>
                <a:lnTo>
                  <a:pt x="120" y="322"/>
                </a:lnTo>
                <a:lnTo>
                  <a:pt x="69" y="256"/>
                </a:lnTo>
                <a:lnTo>
                  <a:pt x="0" y="27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7"/>
          <p:cNvSpPr/>
          <p:nvPr/>
        </p:nvSpPr>
        <p:spPr>
          <a:xfrm>
            <a:off x="4640400" y="3435480"/>
            <a:ext cx="2249280" cy="1276200"/>
          </a:xfrm>
          <a:custGeom>
            <a:avLst/>
            <a:gdLst/>
            <a:ahLst/>
            <a:rect l="l" t="t" r="r" b="b"/>
            <a:pathLst>
              <a:path w="1417" h="804">
                <a:moveTo>
                  <a:pt x="1416" y="0"/>
                </a:moveTo>
                <a:lnTo>
                  <a:pt x="1271" y="0"/>
                </a:lnTo>
                <a:lnTo>
                  <a:pt x="1250" y="79"/>
                </a:lnTo>
                <a:lnTo>
                  <a:pt x="1217" y="151"/>
                </a:lnTo>
                <a:lnTo>
                  <a:pt x="1171" y="222"/>
                </a:lnTo>
                <a:lnTo>
                  <a:pt x="1112" y="284"/>
                </a:lnTo>
                <a:lnTo>
                  <a:pt x="1045" y="345"/>
                </a:lnTo>
                <a:lnTo>
                  <a:pt x="964" y="401"/>
                </a:lnTo>
                <a:lnTo>
                  <a:pt x="874" y="452"/>
                </a:lnTo>
                <a:lnTo>
                  <a:pt x="774" y="499"/>
                </a:lnTo>
                <a:lnTo>
                  <a:pt x="660" y="540"/>
                </a:lnTo>
                <a:lnTo>
                  <a:pt x="539" y="575"/>
                </a:lnTo>
                <a:lnTo>
                  <a:pt x="407" y="608"/>
                </a:lnTo>
                <a:lnTo>
                  <a:pt x="271" y="629"/>
                </a:lnTo>
                <a:lnTo>
                  <a:pt x="260" y="571"/>
                </a:lnTo>
                <a:lnTo>
                  <a:pt x="0" y="711"/>
                </a:lnTo>
                <a:lnTo>
                  <a:pt x="310" y="803"/>
                </a:lnTo>
                <a:lnTo>
                  <a:pt x="299" y="746"/>
                </a:lnTo>
                <a:lnTo>
                  <a:pt x="452" y="718"/>
                </a:lnTo>
                <a:lnTo>
                  <a:pt x="596" y="683"/>
                </a:lnTo>
                <a:lnTo>
                  <a:pt x="729" y="642"/>
                </a:lnTo>
                <a:lnTo>
                  <a:pt x="853" y="594"/>
                </a:lnTo>
                <a:lnTo>
                  <a:pt x="964" y="540"/>
                </a:lnTo>
                <a:lnTo>
                  <a:pt x="1066" y="478"/>
                </a:lnTo>
                <a:lnTo>
                  <a:pt x="1156" y="411"/>
                </a:lnTo>
                <a:lnTo>
                  <a:pt x="1232" y="342"/>
                </a:lnTo>
                <a:lnTo>
                  <a:pt x="1298" y="263"/>
                </a:lnTo>
                <a:lnTo>
                  <a:pt x="1352" y="179"/>
                </a:lnTo>
                <a:lnTo>
                  <a:pt x="1391" y="92"/>
                </a:lnTo>
                <a:lnTo>
                  <a:pt x="141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6499080" y="3311640"/>
            <a:ext cx="492120" cy="4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4503600" y="1859040"/>
            <a:ext cx="44640" cy="49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503600" y="4325760"/>
            <a:ext cx="44640" cy="492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060640" y="3311640"/>
            <a:ext cx="492120" cy="4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2"/>
          <p:cNvSpPr/>
          <p:nvPr/>
        </p:nvSpPr>
        <p:spPr>
          <a:xfrm>
            <a:off x="4311720" y="230976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3"/>
          <p:cNvSpPr/>
          <p:nvPr/>
        </p:nvSpPr>
        <p:spPr>
          <a:xfrm>
            <a:off x="6143760" y="316692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4"/>
          <p:cNvSpPr/>
          <p:nvPr/>
        </p:nvSpPr>
        <p:spPr>
          <a:xfrm>
            <a:off x="4311720" y="402444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5"/>
          <p:cNvSpPr/>
          <p:nvPr/>
        </p:nvSpPr>
        <p:spPr>
          <a:xfrm>
            <a:off x="2597040" y="3238560"/>
            <a:ext cx="52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7"/>
          <p:cNvSpPr/>
          <p:nvPr/>
        </p:nvSpPr>
        <p:spPr>
          <a:xfrm>
            <a:off x="3195720" y="2644920"/>
            <a:ext cx="264456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rebuchet MS"/>
              </a:rPr>
              <a:t>CONDICIONES DE SATISFA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¿Qué y cuan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4537080" y="988920"/>
            <a:ext cx="15840" cy="62244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2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Verdana"/>
              </a:rPr>
              <a:t>Flores, Fernando, «Creando organizaciones para el futuro», Dolmen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 Cicl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4741920" y="464184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 flipV="1">
            <a:off x="1655640" y="37656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3236760" y="1717560"/>
            <a:ext cx="49068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5"/>
          <p:cNvSpPr/>
          <p:nvPr/>
        </p:nvSpPr>
        <p:spPr>
          <a:xfrm flipH="1">
            <a:off x="6799320" y="2146320"/>
            <a:ext cx="318960" cy="57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8"/>
          <p:cNvSpPr/>
          <p:nvPr/>
        </p:nvSpPr>
        <p:spPr>
          <a:xfrm>
            <a:off x="493560" y="828720"/>
            <a:ext cx="8147160" cy="4976640"/>
          </a:xfrm>
          <a:prstGeom prst="rect">
            <a:avLst/>
          </a:prstGeom>
          <a:solidFill>
            <a:srgbClr val="4f81bd"/>
          </a:solidFill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7"/>
          <p:cNvSpPr/>
          <p:nvPr/>
        </p:nvSpPr>
        <p:spPr>
          <a:xfrm>
            <a:off x="7093080" y="3308400"/>
            <a:ext cx="981000" cy="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4510080" y="4975200"/>
            <a:ext cx="15840" cy="62244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950760" y="3308400"/>
            <a:ext cx="990720" cy="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3"/>
          <p:cNvSpPr/>
          <p:nvPr/>
        </p:nvSpPr>
        <p:spPr>
          <a:xfrm>
            <a:off x="654120" y="2781720"/>
            <a:ext cx="126396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00"/>
                </a:solidFill>
                <a:latin typeface="Trebuchet MS"/>
              </a:rPr>
              <a:t>Lí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00"/>
                </a:solidFill>
                <a:latin typeface="Trebuchet MS"/>
              </a:rPr>
              <a:t>del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4"/>
          <p:cNvSpPr/>
          <p:nvPr/>
        </p:nvSpPr>
        <p:spPr>
          <a:xfrm>
            <a:off x="7027920" y="3092040"/>
            <a:ext cx="112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00"/>
                </a:solidFill>
                <a:latin typeface="Trebuchet MS"/>
              </a:rPr>
              <a:t>Sub Lí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5"/>
          <p:cNvSpPr/>
          <p:nvPr/>
        </p:nvSpPr>
        <p:spPr>
          <a:xfrm>
            <a:off x="607680" y="977400"/>
            <a:ext cx="167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. Prepa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6"/>
          <p:cNvSpPr/>
          <p:nvPr/>
        </p:nvSpPr>
        <p:spPr>
          <a:xfrm>
            <a:off x="6828480" y="958680"/>
            <a:ext cx="178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I. Nego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7"/>
          <p:cNvSpPr/>
          <p:nvPr/>
        </p:nvSpPr>
        <p:spPr>
          <a:xfrm>
            <a:off x="540720" y="5211360"/>
            <a:ext cx="1652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V.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8"/>
          <p:cNvSpPr/>
          <p:nvPr/>
        </p:nvSpPr>
        <p:spPr>
          <a:xfrm>
            <a:off x="7056360" y="5207400"/>
            <a:ext cx="152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II. Ejec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0"/>
          <p:cNvSpPr/>
          <p:nvPr/>
        </p:nvSpPr>
        <p:spPr>
          <a:xfrm>
            <a:off x="2614680" y="1479600"/>
            <a:ext cx="1423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Pedido u Of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1"/>
          <p:cNvSpPr/>
          <p:nvPr/>
        </p:nvSpPr>
        <p:spPr>
          <a:xfrm>
            <a:off x="6273720" y="1636560"/>
            <a:ext cx="1747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Acuerdo</a:t>
            </a:r>
            <a:r>
              <a:rPr b="0" i="1" lang="en-US" sz="1400" spc="-1" strike="noStrike">
                <a:solidFill>
                  <a:srgbClr val="ffffff"/>
                </a:solidFill>
                <a:latin typeface="Trebuchet MS"/>
              </a:rPr>
              <a:t> (2 </a:t>
            </a: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promesas mutuas</a:t>
            </a:r>
            <a:r>
              <a:rPr b="0" i="1" lang="en-US" sz="1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2"/>
          <p:cNvSpPr/>
          <p:nvPr/>
        </p:nvSpPr>
        <p:spPr>
          <a:xfrm>
            <a:off x="5060880" y="4741920"/>
            <a:ext cx="1481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Declaración de Cumpl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3"/>
          <p:cNvSpPr/>
          <p:nvPr/>
        </p:nvSpPr>
        <p:spPr>
          <a:xfrm>
            <a:off x="1079640" y="4160880"/>
            <a:ext cx="1604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Declaración de Satisf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4"/>
          <p:cNvSpPr/>
          <p:nvPr/>
        </p:nvSpPr>
        <p:spPr>
          <a:xfrm>
            <a:off x="2216160" y="1919160"/>
            <a:ext cx="2254320" cy="1282680"/>
          </a:xfrm>
          <a:custGeom>
            <a:avLst/>
            <a:gdLst/>
            <a:ahLst/>
            <a:rect l="l" t="t" r="r" b="b"/>
            <a:pathLst>
              <a:path w="1420" h="808">
                <a:moveTo>
                  <a:pt x="0" y="807"/>
                </a:moveTo>
                <a:lnTo>
                  <a:pt x="148" y="807"/>
                </a:lnTo>
                <a:lnTo>
                  <a:pt x="169" y="728"/>
                </a:lnTo>
                <a:lnTo>
                  <a:pt x="202" y="656"/>
                </a:lnTo>
                <a:lnTo>
                  <a:pt x="248" y="585"/>
                </a:lnTo>
                <a:lnTo>
                  <a:pt x="307" y="523"/>
                </a:lnTo>
                <a:lnTo>
                  <a:pt x="374" y="459"/>
                </a:lnTo>
                <a:lnTo>
                  <a:pt x="455" y="406"/>
                </a:lnTo>
                <a:lnTo>
                  <a:pt x="545" y="355"/>
                </a:lnTo>
                <a:lnTo>
                  <a:pt x="645" y="307"/>
                </a:lnTo>
                <a:lnTo>
                  <a:pt x="759" y="266"/>
                </a:lnTo>
                <a:lnTo>
                  <a:pt x="877" y="232"/>
                </a:lnTo>
                <a:lnTo>
                  <a:pt x="1007" y="199"/>
                </a:lnTo>
                <a:lnTo>
                  <a:pt x="1148" y="174"/>
                </a:lnTo>
                <a:lnTo>
                  <a:pt x="1156" y="235"/>
                </a:lnTo>
                <a:lnTo>
                  <a:pt x="1419" y="95"/>
                </a:lnTo>
                <a:lnTo>
                  <a:pt x="1105" y="0"/>
                </a:lnTo>
                <a:lnTo>
                  <a:pt x="1120" y="61"/>
                </a:lnTo>
                <a:lnTo>
                  <a:pt x="964" y="89"/>
                </a:lnTo>
                <a:lnTo>
                  <a:pt x="823" y="123"/>
                </a:lnTo>
                <a:lnTo>
                  <a:pt x="690" y="164"/>
                </a:lnTo>
                <a:lnTo>
                  <a:pt x="563" y="212"/>
                </a:lnTo>
                <a:lnTo>
                  <a:pt x="452" y="266"/>
                </a:lnTo>
                <a:lnTo>
                  <a:pt x="350" y="325"/>
                </a:lnTo>
                <a:lnTo>
                  <a:pt x="263" y="393"/>
                </a:lnTo>
                <a:lnTo>
                  <a:pt x="184" y="465"/>
                </a:lnTo>
                <a:lnTo>
                  <a:pt x="118" y="544"/>
                </a:lnTo>
                <a:lnTo>
                  <a:pt x="67" y="628"/>
                </a:lnTo>
                <a:lnTo>
                  <a:pt x="28" y="715"/>
                </a:lnTo>
                <a:lnTo>
                  <a:pt x="0" y="80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5"/>
          <p:cNvSpPr/>
          <p:nvPr/>
        </p:nvSpPr>
        <p:spPr>
          <a:xfrm>
            <a:off x="4640400" y="2021040"/>
            <a:ext cx="2181240" cy="1228680"/>
          </a:xfrm>
          <a:custGeom>
            <a:avLst/>
            <a:gdLst/>
            <a:ahLst/>
            <a:rect l="l" t="t" r="r" b="b"/>
            <a:pathLst>
              <a:path w="1374" h="774">
                <a:moveTo>
                  <a:pt x="1373" y="502"/>
                </a:moveTo>
                <a:lnTo>
                  <a:pt x="1355" y="773"/>
                </a:lnTo>
                <a:lnTo>
                  <a:pt x="1102" y="561"/>
                </a:lnTo>
                <a:lnTo>
                  <a:pt x="1174" y="554"/>
                </a:lnTo>
                <a:lnTo>
                  <a:pt x="1120" y="488"/>
                </a:lnTo>
                <a:lnTo>
                  <a:pt x="1051" y="428"/>
                </a:lnTo>
                <a:lnTo>
                  <a:pt x="972" y="372"/>
                </a:lnTo>
                <a:lnTo>
                  <a:pt x="882" y="317"/>
                </a:lnTo>
                <a:lnTo>
                  <a:pt x="780" y="270"/>
                </a:lnTo>
                <a:lnTo>
                  <a:pt x="668" y="229"/>
                </a:lnTo>
                <a:lnTo>
                  <a:pt x="545" y="194"/>
                </a:lnTo>
                <a:lnTo>
                  <a:pt x="419" y="164"/>
                </a:lnTo>
                <a:lnTo>
                  <a:pt x="286" y="143"/>
                </a:lnTo>
                <a:lnTo>
                  <a:pt x="145" y="127"/>
                </a:lnTo>
                <a:lnTo>
                  <a:pt x="0" y="118"/>
                </a:lnTo>
                <a:lnTo>
                  <a:pt x="0" y="0"/>
                </a:lnTo>
                <a:lnTo>
                  <a:pt x="118" y="3"/>
                </a:lnTo>
                <a:lnTo>
                  <a:pt x="245" y="13"/>
                </a:lnTo>
                <a:lnTo>
                  <a:pt x="368" y="33"/>
                </a:lnTo>
                <a:lnTo>
                  <a:pt x="491" y="58"/>
                </a:lnTo>
                <a:lnTo>
                  <a:pt x="611" y="89"/>
                </a:lnTo>
                <a:lnTo>
                  <a:pt x="726" y="123"/>
                </a:lnTo>
                <a:lnTo>
                  <a:pt x="838" y="168"/>
                </a:lnTo>
                <a:lnTo>
                  <a:pt x="939" y="215"/>
                </a:lnTo>
                <a:lnTo>
                  <a:pt x="1033" y="270"/>
                </a:lnTo>
                <a:lnTo>
                  <a:pt x="1120" y="327"/>
                </a:lnTo>
                <a:lnTo>
                  <a:pt x="1192" y="387"/>
                </a:lnTo>
                <a:lnTo>
                  <a:pt x="1256" y="451"/>
                </a:lnTo>
                <a:lnTo>
                  <a:pt x="1307" y="516"/>
                </a:lnTo>
                <a:lnTo>
                  <a:pt x="1373" y="50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"/>
          <p:cNvSpPr/>
          <p:nvPr/>
        </p:nvSpPr>
        <p:spPr>
          <a:xfrm>
            <a:off x="2236680" y="3435480"/>
            <a:ext cx="2185920" cy="1226880"/>
          </a:xfrm>
          <a:custGeom>
            <a:avLst/>
            <a:gdLst/>
            <a:ahLst/>
            <a:rect l="l" t="t" r="r" b="b"/>
            <a:pathLst>
              <a:path w="1377" h="773">
                <a:moveTo>
                  <a:pt x="0" y="271"/>
                </a:moveTo>
                <a:lnTo>
                  <a:pt x="21" y="0"/>
                </a:lnTo>
                <a:lnTo>
                  <a:pt x="271" y="212"/>
                </a:lnTo>
                <a:lnTo>
                  <a:pt x="199" y="218"/>
                </a:lnTo>
                <a:lnTo>
                  <a:pt x="256" y="284"/>
                </a:lnTo>
                <a:lnTo>
                  <a:pt x="325" y="345"/>
                </a:lnTo>
                <a:lnTo>
                  <a:pt x="406" y="401"/>
                </a:lnTo>
                <a:lnTo>
                  <a:pt x="496" y="455"/>
                </a:lnTo>
                <a:lnTo>
                  <a:pt x="596" y="503"/>
                </a:lnTo>
                <a:lnTo>
                  <a:pt x="708" y="544"/>
                </a:lnTo>
                <a:lnTo>
                  <a:pt x="828" y="578"/>
                </a:lnTo>
                <a:lnTo>
                  <a:pt x="957" y="608"/>
                </a:lnTo>
                <a:lnTo>
                  <a:pt x="1092" y="629"/>
                </a:lnTo>
                <a:lnTo>
                  <a:pt x="1232" y="646"/>
                </a:lnTo>
                <a:lnTo>
                  <a:pt x="1376" y="652"/>
                </a:lnTo>
                <a:lnTo>
                  <a:pt x="1376" y="772"/>
                </a:lnTo>
                <a:lnTo>
                  <a:pt x="1254" y="769"/>
                </a:lnTo>
                <a:lnTo>
                  <a:pt x="1131" y="756"/>
                </a:lnTo>
                <a:lnTo>
                  <a:pt x="1008" y="739"/>
                </a:lnTo>
                <a:lnTo>
                  <a:pt x="885" y="715"/>
                </a:lnTo>
                <a:lnTo>
                  <a:pt x="767" y="683"/>
                </a:lnTo>
                <a:lnTo>
                  <a:pt x="650" y="646"/>
                </a:lnTo>
                <a:lnTo>
                  <a:pt x="539" y="604"/>
                </a:lnTo>
                <a:lnTo>
                  <a:pt x="437" y="554"/>
                </a:lnTo>
                <a:lnTo>
                  <a:pt x="343" y="503"/>
                </a:lnTo>
                <a:lnTo>
                  <a:pt x="256" y="445"/>
                </a:lnTo>
                <a:lnTo>
                  <a:pt x="184" y="383"/>
                </a:lnTo>
                <a:lnTo>
                  <a:pt x="120" y="322"/>
                </a:lnTo>
                <a:lnTo>
                  <a:pt x="69" y="256"/>
                </a:lnTo>
                <a:lnTo>
                  <a:pt x="0" y="27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7"/>
          <p:cNvSpPr/>
          <p:nvPr/>
        </p:nvSpPr>
        <p:spPr>
          <a:xfrm>
            <a:off x="4640400" y="3435480"/>
            <a:ext cx="2249280" cy="1276200"/>
          </a:xfrm>
          <a:custGeom>
            <a:avLst/>
            <a:gdLst/>
            <a:ahLst/>
            <a:rect l="l" t="t" r="r" b="b"/>
            <a:pathLst>
              <a:path w="1417" h="804">
                <a:moveTo>
                  <a:pt x="1416" y="0"/>
                </a:moveTo>
                <a:lnTo>
                  <a:pt x="1271" y="0"/>
                </a:lnTo>
                <a:lnTo>
                  <a:pt x="1250" y="79"/>
                </a:lnTo>
                <a:lnTo>
                  <a:pt x="1217" y="151"/>
                </a:lnTo>
                <a:lnTo>
                  <a:pt x="1171" y="222"/>
                </a:lnTo>
                <a:lnTo>
                  <a:pt x="1112" y="284"/>
                </a:lnTo>
                <a:lnTo>
                  <a:pt x="1045" y="345"/>
                </a:lnTo>
                <a:lnTo>
                  <a:pt x="964" y="401"/>
                </a:lnTo>
                <a:lnTo>
                  <a:pt x="874" y="452"/>
                </a:lnTo>
                <a:lnTo>
                  <a:pt x="774" y="499"/>
                </a:lnTo>
                <a:lnTo>
                  <a:pt x="660" y="540"/>
                </a:lnTo>
                <a:lnTo>
                  <a:pt x="539" y="575"/>
                </a:lnTo>
                <a:lnTo>
                  <a:pt x="407" y="608"/>
                </a:lnTo>
                <a:lnTo>
                  <a:pt x="271" y="629"/>
                </a:lnTo>
                <a:lnTo>
                  <a:pt x="260" y="571"/>
                </a:lnTo>
                <a:lnTo>
                  <a:pt x="0" y="711"/>
                </a:lnTo>
                <a:lnTo>
                  <a:pt x="310" y="803"/>
                </a:lnTo>
                <a:lnTo>
                  <a:pt x="299" y="746"/>
                </a:lnTo>
                <a:lnTo>
                  <a:pt x="452" y="718"/>
                </a:lnTo>
                <a:lnTo>
                  <a:pt x="596" y="683"/>
                </a:lnTo>
                <a:lnTo>
                  <a:pt x="729" y="642"/>
                </a:lnTo>
                <a:lnTo>
                  <a:pt x="853" y="594"/>
                </a:lnTo>
                <a:lnTo>
                  <a:pt x="964" y="540"/>
                </a:lnTo>
                <a:lnTo>
                  <a:pt x="1066" y="478"/>
                </a:lnTo>
                <a:lnTo>
                  <a:pt x="1156" y="411"/>
                </a:lnTo>
                <a:lnTo>
                  <a:pt x="1232" y="342"/>
                </a:lnTo>
                <a:lnTo>
                  <a:pt x="1298" y="263"/>
                </a:lnTo>
                <a:lnTo>
                  <a:pt x="1352" y="179"/>
                </a:lnTo>
                <a:lnTo>
                  <a:pt x="1391" y="92"/>
                </a:lnTo>
                <a:lnTo>
                  <a:pt x="141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6499080" y="3311640"/>
            <a:ext cx="492120" cy="4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4503600" y="1859040"/>
            <a:ext cx="44640" cy="49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4503600" y="4325760"/>
            <a:ext cx="44640" cy="492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2060640" y="3311640"/>
            <a:ext cx="492120" cy="4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2"/>
          <p:cNvSpPr/>
          <p:nvPr/>
        </p:nvSpPr>
        <p:spPr>
          <a:xfrm>
            <a:off x="4311720" y="230976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33"/>
          <p:cNvSpPr/>
          <p:nvPr/>
        </p:nvSpPr>
        <p:spPr>
          <a:xfrm>
            <a:off x="6143760" y="316692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4"/>
          <p:cNvSpPr/>
          <p:nvPr/>
        </p:nvSpPr>
        <p:spPr>
          <a:xfrm>
            <a:off x="3851280" y="4024440"/>
            <a:ext cx="12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990000"/>
                </a:solidFill>
                <a:latin typeface="Arial"/>
              </a:rPr>
              <a:t>18  de Jun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5"/>
          <p:cNvSpPr/>
          <p:nvPr/>
        </p:nvSpPr>
        <p:spPr>
          <a:xfrm>
            <a:off x="2597040" y="3238560"/>
            <a:ext cx="52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7"/>
          <p:cNvSpPr/>
          <p:nvPr/>
        </p:nvSpPr>
        <p:spPr>
          <a:xfrm>
            <a:off x="3195720" y="2847960"/>
            <a:ext cx="26445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rebuchet MS"/>
              </a:rPr>
              <a:t>RECAUDAR 2 MILLONES DE PESOS ANTES DEL 18 DE JU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9"/>
          <p:cNvSpPr/>
          <p:nvPr/>
        </p:nvSpPr>
        <p:spPr>
          <a:xfrm>
            <a:off x="4537080" y="988920"/>
            <a:ext cx="15840" cy="62244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95280" y="1773360"/>
            <a:ext cx="8496360" cy="38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Puntos clav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Cliente: hacer pedidos efe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Realizadores: hacer ofer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Cliente y Realizador : acordar promesas entre con estándar específico y tiempo cla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Realizador: cumplir promesas y anticipar se si no va a cump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Cliente y Realizador : evaluar cumpl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Cliente: declarar satisfacción / insatisf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0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395280" y="1773360"/>
            <a:ext cx="8496360" cy="31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¿Cómo ejecutar impecablement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1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95280" y="1773360"/>
            <a:ext cx="849636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90% de las organizaciones experimentan fracasos totales o parciales en la ejecución de sus estrategia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R. Kaplan y P. Norton, Harvard Business Sch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Las empresas realizan solo el 63% del valor potencial de sus estrategias debido a fallas serias en la implementació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The Economist Intelligence Unit, Estudio en base a una muestra de 197 empresas multinac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80% de las empresas piensan que tienen las estrategias correctas pero solo 14% creen que las están implementando bi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97% de los CEOs piensan que tienen visión estratégica pero solo 33% evalúan que consiguen éxito en lo estratégic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Financial Times, Estudio de 200 empresas del FT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21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3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395280" y="1773360"/>
            <a:ext cx="84963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¿Qué hace un ejecutivo durante el dí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28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Verdana"/>
              </a:rPr>
              <a:t>«Managing», Henry Mintzberg, Norma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8 Elipse"/>
          <p:cNvSpPr/>
          <p:nvPr/>
        </p:nvSpPr>
        <p:spPr>
          <a:xfrm>
            <a:off x="971640" y="3141720"/>
            <a:ext cx="7129440" cy="2720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Convers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(60-90%*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EXPECTATIV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50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395280" y="1773360"/>
            <a:ext cx="849636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</a:rPr>
              <a:t>Bibliografí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lores, Fernando, «Creando organizaciones para el futuro», Dolmen,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Mintzberg, Henry, «Managing», Norma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ta, Luis, «Proyectos que resultan», E-Class Diario la Tercera, 6 de septiembre  de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36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95280" y="1773360"/>
            <a:ext cx="8496360" cy="18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VIS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5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ESCUCH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6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95280" y="1773360"/>
            <a:ext cx="849636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MODELO DE NEGOC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71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95280" y="1773360"/>
            <a:ext cx="849636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MODELO DE APRENDIZAJ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78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95280" y="1773360"/>
            <a:ext cx="8496360" cy="18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PARADIGM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85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4641840" y="657216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-2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0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8532720" y="44280"/>
            <a:ext cx="503280" cy="455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2"/>
          <p:cNvSpPr/>
          <p:nvPr/>
        </p:nvSpPr>
        <p:spPr>
          <a:xfrm>
            <a:off x="1258920" y="54936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9933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0"/>
          <p:cNvSpPr/>
          <p:nvPr/>
        </p:nvSpPr>
        <p:spPr>
          <a:xfrm>
            <a:off x="3975120" y="8174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1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2" descr="logo_new2007"/>
          <p:cNvPicPr/>
          <p:nvPr/>
        </p:nvPicPr>
        <p:blipFill>
          <a:blip r:embed="rId2"/>
          <a:stretch/>
        </p:blipFill>
        <p:spPr>
          <a:xfrm>
            <a:off x="34920" y="115920"/>
            <a:ext cx="1185840" cy="272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1258920" y="1976400"/>
            <a:ext cx="6929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¿Qué es un Proyec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¿Cómo ejecutar impecablem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Conversaciones claves en la gestión de Proy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http://www.secretaria-virtual.com/imagenes/agenda.jpg"/>
          <p:cNvPicPr/>
          <p:nvPr/>
        </p:nvPicPr>
        <p:blipFill>
          <a:blip r:embed="rId3"/>
          <a:stretch/>
        </p:blipFill>
        <p:spPr>
          <a:xfrm>
            <a:off x="5565600" y="749160"/>
            <a:ext cx="2908440" cy="2086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9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Verdana"/>
              </a:rPr>
              <a:t>«Proyectos que resultan», E-Class Diario la Tercera, 6 de septiembre  de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ntre el 30% y el 45% de los Proyectos fracasa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1 Imagen" descr=""/>
          <p:cNvPicPr/>
          <p:nvPr/>
        </p:nvPicPr>
        <p:blipFill>
          <a:blip r:embed="rId3"/>
          <a:stretch/>
        </p:blipFill>
        <p:spPr>
          <a:xfrm>
            <a:off x="611280" y="549360"/>
            <a:ext cx="7848360" cy="5767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22:21:09Z</dcterms:created>
  <dc:creator>VAIO</dc:creator>
  <dc:description/>
  <dc:language>en-US</dc:language>
  <cp:lastModifiedBy>Guido</cp:lastModifiedBy>
  <dcterms:modified xsi:type="dcterms:W3CDTF">2011-03-23T18:34:15Z</dcterms:modified>
  <cp:revision>125</cp:revision>
  <dc:subject/>
  <dc:title>Diapositiva 1</dc:title>
</cp:coreProperties>
</file>