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media/image7.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32D15-3054-4B8A-8086-7D3E8C715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55CD8-9409-4D0E-8713-F0C9BF9C5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25F56-0E26-4226-84C3-AFDC51625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4277-94D6-4808-98FC-59ADD87B1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708B-AAF2-42C1-B43D-BF418841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8421-6BF9-43C6-86C2-BDF865E42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40F4-FF02-44ED-B232-6E8EF3357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7E1B-ADC4-4D42-84CA-CFFE5F609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F8F9D-EABA-4E6C-9FA0-A4E130B4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28A0-A9A2-49B7-8938-42E5F584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16B2-F961-4436-B20E-81C3919D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668E-61E3-40F3-9E72-5FF974DF0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8ACE-85B8-4632-AEEE-49868FEE1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7360" y="-109440"/>
            <a:ext cx="1212840" cy="1785960"/>
          </a:xfrm>
          <a:prstGeom prst="rect">
            <a:avLst/>
          </a:prstGeom>
          <a:ln w="0">
            <a:noFill/>
          </a:ln>
        </p:spPr>
      </p:pic>
      <p:sp>
        <p:nvSpPr>
          <p:cNvPr id="42" name=""/>
          <p:cNvSpPr/>
          <p:nvPr/>
        </p:nvSpPr>
        <p:spPr>
          <a:xfrm>
            <a:off x="1447920" y="533520"/>
            <a:ext cx="5029200" cy="744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UNIVERSIDAD DE CHIL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FACULTAD DE CIENCIAS FISICAS Y MATEMATICA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ESCUELA DE INGENIERIA Y CIENCIA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DEPARTAMENTO DE INGENIERIA ELECTRICA</a:t>
            </a:r>
            <a:endParaRPr b="0" lang="en-US" sz="1200" spc="-1" strike="noStrike">
              <a:solidFill>
                <a:srgbClr val="000000"/>
              </a:solidFill>
              <a:latin typeface="Times New Roman"/>
            </a:endParaRPr>
          </a:p>
        </p:txBody>
      </p:sp>
      <p:graphicFrame>
        <p:nvGraphicFramePr>
          <p:cNvPr id="43" name=""/>
          <p:cNvGraphicFramePr/>
          <p:nvPr/>
        </p:nvGraphicFramePr>
        <p:xfrm>
          <a:off x="8210520" y="303120"/>
          <a:ext cx="476280" cy="1038240"/>
        </p:xfrm>
        <a:graphic>
          <a:graphicData uri="http://schemas.openxmlformats.org/presentationml/2006/ole">
            <p:oleObj r:id="rId2" spid="">
              <p:embed/>
              <p:pic>
                <p:nvPicPr>
                  <p:cNvPr id="44" name="" descr=""/>
                  <p:cNvPicPr/>
                  <p:nvPr/>
                </p:nvPicPr>
                <p:blipFill>
                  <a:blip r:embed="rId3"/>
                  <a:stretch/>
                </p:blipFill>
                <p:spPr>
                  <a:xfrm>
                    <a:off x="8210520" y="303120"/>
                    <a:ext cx="476280" cy="1038240"/>
                  </a:xfrm>
                  <a:prstGeom prst="rect">
                    <a:avLst/>
                  </a:prstGeom>
                  <a:ln w="0">
                    <a:noFill/>
                  </a:ln>
                </p:spPr>
              </p:pic>
            </p:oleObj>
          </a:graphicData>
        </a:graphic>
      </p:graphicFrame>
      <p:pic>
        <p:nvPicPr>
          <p:cNvPr id="45" name="" descr=""/>
          <p:cNvPicPr/>
          <p:nvPr/>
        </p:nvPicPr>
        <p:blipFill>
          <a:blip r:embed="rId4"/>
          <a:stretch/>
        </p:blipFill>
        <p:spPr>
          <a:xfrm>
            <a:off x="5562720" y="304920"/>
            <a:ext cx="2438280" cy="1218960"/>
          </a:xfrm>
          <a:prstGeom prst="rect">
            <a:avLst/>
          </a:prstGeom>
          <a:ln w="0">
            <a:noFill/>
          </a:ln>
        </p:spPr>
      </p:pic>
      <p:sp>
        <p:nvSpPr>
          <p:cNvPr id="46" name=""/>
          <p:cNvSpPr/>
          <p:nvPr/>
        </p:nvSpPr>
        <p:spPr>
          <a:xfrm>
            <a:off x="1116000" y="2492280"/>
            <a:ext cx="7128000" cy="21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ea typeface="Times New Roman"/>
              </a:rPr>
              <a:t>EL 603 </a:t>
            </a:r>
            <a:r>
              <a:rPr b="1" i="1" lang="es-ES_tradnl" sz="2800" spc="-1" strike="noStrike">
                <a:solidFill>
                  <a:srgbClr val="0000cc"/>
                </a:solidFill>
                <a:latin typeface="Arial"/>
                <a:ea typeface="Arial Unicode MS"/>
              </a:rPr>
              <a:t>TRACCION ELECTRICA</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cc"/>
                </a:solidFill>
                <a:latin typeface="Arial"/>
                <a:ea typeface="Times New Roman"/>
              </a:rPr>
              <a:t>ASPECTOS HISTORICOS DE LA TRACCION ELECTRIC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cc"/>
                </a:solidFill>
                <a:latin typeface="Arial"/>
                <a:ea typeface="Times New Roman"/>
              </a:rPr>
              <a:t>DISTINTOS SISTEMAS DE ELECTRIFICAC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cc"/>
                </a:solidFill>
                <a:latin typeface="Arial"/>
                <a:ea typeface="Times New Roman"/>
              </a:rPr>
              <a:t>ALGO SOBRE FERROCARRILES</a:t>
            </a:r>
            <a:r>
              <a:rPr b="1" i="1" lang="es-ES" sz="2400" spc="-1" strike="noStrike">
                <a:solidFill>
                  <a:srgbClr val="0000cc"/>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85" name=""/>
          <p:cNvSpPr/>
          <p:nvPr/>
        </p:nvSpPr>
        <p:spPr>
          <a:xfrm>
            <a:off x="533520" y="404640"/>
            <a:ext cx="815328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Esta revolución tecnológica ha sido posible por el desarrollo de la electrónica de potencia con la aparición de los semiconductores aptos para ser utilizados en los circuitos de potenc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Diodo es un semiconductor que permite el paso de la corriente eléctrica en un sólo senti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Tiristor es el semiconductor que, como el diodo, permite el paso de la corriente eléctrica en un solo sentido, pero que para realizarse es preciso suministrar un impulso eléctrico en el electrodo de mando, “rejilla o gate” que tienen los tirist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Tiristor GTO (Gate Turn Off) es el más moderno tiristor existente, tiene además un segundo electrodo de mando, “rejilla o gate”, que permite interrumpir el paso de la corriente cuando se le suministra un impulso eléctr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Unicode MS"/>
              </a:rPr>
              <a:t>IGBT, Insulated Gate Bipolar Transistor, Transistores Bipolares de Compuerta Aisl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87" name=""/>
          <p:cNvSpPr/>
          <p:nvPr/>
        </p:nvSpPr>
        <p:spPr>
          <a:xfrm>
            <a:off x="533520" y="387360"/>
            <a:ext cx="81532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Gracias a esta avanzada tecnología se con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ea typeface="Arial Unicode MS"/>
              </a:rPr>
              <a:t> </a:t>
            </a:r>
            <a:r>
              <a:rPr b="0" lang="es-ES_tradnl" sz="2000" spc="-1" strike="noStrike">
                <a:solidFill>
                  <a:srgbClr val="000000"/>
                </a:solidFill>
                <a:latin typeface="Arial"/>
                <a:ea typeface="Arial Unicode MS"/>
              </a:rPr>
              <a:t>En tracción eléctrica con corriente alterna el tiristor permite construir puentes rectificadores controlados, cuya misión es doble: rectificar la corriente y regular la tensión. También puede regularse el campo de los motores con tirist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ea typeface="Arial Unicode MS"/>
              </a:rPr>
              <a:t>En tracción eléctrica con corriente continua, el tiristor supone el desarrollo del “chopper”, que consiste en un convertidor continua-continua que permite el control de la tensión de alimentación de los motores, que en los equipos clásicos se realizaba con resistencias y combinaciones de motores. La excitación de los motores también puede regularse con tiristores. El chopper permite una regulación continua del vehículo y la eliminación del concepto de marcha económica de los equipos electromecánicos convencionales de corriente continua. El chopper eleva la locomotora de corriente continua al nivel de calidad conseguido en las locomotoras de corriente alterna controladas con tirist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89" name=""/>
          <p:cNvSpPr/>
          <p:nvPr/>
        </p:nvSpPr>
        <p:spPr>
          <a:xfrm>
            <a:off x="533520" y="404640"/>
            <a:ext cx="81532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LA TRACCION TRIFAS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Otra posibilidad que ofrece la electrónica de potencia es sustituir dicho motor de colector por un motor trifásico asíncrono sin escobillas, alimentado por un convertidor continua-trifásica, que alimenta el motor con corriente trifásica de frecuencia y tensión variables. Esto equivale a sustituir el colector por un conmutador electrón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ventaja es que los costos de mantenimiento del motor trifásico son muy reduci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on muy simples, sin escobillas, ni anillos rozantes o bobinados del rotor. Son muy robustos y resistentes, tienen mayor fiabilidad, menor peso, mayor rendimiento energético y mayores prestaci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on alimentados por onduladores de corriente y llevan chopper (troceadores) con incorporación de tiristores apagables por puerta (rejilla o gate), como se dijo antes, en lugar de tiristores convencionales.</a:t>
            </a:r>
            <a:r>
              <a:rPr b="0" lang="es-ES" sz="2000" spc="-1" strike="noStrike">
                <a:solidFill>
                  <a:srgbClr val="000000"/>
                </a:solidFill>
                <a:latin typeface="Arial"/>
                <a:ea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91" name=""/>
          <p:cNvSpPr/>
          <p:nvPr/>
        </p:nvSpPr>
        <p:spPr>
          <a:xfrm>
            <a:off x="533520" y="765000"/>
            <a:ext cx="81532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ORRIENTE ALTERNA MONOFASICA DE FRECUENCIA ESPE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Los ingenieros que al contrario que en el caso de corriente continua, estaban preocupados del transporte de la energía a lo largo de la línea, adoptaron la corriente alterna, sabiendo que con un simple transformador sobre la locomotora, podrán escoger libremente una tensión elevada en la línea de contacto (11.000 V. en América, 15.000 o 25.000 V. en Europa) y una tensión baja en los motores, algunos cientos de Vol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La catenaria que no transporta más que algunos centenares de Amperes, se aligera considerablemente. Las subestaciones se reducen a simples transformadores y pueden estar mucho más espaciadas, del orden de 50 km.. Las instalaciones fijas son mucho menos costos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Pero queda por resolver el problema de la utilización, el problema de la locomotor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93" name=""/>
          <p:cNvSpPr/>
          <p:nvPr/>
        </p:nvSpPr>
        <p:spPr>
          <a:xfrm>
            <a:off x="533520" y="97488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ORRIENTE ALTERNA MONOFASICA DE FRECUENCIA ESPEC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Se escogió esta baja frecuencia porque era muy difícil regular la velocidad de los motores de corriente alterna y con una frecuencia un tercio de la normal de 50 Hz era más fácil pues se acercaba a la corriente continu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Se escogieron la naturaleza y las características de corriente que permitieran la mejor construcción de un motor eléctric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Y se produce la corriente en sitio y a medi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95" name=""/>
          <p:cNvSpPr/>
          <p:nvPr/>
        </p:nvSpPr>
        <p:spPr>
          <a:xfrm>
            <a:off x="533520" y="746280"/>
            <a:ext cx="81532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CORRIENTE ALTERNA MONOFASICA DE FRECUENCIA INDUSTR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Se han visto las características generales de los dos grandes sistemas clásicos de tracción eléctrica que se desarrollaron durante la primera mitad del siglo: el sistema de corriente continua a baja tensión, con un excelente motor de tracción y de instalaciones que se acoplan a la red general pero que son pesadas y costosas y el sistema de corriente alterna A.T. y frecuencia especial, en el cual las instalaciones de distribución son mucho más simples pero que utiliza un motor más complejo el cual a su vez ha impuesto una frecuencia baja que impone el obtener una corriente especial para el ferrocarr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El aligeramiento de las instalaciones de distribución (subestaciones y líneas de contacto) es una ventaja indiscutible de la tracción monofásica. Pero por otro lado, la unión con la red general de energía está considerada en muchos países como un principio fundamental, el cual se afirmaba más a medida que las mallas de la red pública cubrían el territor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97" name=""/>
          <p:cNvSpPr/>
          <p:nvPr/>
        </p:nvSpPr>
        <p:spPr>
          <a:xfrm>
            <a:off x="533520" y="746280"/>
            <a:ext cx="81532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CORRIENTE ALTERNA MONOFASICA DE FRECUENCIA INDUSTR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La conciliación de estos dos objetivos, instalaciones ligeras e integración del ferrocarril en la red industrial, fue la razón  de ser del tercer gran sistema de tracción eléctrica: corriente monofásica de frecuencia industrial, 50 Hz. Esta idea se lanzó a finales de los años cuarenta (Armand), presintiendo que las dificultades técnicas que desde 50 años habían impedido hacer buenas locomotoras a 50 Hz, estaban a punto de ser superadas. </a:t>
            </a:r>
            <a:r>
              <a:rPr b="1" i="1" lang="es-ES_tradnl" sz="2000" spc="-1" strike="noStrike">
                <a:solidFill>
                  <a:srgbClr val="000000"/>
                </a:solidFill>
                <a:latin typeface="Arial"/>
                <a:ea typeface="Arial Unicode MS"/>
              </a:rPr>
              <a:t>Y eso pasó con la llegada de la electrónica de potenc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Times New Roman"/>
              </a:rPr>
              <a:t>Después de algunas tentativas, la solución universalmente adoptada ha sido la de locomotoras equipadas de rectificadores con lo que nos encontramos con motores vecinos de los de corriente continua. Este sistema se ha extendido, pero no sustituido a los existentes, en Francia, Gran Bretaña, Portugal, Hungría, Turquía, Rusia, India, Japón y China. También existe en Argentina.</a:t>
            </a:r>
            <a:r>
              <a:rPr b="1" i="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99" name=""/>
          <p:cNvSpPr/>
          <p:nvPr/>
        </p:nvSpPr>
        <p:spPr>
          <a:xfrm>
            <a:off x="533520" y="233856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ea typeface="Arial Unicode MS"/>
              </a:rPr>
              <a:t>El uso de motores de inducción constituye la Tracción Asíncrona, que se emplea actual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01" name=""/>
          <p:cNvSpPr/>
          <p:nvPr/>
        </p:nvSpPr>
        <p:spPr>
          <a:xfrm>
            <a:off x="304920" y="609480"/>
            <a:ext cx="403848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igura se representa la curva de tracción característica de una máquina asíncrona trifásica en régimen motor y generador, con determinada frecuencia y t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cias a los medios de la electrónica de potencia y de mando, es posible alimentar a los motores de tracción con corriente de frecuencia y tensión variable, independientemente de la frecuencia y de la tensión en la catenaria,</a:t>
            </a:r>
            <a:endParaRPr b="0" lang="en-US" sz="2400" spc="-1" strike="noStrike">
              <a:solidFill>
                <a:srgbClr val="000000"/>
              </a:solidFill>
              <a:latin typeface="Times New Roman"/>
            </a:endParaRPr>
          </a:p>
        </p:txBody>
      </p:sp>
      <p:grpSp>
        <p:nvGrpSpPr>
          <p:cNvPr id="102" name=""/>
          <p:cNvGrpSpPr/>
          <p:nvPr/>
        </p:nvGrpSpPr>
        <p:grpSpPr>
          <a:xfrm>
            <a:off x="4654440" y="762120"/>
            <a:ext cx="4794480" cy="5645160"/>
            <a:chOff x="4654440" y="762120"/>
            <a:chExt cx="4794480" cy="5645160"/>
          </a:xfrm>
        </p:grpSpPr>
        <p:sp>
          <p:nvSpPr>
            <p:cNvPr id="103" name=""/>
            <p:cNvSpPr/>
            <p:nvPr/>
          </p:nvSpPr>
          <p:spPr>
            <a:xfrm>
              <a:off x="4995720" y="762120"/>
              <a:ext cx="50508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4" name=""/>
            <p:cNvSpPr/>
            <p:nvPr/>
          </p:nvSpPr>
          <p:spPr>
            <a:xfrm>
              <a:off x="7304040" y="1349280"/>
              <a:ext cx="214488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000" spc="-1" strike="noStrike">
                  <a:solidFill>
                    <a:srgbClr val="000000"/>
                  </a:solidFill>
                  <a:latin typeface="Times New Roman"/>
                </a:rPr>
                <a:t> </a:t>
              </a:r>
              <a:r>
                <a:rPr b="0" lang="es-ES" sz="1000" spc="-1" strike="noStrike">
                  <a:solidFill>
                    <a:srgbClr val="000000"/>
                  </a:solidFill>
                  <a:latin typeface="Times New Roman"/>
                </a:rPr>
                <a:t>máx. regimen  tracción</a:t>
              </a:r>
              <a:endParaRPr b="0" lang="en-US" sz="1000" spc="-1" strike="noStrike">
                <a:solidFill>
                  <a:srgbClr val="000000"/>
                </a:solidFill>
                <a:latin typeface="Times New Roman"/>
              </a:endParaRPr>
            </a:p>
          </p:txBody>
        </p:sp>
        <p:sp>
          <p:nvSpPr>
            <p:cNvPr id="105" name=""/>
            <p:cNvSpPr/>
            <p:nvPr/>
          </p:nvSpPr>
          <p:spPr>
            <a:xfrm>
              <a:off x="8105760" y="3368520"/>
              <a:ext cx="504720" cy="37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06" name=""/>
            <p:cNvSpPr/>
            <p:nvPr/>
          </p:nvSpPr>
          <p:spPr>
            <a:xfrm>
              <a:off x="7319880" y="3524400"/>
              <a:ext cx="505080" cy="37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a:t>
              </a:r>
              <a:r>
                <a:rPr b="0"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07" name=""/>
            <p:cNvSpPr/>
            <p:nvPr/>
          </p:nvSpPr>
          <p:spPr>
            <a:xfrm flipV="1">
              <a:off x="5284800" y="1222200"/>
              <a:ext cx="0" cy="239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84800" y="3621240"/>
              <a:ext cx="290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284800" y="1370160"/>
              <a:ext cx="2903400" cy="4311360"/>
            </a:xfrm>
            <a:custGeom>
              <a:avLst/>
              <a:gdLst/>
              <a:ahLst/>
              <a:rect l="l" t="t" r="r" b="b"/>
              <a:pathLst>
                <a:path w="3312" h="4920">
                  <a:moveTo>
                    <a:pt x="0" y="1128"/>
                  </a:moveTo>
                  <a:cubicBezTo>
                    <a:pt x="348" y="1104"/>
                    <a:pt x="696" y="1080"/>
                    <a:pt x="1008" y="984"/>
                  </a:cubicBezTo>
                  <a:cubicBezTo>
                    <a:pt x="1320" y="888"/>
                    <a:pt x="1584" y="0"/>
                    <a:pt x="1872" y="552"/>
                  </a:cubicBezTo>
                  <a:cubicBezTo>
                    <a:pt x="2160" y="1104"/>
                    <a:pt x="2496" y="3672"/>
                    <a:pt x="2736" y="4296"/>
                  </a:cubicBezTo>
                  <a:cubicBezTo>
                    <a:pt x="2976" y="4920"/>
                    <a:pt x="3144" y="4608"/>
                    <a:pt x="3312" y="4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654440" y="1854360"/>
              <a:ext cx="378000" cy="163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11" name=""/>
            <p:cNvSpPr/>
            <p:nvPr/>
          </p:nvSpPr>
          <p:spPr>
            <a:xfrm>
              <a:off x="4654440" y="3873600"/>
              <a:ext cx="378000" cy="163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112" name=""/>
            <p:cNvSpPr/>
            <p:nvPr/>
          </p:nvSpPr>
          <p:spPr>
            <a:xfrm>
              <a:off x="5789520" y="2736720"/>
              <a:ext cx="757440" cy="37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otor</a:t>
              </a:r>
              <a:endParaRPr b="0" lang="en-US" sz="1000" spc="-1" strike="noStrike">
                <a:solidFill>
                  <a:srgbClr val="000000"/>
                </a:solidFill>
                <a:latin typeface="Times New Roman"/>
              </a:endParaRPr>
            </a:p>
          </p:txBody>
        </p:sp>
        <p:sp>
          <p:nvSpPr>
            <p:cNvPr id="113" name=""/>
            <p:cNvSpPr/>
            <p:nvPr/>
          </p:nvSpPr>
          <p:spPr>
            <a:xfrm>
              <a:off x="5789520" y="4125960"/>
              <a:ext cx="1009800" cy="377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dor</a:t>
              </a:r>
              <a:endParaRPr b="0" lang="en-US" sz="1000" spc="-1" strike="noStrike">
                <a:solidFill>
                  <a:srgbClr val="000000"/>
                </a:solidFill>
                <a:latin typeface="Times New Roman"/>
              </a:endParaRPr>
            </a:p>
          </p:txBody>
        </p:sp>
        <p:sp>
          <p:nvSpPr>
            <p:cNvPr id="114" name=""/>
            <p:cNvSpPr/>
            <p:nvPr/>
          </p:nvSpPr>
          <p:spPr>
            <a:xfrm>
              <a:off x="5442120" y="5135400"/>
              <a:ext cx="214452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000" spc="-1" strike="noStrike">
                  <a:solidFill>
                    <a:srgbClr val="000000"/>
                  </a:solidFill>
                  <a:latin typeface="Times New Roman"/>
                </a:rPr>
                <a:t> </a:t>
              </a:r>
              <a:r>
                <a:rPr b="0" lang="es-ES" sz="1000" spc="-1" strike="noStrike">
                  <a:solidFill>
                    <a:srgbClr val="000000"/>
                  </a:solidFill>
                  <a:latin typeface="Times New Roman"/>
                </a:rPr>
                <a:t>máx. regimen  frenado</a:t>
              </a:r>
              <a:endParaRPr b="0" lang="en-US" sz="1000" spc="-1" strike="noStrike">
                <a:solidFill>
                  <a:srgbClr val="000000"/>
                </a:solidFill>
                <a:latin typeface="Times New Roman"/>
              </a:endParaRPr>
            </a:p>
          </p:txBody>
        </p:sp>
        <p:sp>
          <p:nvSpPr>
            <p:cNvPr id="115" name=""/>
            <p:cNvSpPr/>
            <p:nvPr/>
          </p:nvSpPr>
          <p:spPr>
            <a:xfrm flipH="1">
              <a:off x="6881760" y="1674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45440" y="54831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035680" y="5715000"/>
              <a:ext cx="3786120" cy="69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áquina asíncrona en regimen motor y generado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19" name=""/>
          <p:cNvSpPr/>
          <p:nvPr/>
        </p:nvSpPr>
        <p:spPr>
          <a:xfrm>
            <a:off x="457200" y="936720"/>
            <a:ext cx="25909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lega así a una familia de curvas torque–velocidad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da una de ellas con un punto de operación estable. Estos puntos en su conjunto forman una “curva sintética” de tracción.</a:t>
            </a:r>
            <a:endParaRPr b="0" lang="en-US" sz="2400" spc="-1" strike="noStrike">
              <a:solidFill>
                <a:srgbClr val="000000"/>
              </a:solidFill>
              <a:latin typeface="Times New Roman"/>
            </a:endParaRPr>
          </a:p>
        </p:txBody>
      </p:sp>
      <p:grpSp>
        <p:nvGrpSpPr>
          <p:cNvPr id="120" name=""/>
          <p:cNvGrpSpPr/>
          <p:nvPr/>
        </p:nvGrpSpPr>
        <p:grpSpPr>
          <a:xfrm>
            <a:off x="3429000" y="1189080"/>
            <a:ext cx="5830560" cy="5059080"/>
            <a:chOff x="3429000" y="1189080"/>
            <a:chExt cx="5830560" cy="5059080"/>
          </a:xfrm>
        </p:grpSpPr>
        <p:sp>
          <p:nvSpPr>
            <p:cNvPr id="121" name=""/>
            <p:cNvSpPr/>
            <p:nvPr/>
          </p:nvSpPr>
          <p:spPr>
            <a:xfrm>
              <a:off x="8573760" y="4897800"/>
              <a:ext cx="68580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2" name=""/>
            <p:cNvSpPr/>
            <p:nvPr/>
          </p:nvSpPr>
          <p:spPr>
            <a:xfrm>
              <a:off x="3429000" y="1189080"/>
              <a:ext cx="685800" cy="85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flipV="1">
              <a:off x="3771720" y="1793160"/>
              <a:ext cx="0" cy="34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71720" y="5220360"/>
              <a:ext cx="49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71720" y="1821960"/>
              <a:ext cx="1886400" cy="3398040"/>
            </a:xfrm>
            <a:custGeom>
              <a:avLst/>
              <a:gdLst/>
              <a:ahLst/>
              <a:rect l="l" t="t" r="r" b="b"/>
              <a:pathLst>
                <a:path w="1584" h="2856">
                  <a:moveTo>
                    <a:pt x="0" y="1560"/>
                  </a:moveTo>
                  <a:cubicBezTo>
                    <a:pt x="192" y="1524"/>
                    <a:pt x="384" y="1488"/>
                    <a:pt x="576" y="1272"/>
                  </a:cubicBezTo>
                  <a:cubicBezTo>
                    <a:pt x="768" y="1056"/>
                    <a:pt x="984" y="0"/>
                    <a:pt x="1152" y="264"/>
                  </a:cubicBezTo>
                  <a:cubicBezTo>
                    <a:pt x="1320" y="528"/>
                    <a:pt x="1452" y="1692"/>
                    <a:pt x="1584" y="28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300560" y="1854000"/>
              <a:ext cx="1886400" cy="3398040"/>
            </a:xfrm>
            <a:custGeom>
              <a:avLst/>
              <a:gdLst/>
              <a:ahLst/>
              <a:rect l="l" t="t" r="r" b="b"/>
              <a:pathLst>
                <a:path w="1584" h="2856">
                  <a:moveTo>
                    <a:pt x="0" y="1560"/>
                  </a:moveTo>
                  <a:cubicBezTo>
                    <a:pt x="192" y="1524"/>
                    <a:pt x="384" y="1488"/>
                    <a:pt x="576" y="1272"/>
                  </a:cubicBezTo>
                  <a:cubicBezTo>
                    <a:pt x="768" y="1056"/>
                    <a:pt x="984" y="0"/>
                    <a:pt x="1152" y="264"/>
                  </a:cubicBezTo>
                  <a:cubicBezTo>
                    <a:pt x="1320" y="528"/>
                    <a:pt x="1452" y="1692"/>
                    <a:pt x="1584" y="28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72320" y="2364480"/>
              <a:ext cx="1886400" cy="2855520"/>
            </a:xfrm>
            <a:custGeom>
              <a:avLst/>
              <a:gdLst/>
              <a:ahLst/>
              <a:rect l="l" t="t" r="r" b="b"/>
              <a:pathLst>
                <a:path w="1584" h="2400">
                  <a:moveTo>
                    <a:pt x="0" y="1392"/>
                  </a:moveTo>
                  <a:cubicBezTo>
                    <a:pt x="276" y="1272"/>
                    <a:pt x="552" y="1152"/>
                    <a:pt x="720" y="960"/>
                  </a:cubicBezTo>
                  <a:cubicBezTo>
                    <a:pt x="888" y="768"/>
                    <a:pt x="864" y="0"/>
                    <a:pt x="1008" y="240"/>
                  </a:cubicBezTo>
                  <a:cubicBezTo>
                    <a:pt x="1152" y="480"/>
                    <a:pt x="1368" y="1440"/>
                    <a:pt x="1584" y="24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15400" y="3306960"/>
              <a:ext cx="2229480" cy="1913400"/>
            </a:xfrm>
            <a:custGeom>
              <a:avLst/>
              <a:gdLst/>
              <a:ahLst/>
              <a:rect l="l" t="t" r="r" b="b"/>
              <a:pathLst>
                <a:path w="1872" h="1608">
                  <a:moveTo>
                    <a:pt x="0" y="888"/>
                  </a:moveTo>
                  <a:cubicBezTo>
                    <a:pt x="324" y="804"/>
                    <a:pt x="648" y="720"/>
                    <a:pt x="864" y="600"/>
                  </a:cubicBezTo>
                  <a:cubicBezTo>
                    <a:pt x="1080" y="480"/>
                    <a:pt x="1128" y="0"/>
                    <a:pt x="1296" y="168"/>
                  </a:cubicBezTo>
                  <a:cubicBezTo>
                    <a:pt x="1464" y="336"/>
                    <a:pt x="1776" y="1368"/>
                    <a:pt x="1872" y="1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172920" y="3706920"/>
              <a:ext cx="1886400" cy="1513440"/>
            </a:xfrm>
            <a:custGeom>
              <a:avLst/>
              <a:gdLst/>
              <a:ahLst/>
              <a:rect l="l" t="t" r="r" b="b"/>
              <a:pathLst>
                <a:path w="1584" h="1272">
                  <a:moveTo>
                    <a:pt x="0" y="696"/>
                  </a:moveTo>
                  <a:cubicBezTo>
                    <a:pt x="60" y="672"/>
                    <a:pt x="120" y="648"/>
                    <a:pt x="288" y="552"/>
                  </a:cubicBezTo>
                  <a:cubicBezTo>
                    <a:pt x="456" y="456"/>
                    <a:pt x="792" y="0"/>
                    <a:pt x="1008" y="120"/>
                  </a:cubicBezTo>
                  <a:cubicBezTo>
                    <a:pt x="1224" y="240"/>
                    <a:pt x="1488" y="1080"/>
                    <a:pt x="1584" y="12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71720" y="3335400"/>
              <a:ext cx="1543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15400" y="3335400"/>
              <a:ext cx="3087000" cy="1541880"/>
            </a:xfrm>
            <a:custGeom>
              <a:avLst/>
              <a:gdLst/>
              <a:ahLst/>
              <a:rect l="l" t="t" r="r" b="b"/>
              <a:pathLst>
                <a:path w="2592" h="1296">
                  <a:moveTo>
                    <a:pt x="0" y="0"/>
                  </a:moveTo>
                  <a:cubicBezTo>
                    <a:pt x="72" y="324"/>
                    <a:pt x="144" y="648"/>
                    <a:pt x="576" y="864"/>
                  </a:cubicBezTo>
                  <a:cubicBezTo>
                    <a:pt x="1008" y="1080"/>
                    <a:pt x="1800" y="1188"/>
                    <a:pt x="2592" y="129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11480" y="329508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3" name=""/>
            <p:cNvSpPr/>
            <p:nvPr/>
          </p:nvSpPr>
          <p:spPr>
            <a:xfrm>
              <a:off x="6667200" y="457524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4" name=""/>
            <p:cNvSpPr/>
            <p:nvPr/>
          </p:nvSpPr>
          <p:spPr>
            <a:xfrm>
              <a:off x="7332840" y="470628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 name=""/>
            <p:cNvSpPr/>
            <p:nvPr/>
          </p:nvSpPr>
          <p:spPr>
            <a:xfrm>
              <a:off x="7847280" y="477648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6" name=""/>
            <p:cNvSpPr/>
            <p:nvPr/>
          </p:nvSpPr>
          <p:spPr>
            <a:xfrm>
              <a:off x="5466600" y="391032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7" name=""/>
            <p:cNvSpPr/>
            <p:nvPr/>
          </p:nvSpPr>
          <p:spPr>
            <a:xfrm>
              <a:off x="6071400" y="438372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 name=""/>
            <p:cNvSpPr/>
            <p:nvPr/>
          </p:nvSpPr>
          <p:spPr>
            <a:xfrm>
              <a:off x="3771720" y="1793520"/>
              <a:ext cx="1371960" cy="3426840"/>
            </a:xfrm>
            <a:custGeom>
              <a:avLst/>
              <a:gdLst/>
              <a:ahLst/>
              <a:rect l="l" t="t" r="r" b="b"/>
              <a:pathLst>
                <a:path w="1152" h="3000">
                  <a:moveTo>
                    <a:pt x="0" y="1272"/>
                  </a:moveTo>
                  <a:cubicBezTo>
                    <a:pt x="96" y="1260"/>
                    <a:pt x="192" y="1248"/>
                    <a:pt x="288" y="1128"/>
                  </a:cubicBezTo>
                  <a:cubicBezTo>
                    <a:pt x="384" y="1008"/>
                    <a:pt x="480" y="672"/>
                    <a:pt x="576" y="552"/>
                  </a:cubicBezTo>
                  <a:cubicBezTo>
                    <a:pt x="672" y="432"/>
                    <a:pt x="768" y="0"/>
                    <a:pt x="864" y="408"/>
                  </a:cubicBezTo>
                  <a:cubicBezTo>
                    <a:pt x="960" y="816"/>
                    <a:pt x="1056" y="1908"/>
                    <a:pt x="1152" y="30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86160" y="5563080"/>
              <a:ext cx="3772800" cy="68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tor asíncrono alimentado con tensión y frecuencia vari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257800" y="138240"/>
            <a:ext cx="37339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ea typeface="Times New Roman"/>
              </a:rPr>
              <a:t>HISTORIA DE LA TRACCION ELECTRICA</a:t>
            </a:r>
            <a:r>
              <a:rPr b="1" lang="es-ES" sz="1400" spc="-1" strike="noStrike">
                <a:solidFill>
                  <a:srgbClr val="0066ff"/>
                </a:solidFill>
                <a:latin typeface="Arial"/>
              </a:rPr>
              <a:t> </a:t>
            </a:r>
            <a:endParaRPr b="0" lang="en-US" sz="1400" spc="-1" strike="noStrike">
              <a:solidFill>
                <a:srgbClr val="000000"/>
              </a:solidFill>
              <a:latin typeface="Times New Roman"/>
            </a:endParaRPr>
          </a:p>
        </p:txBody>
      </p:sp>
      <p:sp>
        <p:nvSpPr>
          <p:cNvPr id="48" name=""/>
          <p:cNvSpPr/>
          <p:nvPr/>
        </p:nvSpPr>
        <p:spPr>
          <a:xfrm>
            <a:off x="533520" y="762120"/>
            <a:ext cx="8153280" cy="60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Arial Unicode MS"/>
              </a:rPr>
              <a:t>La tracción eléctrica nació en Berlín en 1870. Se trataba de un pequeño tractor de 3 CV construido por Siemen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En 1890 empieza a funcionar en Londres el primer ferrocarril metropolitano eléctr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En 1914, la Compañía Baltimore Ohio efectúa la primera electrificación de una red ferroviaria en el mund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La Tracción Eléctrica se desarrolló gracias al impulso de importantes empresas de prestigio mundial (Westinghouse, General Electric, Siemens, Brown Boveri,...) a diferencia de la tracción a vapor que fue obra de persona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Arial Unicode MS"/>
              </a:rPr>
              <a:t>Su implantación primera se debió a la incapacidad de la tracción a vapor para resolver problemas específicos y puntuales: fuertes rampas, largos túneles.</a:t>
            </a:r>
            <a:r>
              <a:rPr b="0" lang="es-ES_tradnl" sz="2000" spc="-1" strike="noStrike">
                <a:solidFill>
                  <a:srgbClr val="000000"/>
                </a:solidFill>
                <a:latin typeface="Arial"/>
                <a:ea typeface="Arial Unicode MS"/>
              </a:rPr>
              <a:t> Por ello, hasta la Primera Guerra Mundial las electrificaciones tenían un carácter local, su desarrollo era muy limitad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dríamos decir que era el mismo problema que electrificar un pueblo en medio del desierto.</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49" name=""/>
          <p:cNvSpPr/>
          <p:nvPr/>
        </p:nvSpPr>
        <p:spPr>
          <a:xfrm>
            <a:off x="533520" y="3808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IS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41" name=""/>
          <p:cNvSpPr/>
          <p:nvPr/>
        </p:nvSpPr>
        <p:spPr>
          <a:xfrm>
            <a:off x="609480" y="7621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esquema simplificado de bloques para una locomotora con motores de tracción  trifásicos para servicio de corriente alterna monofásica en la catenaria es el siguiente:</a:t>
            </a:r>
            <a:endParaRPr b="0" lang="en-US" sz="2400" spc="-1" strike="noStrike">
              <a:solidFill>
                <a:srgbClr val="000000"/>
              </a:solidFill>
              <a:latin typeface="Times New Roman"/>
            </a:endParaRPr>
          </a:p>
        </p:txBody>
      </p:sp>
      <p:grpSp>
        <p:nvGrpSpPr>
          <p:cNvPr id="142" name=""/>
          <p:cNvGrpSpPr/>
          <p:nvPr/>
        </p:nvGrpSpPr>
        <p:grpSpPr>
          <a:xfrm>
            <a:off x="838080" y="2362320"/>
            <a:ext cx="7410240" cy="4289040"/>
            <a:chOff x="838080" y="2362320"/>
            <a:chExt cx="7410240" cy="4289040"/>
          </a:xfrm>
        </p:grpSpPr>
        <p:sp>
          <p:nvSpPr>
            <p:cNvPr id="143" name=""/>
            <p:cNvSpPr/>
            <p:nvPr/>
          </p:nvSpPr>
          <p:spPr>
            <a:xfrm>
              <a:off x="1581120" y="6034680"/>
              <a:ext cx="6667200" cy="61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quema de bloques simplificado de una locomotora eléctrica con motor asíncrono y alimentado con corriente alterna monofásica. Locomotora eléctrica mono / trifásica.</a:t>
              </a:r>
              <a:endParaRPr b="0" lang="en-US" sz="1400" spc="-1" strike="noStrike">
                <a:solidFill>
                  <a:srgbClr val="000000"/>
                </a:solidFill>
                <a:latin typeface="Times New Roman"/>
              </a:endParaRPr>
            </a:p>
          </p:txBody>
        </p:sp>
        <p:grpSp>
          <p:nvGrpSpPr>
            <p:cNvPr id="144" name=""/>
            <p:cNvGrpSpPr/>
            <p:nvPr/>
          </p:nvGrpSpPr>
          <p:grpSpPr>
            <a:xfrm>
              <a:off x="838080" y="2362320"/>
              <a:ext cx="7223400" cy="3534120"/>
              <a:chOff x="838080" y="2362320"/>
              <a:chExt cx="7223400" cy="3534120"/>
            </a:xfrm>
          </p:grpSpPr>
          <p:sp>
            <p:nvSpPr>
              <p:cNvPr id="145" name=""/>
              <p:cNvSpPr/>
              <p:nvPr/>
            </p:nvSpPr>
            <p:spPr>
              <a:xfrm>
                <a:off x="4142520" y="2514600"/>
                <a:ext cx="101664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tenaria</a:t>
                </a:r>
                <a:endParaRPr b="0" lang="en-US" sz="1200" spc="-1" strike="noStrike">
                  <a:solidFill>
                    <a:srgbClr val="000000"/>
                  </a:solidFill>
                  <a:latin typeface="Times New Roman"/>
                </a:endParaRPr>
              </a:p>
            </p:txBody>
          </p:sp>
          <p:sp>
            <p:nvSpPr>
              <p:cNvPr id="146" name=""/>
              <p:cNvSpPr/>
              <p:nvPr/>
            </p:nvSpPr>
            <p:spPr>
              <a:xfrm>
                <a:off x="1702080" y="2826720"/>
                <a:ext cx="123444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antógrafo</a:t>
                </a:r>
                <a:endParaRPr b="0" lang="en-US" sz="1000" spc="-1" strike="noStrike">
                  <a:solidFill>
                    <a:srgbClr val="000000"/>
                  </a:solidFill>
                  <a:latin typeface="Times New Roman"/>
                </a:endParaRPr>
              </a:p>
            </p:txBody>
          </p:sp>
          <p:sp>
            <p:nvSpPr>
              <p:cNvPr id="147" name=""/>
              <p:cNvSpPr/>
              <p:nvPr/>
            </p:nvSpPr>
            <p:spPr>
              <a:xfrm>
                <a:off x="963720" y="2362320"/>
                <a:ext cx="283968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5 Kv. 16 2/3 Hz, corriente alterna 1</a:t>
                </a: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nvGrpSpPr>
              <p:cNvPr id="148" name=""/>
              <p:cNvGrpSpPr/>
              <p:nvPr/>
            </p:nvGrpSpPr>
            <p:grpSpPr>
              <a:xfrm>
                <a:off x="838080" y="2696400"/>
                <a:ext cx="7223400" cy="2422080"/>
                <a:chOff x="838080" y="2696400"/>
                <a:chExt cx="7223400" cy="2422080"/>
              </a:xfrm>
            </p:grpSpPr>
            <p:grpSp>
              <p:nvGrpSpPr>
                <p:cNvPr id="149" name=""/>
                <p:cNvGrpSpPr/>
                <p:nvPr/>
              </p:nvGrpSpPr>
              <p:grpSpPr>
                <a:xfrm>
                  <a:off x="838080" y="2696400"/>
                  <a:ext cx="7223400" cy="2278080"/>
                  <a:chOff x="838080" y="2696400"/>
                  <a:chExt cx="7223400" cy="2278080"/>
                </a:xfrm>
              </p:grpSpPr>
              <p:grpSp>
                <p:nvGrpSpPr>
                  <p:cNvPr id="150" name=""/>
                  <p:cNvGrpSpPr/>
                  <p:nvPr/>
                </p:nvGrpSpPr>
                <p:grpSpPr>
                  <a:xfrm>
                    <a:off x="838080" y="2696400"/>
                    <a:ext cx="3111840" cy="2224440"/>
                    <a:chOff x="838080" y="2696400"/>
                    <a:chExt cx="3111840" cy="2224440"/>
                  </a:xfrm>
                </p:grpSpPr>
                <p:grpSp>
                  <p:nvGrpSpPr>
                    <p:cNvPr id="151" name=""/>
                    <p:cNvGrpSpPr/>
                    <p:nvPr/>
                  </p:nvGrpSpPr>
                  <p:grpSpPr>
                    <a:xfrm>
                      <a:off x="1883880" y="3341160"/>
                      <a:ext cx="312840" cy="1579680"/>
                      <a:chOff x="1883880" y="3341160"/>
                      <a:chExt cx="312840" cy="1579680"/>
                    </a:xfrm>
                  </p:grpSpPr>
                  <p:sp>
                    <p:nvSpPr>
                      <p:cNvPr id="152" name=""/>
                      <p:cNvSpPr/>
                      <p:nvPr/>
                    </p:nvSpPr>
                    <p:spPr>
                      <a:xfrm>
                        <a:off x="1883880" y="3479040"/>
                        <a:ext cx="110880" cy="4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2085840" y="3908520"/>
                        <a:ext cx="110880" cy="862200"/>
                        <a:chOff x="2085840" y="3908520"/>
                        <a:chExt cx="110880" cy="862200"/>
                      </a:xfrm>
                    </p:grpSpPr>
                    <p:grpSp>
                      <p:nvGrpSpPr>
                        <p:cNvPr id="154" name=""/>
                        <p:cNvGrpSpPr/>
                        <p:nvPr/>
                      </p:nvGrpSpPr>
                      <p:grpSpPr>
                        <a:xfrm>
                          <a:off x="2085840" y="4176000"/>
                          <a:ext cx="110880" cy="345960"/>
                          <a:chOff x="2085840" y="4176000"/>
                          <a:chExt cx="110880" cy="345960"/>
                        </a:xfrm>
                      </p:grpSpPr>
                      <p:sp>
                        <p:nvSpPr>
                          <p:cNvPr id="155" name=""/>
                          <p:cNvSpPr/>
                          <p:nvPr/>
                        </p:nvSpPr>
                        <p:spPr>
                          <a:xfrm>
                            <a:off x="2085840" y="417600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6" name=""/>
                          <p:cNvSpPr/>
                          <p:nvPr/>
                        </p:nvSpPr>
                        <p:spPr>
                          <a:xfrm>
                            <a:off x="2085840" y="424980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 name=""/>
                          <p:cNvSpPr/>
                          <p:nvPr/>
                        </p:nvSpPr>
                        <p:spPr>
                          <a:xfrm>
                            <a:off x="2085840" y="432828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8" name=""/>
                          <p:cNvSpPr/>
                          <p:nvPr/>
                        </p:nvSpPr>
                        <p:spPr>
                          <a:xfrm>
                            <a:off x="2085840" y="441108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59" name=""/>
                        <p:cNvSpPr/>
                        <p:nvPr/>
                      </p:nvSpPr>
                      <p:spPr>
                        <a:xfrm flipV="1">
                          <a:off x="2138040" y="3908520"/>
                          <a:ext cx="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2138040" y="4521960"/>
                          <a:ext cx="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883880" y="4160160"/>
                        <a:ext cx="110880" cy="345960"/>
                        <a:chOff x="1883880" y="4160160"/>
                        <a:chExt cx="110880" cy="345960"/>
                      </a:xfrm>
                    </p:grpSpPr>
                    <p:sp>
                      <p:nvSpPr>
                        <p:cNvPr id="162" name=""/>
                        <p:cNvSpPr/>
                        <p:nvPr/>
                      </p:nvSpPr>
                      <p:spPr>
                        <a:xfrm>
                          <a:off x="1883880" y="416016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 name=""/>
                        <p:cNvSpPr/>
                        <p:nvPr/>
                      </p:nvSpPr>
                      <p:spPr>
                        <a:xfrm>
                          <a:off x="1883880" y="423396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 name=""/>
                        <p:cNvSpPr/>
                        <p:nvPr/>
                      </p:nvSpPr>
                      <p:spPr>
                        <a:xfrm>
                          <a:off x="1883880" y="431244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 name=""/>
                        <p:cNvSpPr/>
                        <p:nvPr/>
                      </p:nvSpPr>
                      <p:spPr>
                        <a:xfrm>
                          <a:off x="1883880" y="439524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66" name=""/>
                      <p:cNvSpPr/>
                      <p:nvPr/>
                    </p:nvSpPr>
                    <p:spPr>
                      <a:xfrm flipV="1">
                        <a:off x="1936080" y="3341160"/>
                        <a:ext cx="0" cy="10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1936080" y="4505760"/>
                        <a:ext cx="0" cy="41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909800" y="3798720"/>
                        <a:ext cx="5688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1909800" y="3537360"/>
                        <a:ext cx="5688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170" name=""/>
                    <p:cNvSpPr/>
                    <p:nvPr/>
                  </p:nvSpPr>
                  <p:spPr>
                    <a:xfrm>
                      <a:off x="1393560" y="3029040"/>
                      <a:ext cx="55548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1393560" y="2696400"/>
                      <a:ext cx="55548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38080" y="2696400"/>
                      <a:ext cx="311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2132280" y="392328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32280" y="478476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3008160" y="3740040"/>
                    <a:ext cx="1333440" cy="1221120"/>
                    <a:chOff x="3008160" y="3740040"/>
                    <a:chExt cx="1333440" cy="1221120"/>
                  </a:xfrm>
                </p:grpSpPr>
                <p:sp>
                  <p:nvSpPr>
                    <p:cNvPr id="176" name=""/>
                    <p:cNvSpPr/>
                    <p:nvPr/>
                  </p:nvSpPr>
                  <p:spPr>
                    <a:xfrm>
                      <a:off x="3008160" y="3740400"/>
                      <a:ext cx="1333440" cy="12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3008160" y="3740040"/>
                      <a:ext cx="1333440" cy="12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5217840" y="3753360"/>
                    <a:ext cx="1333440" cy="1221120"/>
                    <a:chOff x="5217840" y="3753360"/>
                    <a:chExt cx="1333440" cy="1221120"/>
                  </a:xfrm>
                </p:grpSpPr>
                <p:sp>
                  <p:nvSpPr>
                    <p:cNvPr id="179" name=""/>
                    <p:cNvSpPr/>
                    <p:nvPr/>
                  </p:nvSpPr>
                  <p:spPr>
                    <a:xfrm>
                      <a:off x="5217840" y="3753720"/>
                      <a:ext cx="1333440" cy="12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5217840" y="3753360"/>
                      <a:ext cx="1333440" cy="12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4341960" y="414756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348800" y="464688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545160" y="435384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72640" y="3968640"/>
                    <a:ext cx="888840" cy="776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5900040" y="4582800"/>
                  <a:ext cx="447480" cy="12312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07320" y="3936960"/>
                  <a:ext cx="447480" cy="12312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529960" y="3980520"/>
                  <a:ext cx="370080" cy="79560"/>
                  <a:chOff x="5529960" y="3980520"/>
                  <a:chExt cx="370080" cy="79560"/>
                </a:xfrm>
              </p:grpSpPr>
              <p:sp>
                <p:nvSpPr>
                  <p:cNvPr id="188" name=""/>
                  <p:cNvSpPr/>
                  <p:nvPr/>
                </p:nvSpPr>
                <p:spPr>
                  <a:xfrm>
                    <a:off x="5529960" y="398052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529960" y="406008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3677760" y="4553640"/>
                  <a:ext cx="370080" cy="79560"/>
                  <a:chOff x="3677760" y="4553640"/>
                  <a:chExt cx="370080" cy="79560"/>
                </a:xfrm>
              </p:grpSpPr>
              <p:sp>
                <p:nvSpPr>
                  <p:cNvPr id="191" name=""/>
                  <p:cNvSpPr/>
                  <p:nvPr/>
                </p:nvSpPr>
                <p:spPr>
                  <a:xfrm>
                    <a:off x="3677760" y="455364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677760" y="463320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7399080" y="4277880"/>
                  <a:ext cx="447480" cy="12312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655680" y="4227480"/>
                  <a:ext cx="420840" cy="267840"/>
                  <a:chOff x="6655680" y="4227480"/>
                  <a:chExt cx="420840" cy="267840"/>
                </a:xfrm>
              </p:grpSpPr>
              <p:sp>
                <p:nvSpPr>
                  <p:cNvPr id="195" name=""/>
                  <p:cNvSpPr/>
                  <p:nvPr/>
                </p:nvSpPr>
                <p:spPr>
                  <a:xfrm flipH="1">
                    <a:off x="6655680" y="4227480"/>
                    <a:ext cx="24696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6735240" y="4233960"/>
                    <a:ext cx="24696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829560" y="4248720"/>
                    <a:ext cx="24696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1833480" y="4924080"/>
                  <a:ext cx="194400" cy="1944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193760" y="5112360"/>
                  <a:ext cx="148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1208160" y="5294520"/>
                <a:ext cx="135792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ransformador</a:t>
                </a:r>
                <a:endParaRPr b="0" lang="en-US" sz="1000" spc="-1" strike="noStrike">
                  <a:solidFill>
                    <a:srgbClr val="000000"/>
                  </a:solidFill>
                  <a:latin typeface="Times New Roman"/>
                </a:endParaRPr>
              </a:p>
            </p:txBody>
          </p:sp>
          <p:sp>
            <p:nvSpPr>
              <p:cNvPr id="201" name=""/>
              <p:cNvSpPr/>
              <p:nvPr/>
            </p:nvSpPr>
            <p:spPr>
              <a:xfrm>
                <a:off x="3060360" y="5294520"/>
                <a:ext cx="135792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ctificador</a:t>
                </a:r>
                <a:endParaRPr b="0" lang="en-US" sz="1000" spc="-1" strike="noStrike">
                  <a:solidFill>
                    <a:srgbClr val="000000"/>
                  </a:solidFill>
                  <a:latin typeface="Times New Roman"/>
                </a:endParaRPr>
              </a:p>
            </p:txBody>
          </p:sp>
          <p:sp>
            <p:nvSpPr>
              <p:cNvPr id="202" name=""/>
              <p:cNvSpPr/>
              <p:nvPr/>
            </p:nvSpPr>
            <p:spPr>
              <a:xfrm>
                <a:off x="5283000" y="5294520"/>
                <a:ext cx="135792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Ondulador</a:t>
                </a:r>
                <a:endParaRPr b="0" lang="en-US" sz="1000" spc="-1" strike="noStrike">
                  <a:solidFill>
                    <a:srgbClr val="000000"/>
                  </a:solidFill>
                  <a:latin typeface="Times New Roman"/>
                </a:endParaRPr>
              </a:p>
            </p:txBody>
          </p:sp>
          <p:sp>
            <p:nvSpPr>
              <p:cNvPr id="203" name=""/>
              <p:cNvSpPr/>
              <p:nvPr/>
            </p:nvSpPr>
            <p:spPr>
              <a:xfrm>
                <a:off x="7069680" y="5156280"/>
                <a:ext cx="987480" cy="74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otor de tracción asíncrono</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205" name=""/>
          <p:cNvSpPr/>
          <p:nvPr/>
        </p:nvSpPr>
        <p:spPr>
          <a:xfrm>
            <a:off x="838080" y="990720"/>
            <a:ext cx="7467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la alimentación es en corriente continua:</a:t>
            </a:r>
            <a:endParaRPr b="0" lang="en-US" sz="2400" spc="-1" strike="noStrike">
              <a:solidFill>
                <a:srgbClr val="000000"/>
              </a:solidFill>
              <a:latin typeface="Times New Roman"/>
            </a:endParaRPr>
          </a:p>
        </p:txBody>
      </p:sp>
      <p:grpSp>
        <p:nvGrpSpPr>
          <p:cNvPr id="206" name=""/>
          <p:cNvGrpSpPr/>
          <p:nvPr/>
        </p:nvGrpSpPr>
        <p:grpSpPr>
          <a:xfrm>
            <a:off x="1066680" y="1828800"/>
            <a:ext cx="6859440" cy="4923000"/>
            <a:chOff x="1066680" y="1828800"/>
            <a:chExt cx="6859440" cy="4923000"/>
          </a:xfrm>
        </p:grpSpPr>
        <p:sp>
          <p:nvSpPr>
            <p:cNvPr id="207" name=""/>
            <p:cNvSpPr/>
            <p:nvPr/>
          </p:nvSpPr>
          <p:spPr>
            <a:xfrm>
              <a:off x="5972400" y="4048920"/>
              <a:ext cx="58500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a:t>
              </a:r>
              <a:endParaRPr b="0" lang="en-US" sz="1000" spc="-1" strike="noStrike">
                <a:solidFill>
                  <a:srgbClr val="000000"/>
                </a:solidFill>
                <a:latin typeface="Times New Roman"/>
              </a:endParaRPr>
            </a:p>
          </p:txBody>
        </p:sp>
        <p:sp>
          <p:nvSpPr>
            <p:cNvPr id="208" name=""/>
            <p:cNvSpPr/>
            <p:nvPr/>
          </p:nvSpPr>
          <p:spPr>
            <a:xfrm>
              <a:off x="3011400" y="4393440"/>
              <a:ext cx="58500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c.</a:t>
              </a:r>
              <a:endParaRPr b="0" lang="en-US" sz="1000" spc="-1" strike="noStrike">
                <a:solidFill>
                  <a:srgbClr val="000000"/>
                </a:solidFill>
                <a:latin typeface="Times New Roman"/>
              </a:endParaRPr>
            </a:p>
          </p:txBody>
        </p:sp>
        <p:sp>
          <p:nvSpPr>
            <p:cNvPr id="209" name=""/>
            <p:cNvSpPr/>
            <p:nvPr/>
          </p:nvSpPr>
          <p:spPr>
            <a:xfrm>
              <a:off x="2366280" y="4410720"/>
              <a:ext cx="0" cy="73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881360" y="6020280"/>
              <a:ext cx="5752080" cy="7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squema de bloques simplificado de una locomotora eléctrica con motor asíncrono y alimentada con corriente continua.</a:t>
              </a:r>
              <a:endParaRPr b="0" lang="en-US" sz="1400" spc="-1" strike="noStrike">
                <a:solidFill>
                  <a:srgbClr val="000000"/>
                </a:solidFill>
                <a:latin typeface="Times New Roman"/>
              </a:endParaRPr>
            </a:p>
          </p:txBody>
        </p:sp>
        <p:grpSp>
          <p:nvGrpSpPr>
            <p:cNvPr id="211" name=""/>
            <p:cNvGrpSpPr/>
            <p:nvPr/>
          </p:nvGrpSpPr>
          <p:grpSpPr>
            <a:xfrm>
              <a:off x="1066680" y="1828800"/>
              <a:ext cx="5120640" cy="1004760"/>
              <a:chOff x="1066680" y="1828800"/>
              <a:chExt cx="5120640" cy="1004760"/>
            </a:xfrm>
          </p:grpSpPr>
          <p:sp>
            <p:nvSpPr>
              <p:cNvPr id="212" name=""/>
              <p:cNvSpPr/>
              <p:nvPr/>
            </p:nvSpPr>
            <p:spPr>
              <a:xfrm>
                <a:off x="4982400" y="1828800"/>
                <a:ext cx="120492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tenaria</a:t>
                </a:r>
                <a:endParaRPr b="0" lang="en-US" sz="1000" spc="-1" strike="noStrike">
                  <a:solidFill>
                    <a:srgbClr val="000000"/>
                  </a:solidFill>
                  <a:latin typeface="Times New Roman"/>
                </a:endParaRPr>
              </a:p>
            </p:txBody>
          </p:sp>
          <p:sp>
            <p:nvSpPr>
              <p:cNvPr id="213" name=""/>
              <p:cNvSpPr/>
              <p:nvPr/>
            </p:nvSpPr>
            <p:spPr>
              <a:xfrm>
                <a:off x="2090880" y="2198520"/>
                <a:ext cx="146304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antógrafo</a:t>
                </a:r>
                <a:endParaRPr b="0" lang="en-US" sz="1000" spc="-1" strike="noStrike">
                  <a:solidFill>
                    <a:srgbClr val="000000"/>
                  </a:solidFill>
                  <a:latin typeface="Times New Roman"/>
                </a:endParaRPr>
              </a:p>
            </p:txBody>
          </p:sp>
          <p:sp>
            <p:nvSpPr>
              <p:cNvPr id="214" name=""/>
              <p:cNvSpPr/>
              <p:nvPr/>
            </p:nvSpPr>
            <p:spPr>
              <a:xfrm>
                <a:off x="1725120" y="2439360"/>
                <a:ext cx="65808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725120" y="2043720"/>
                <a:ext cx="65808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066680" y="2044080"/>
                <a:ext cx="368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1488240" y="5058000"/>
              <a:ext cx="1755720" cy="230400"/>
              <a:chOff x="1488240" y="5058000"/>
              <a:chExt cx="1755720" cy="230400"/>
            </a:xfrm>
          </p:grpSpPr>
          <p:sp>
            <p:nvSpPr>
              <p:cNvPr id="218" name=""/>
              <p:cNvSpPr/>
              <p:nvPr/>
            </p:nvSpPr>
            <p:spPr>
              <a:xfrm>
                <a:off x="2246040" y="5058000"/>
                <a:ext cx="230400" cy="2304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88240" y="5281200"/>
                <a:ext cx="17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4116960" y="3280680"/>
              <a:ext cx="15800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116960" y="3280680"/>
              <a:ext cx="15800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89800" y="3993120"/>
              <a:ext cx="10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25880" y="4264200"/>
              <a:ext cx="530280" cy="14616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86680" y="3549960"/>
              <a:ext cx="4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86680" y="3644280"/>
              <a:ext cx="4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755760" y="3535560"/>
              <a:ext cx="1053720" cy="921600"/>
              <a:chOff x="6755760" y="3535560"/>
              <a:chExt cx="1053720" cy="921600"/>
            </a:xfrm>
          </p:grpSpPr>
          <p:sp>
            <p:nvSpPr>
              <p:cNvPr id="227" name=""/>
              <p:cNvSpPr/>
              <p:nvPr/>
            </p:nvSpPr>
            <p:spPr>
              <a:xfrm>
                <a:off x="6755760" y="3535560"/>
                <a:ext cx="1053720" cy="92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94440" y="3902400"/>
                <a:ext cx="530280" cy="14616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5964480" y="3842640"/>
              <a:ext cx="498240" cy="317520"/>
              <a:chOff x="5964480" y="3842640"/>
              <a:chExt cx="498240" cy="317520"/>
            </a:xfrm>
          </p:grpSpPr>
          <p:sp>
            <p:nvSpPr>
              <p:cNvPr id="230" name=""/>
              <p:cNvSpPr/>
              <p:nvPr/>
            </p:nvSpPr>
            <p:spPr>
              <a:xfrm flipH="1">
                <a:off x="5964480" y="3842640"/>
                <a:ext cx="29232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6058800" y="3850560"/>
                <a:ext cx="29232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170400" y="3867840"/>
                <a:ext cx="29232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a:off x="4194000" y="5107680"/>
              <a:ext cx="1609560" cy="4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Ondulador</a:t>
              </a:r>
              <a:endParaRPr b="0" lang="en-US" sz="1000" spc="-1" strike="noStrike">
                <a:solidFill>
                  <a:srgbClr val="000000"/>
                </a:solidFill>
                <a:latin typeface="Times New Roman"/>
              </a:endParaRPr>
            </a:p>
          </p:txBody>
        </p:sp>
        <p:sp>
          <p:nvSpPr>
            <p:cNvPr id="234" name=""/>
            <p:cNvSpPr/>
            <p:nvPr/>
          </p:nvSpPr>
          <p:spPr>
            <a:xfrm>
              <a:off x="6755760" y="4943880"/>
              <a:ext cx="1170360" cy="87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otor de tracción asíncrono</a:t>
              </a:r>
              <a:endParaRPr b="0" lang="en-US" sz="1000" spc="-1" strike="noStrike">
                <a:solidFill>
                  <a:srgbClr val="000000"/>
                </a:solidFill>
                <a:latin typeface="Times New Roman"/>
              </a:endParaRPr>
            </a:p>
          </p:txBody>
        </p:sp>
        <p:sp>
          <p:nvSpPr>
            <p:cNvPr id="235" name=""/>
            <p:cNvSpPr/>
            <p:nvPr/>
          </p:nvSpPr>
          <p:spPr>
            <a:xfrm>
              <a:off x="2366280" y="4410720"/>
              <a:ext cx="17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366280" y="3567240"/>
              <a:ext cx="17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6280" y="2835720"/>
              <a:ext cx="0" cy="73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239" name=""/>
          <p:cNvSpPr/>
          <p:nvPr/>
        </p:nvSpPr>
        <p:spPr>
          <a:xfrm>
            <a:off x="-380880" y="831960"/>
            <a:ext cx="921996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Arial"/>
              </a:rPr>
              <a:t>VENTAJAS DE LA TRACCION ASINCRONA</a:t>
            </a: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parecen los inconvenientes relacionados con la conmutación de los motores de corriente continu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la gama de revoluciones puede aprovecharse en forma óptima desapareciendo por lo tanto el típico punto o sector de funcionamiento a conmutación óptima de los motores de c.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rucción sencilla del motor de tracción asíncrono trifásico permite un dimensionamiento de éste sin problemas de calentamiento pues el control electrónico le exige trabajar a las potencias necesarias sin pérdidas en otros sistemas que no sean los de tracción. Por ejemplo un motor asíncronico 3</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1.400 kW es mucho más pequeño y ligero que un motor de 900 kW de c.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241" name=""/>
          <p:cNvSpPr/>
          <p:nvPr/>
        </p:nvSpPr>
        <p:spPr>
          <a:xfrm>
            <a:off x="-380880" y="831960"/>
            <a:ext cx="921996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Arial"/>
              </a:rPr>
              <a:t>VENTAJAS DE LA TRACCION ASINCRONA</a:t>
            </a:r>
            <a:endParaRPr b="0" lang="en-US" sz="2400" spc="-1" strike="noStrike">
              <a:solidFill>
                <a:srgbClr val="000000"/>
              </a:solidFill>
              <a:latin typeface="Times New Roman"/>
            </a:endParaRPr>
          </a:p>
          <a:p>
            <a:pPr lvl="2" marL="9144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parece el colector que limita el número de revoluciones y requiere gran espacio por lo que resulta mayor la longitud activa del motor. El motor asíncrono del tipo sencillo con rotor de jaula de ardilla puede funcionar a regímenes superiores de evoluciones y tensiones, lo cual significa una reducción del volumen y del peso, a pesar de un notable aumento de poten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mento de Potencia, disminución de peso, disminución masas del boguie, menos ejes motrices en las locomotoras. Una locomotora de 4 ejes, 4 motores de 1.400 kW,</a:t>
            </a:r>
            <a:r>
              <a:rPr b="0" lang="es-ES_tradnl" sz="2400" spc="-1" strike="noStrike">
                <a:solidFill>
                  <a:srgbClr val="000000"/>
                </a:solidFill>
                <a:latin typeface="Arial"/>
              </a:rPr>
              <a:t>	</a:t>
            </a:r>
            <a:r>
              <a:rPr b="0" lang="es-ES_tradnl" sz="2400" spc="-1" strike="noStrike">
                <a:solidFill>
                  <a:srgbClr val="000000"/>
                </a:solidFill>
                <a:latin typeface="Arial"/>
              </a:rPr>
              <a:t>5.600 k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243" name=""/>
          <p:cNvSpPr/>
          <p:nvPr/>
        </p:nvSpPr>
        <p:spPr>
          <a:xfrm>
            <a:off x="-380880" y="831960"/>
            <a:ext cx="92199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Arial"/>
              </a:rPr>
              <a:t>VENTAJAS DE LA TRACCION ASINCRONA</a:t>
            </a:r>
            <a:endParaRPr b="0" lang="en-US" sz="2400" spc="-1" strike="noStrike">
              <a:solidFill>
                <a:srgbClr val="000000"/>
              </a:solidFill>
              <a:latin typeface="Times New Roman"/>
            </a:endParaRPr>
          </a:p>
          <a:p>
            <a:pPr lvl="2" marL="9144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resistencias de frenado. El frenado por regeneración electrodinámica es más eficaz. Se logra con los dispositivos de todas formas necesarios para el servicio de tracción, es decir sin ningún equipo adicional se logra en trenes (locomotoras) una recuperación de energía que va desde 10 a 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costo de construcción y mantenimient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245" name=""/>
          <p:cNvSpPr/>
          <p:nvPr/>
        </p:nvSpPr>
        <p:spPr>
          <a:xfrm>
            <a:off x="990720" y="1193760"/>
            <a:ext cx="7696080" cy="38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O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dependiente de </a:t>
            </a:r>
            <a:r>
              <a:rPr b="0" i="1" lang="es-ES_tradnl" sz="2800" spc="-1" strike="noStrike">
                <a:solidFill>
                  <a:srgbClr val="000000"/>
                </a:solidFill>
                <a:latin typeface="Arial"/>
              </a:rPr>
              <a:t>V y f</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V/f = cte</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V </a:t>
            </a:r>
            <a:r>
              <a:rPr b="0" i="1" lang="es-ES_tradnl" sz="2800" spc="-1" strike="noStrike" baseline="30000">
                <a:solidFill>
                  <a:srgbClr val="000000"/>
                </a:solidFill>
                <a:latin typeface="Arial"/>
              </a:rPr>
              <a:t>2</a:t>
            </a:r>
            <a:r>
              <a:rPr b="0" i="1" lang="es-ES_tradnl" sz="2800" spc="-1" strike="noStrike">
                <a:solidFill>
                  <a:srgbClr val="000000"/>
                </a:solidFill>
                <a:latin typeface="Arial"/>
              </a:rPr>
              <a:t>/ f = cte</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vitando que el motor se sa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36080" y="189000"/>
            <a:ext cx="5341320" cy="3680280"/>
            <a:chOff x="-136080" y="189000"/>
            <a:chExt cx="5341320" cy="3680280"/>
          </a:xfrm>
        </p:grpSpPr>
        <p:sp>
          <p:nvSpPr>
            <p:cNvPr id="247" name=""/>
            <p:cNvSpPr/>
            <p:nvPr/>
          </p:nvSpPr>
          <p:spPr>
            <a:xfrm>
              <a:off x="2598480" y="594720"/>
              <a:ext cx="1584360" cy="26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a de frotamiento</a:t>
              </a:r>
              <a:endParaRPr b="0" lang="en-US" sz="1200" spc="-1" strike="noStrike">
                <a:solidFill>
                  <a:srgbClr val="000000"/>
                </a:solidFill>
                <a:latin typeface="Times New Roman"/>
              </a:endParaRPr>
            </a:p>
          </p:txBody>
        </p:sp>
        <p:grpSp>
          <p:nvGrpSpPr>
            <p:cNvPr id="248" name=""/>
            <p:cNvGrpSpPr/>
            <p:nvPr/>
          </p:nvGrpSpPr>
          <p:grpSpPr>
            <a:xfrm>
              <a:off x="-136080" y="482040"/>
              <a:ext cx="4401360" cy="3387240"/>
              <a:chOff x="-136080" y="482040"/>
              <a:chExt cx="4401360" cy="3387240"/>
            </a:xfrm>
          </p:grpSpPr>
          <p:sp>
            <p:nvSpPr>
              <p:cNvPr id="249" name=""/>
              <p:cNvSpPr/>
              <p:nvPr/>
            </p:nvSpPr>
            <p:spPr>
              <a:xfrm rot="1537800">
                <a:off x="248760" y="928440"/>
                <a:ext cx="2604960" cy="2371680"/>
              </a:xfrm>
              <a:prstGeom prst="pentagon">
                <a:avLst/>
              </a:prstGeom>
              <a:solidFill>
                <a:srgbClr val="ffffff"/>
              </a:solidFill>
              <a:ln w="7632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1537800">
                <a:off x="1275480" y="1050480"/>
                <a:ext cx="2604960" cy="2371680"/>
              </a:xfrm>
              <a:prstGeom prst="pentagon">
                <a:avLst/>
              </a:prstGeom>
              <a:noFill/>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75320" y="2430360"/>
                <a:ext cx="1009440" cy="105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785960" y="3555000"/>
                <a:ext cx="1009440" cy="10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088360" y="1060200"/>
                <a:ext cx="1009440" cy="105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9480" y="2842200"/>
                <a:ext cx="1009440" cy="10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3360" y="1310040"/>
                <a:ext cx="1009440" cy="10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839240" y="781560"/>
                <a:ext cx="1583640" cy="169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1651680" y="782280"/>
                <a:ext cx="191160" cy="137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27560" y="941400"/>
                <a:ext cx="74160" cy="201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247840" y="824760"/>
                <a:ext cx="95040" cy="24444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875320" y="901440"/>
                <a:ext cx="95040" cy="24444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108000" y="189000"/>
              <a:ext cx="5061240" cy="132948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92400" y="973800"/>
              <a:ext cx="1212840" cy="26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o de contacto</a:t>
              </a:r>
              <a:endParaRPr b="0" lang="en-US" sz="1200" spc="-1" strike="noStrike">
                <a:solidFill>
                  <a:srgbClr val="000000"/>
                </a:solidFill>
                <a:latin typeface="Times New Roman"/>
              </a:endParaRPr>
            </a:p>
          </p:txBody>
        </p:sp>
      </p:grpSp>
      <p:grpSp>
        <p:nvGrpSpPr>
          <p:cNvPr id="263" name=""/>
          <p:cNvGrpSpPr/>
          <p:nvPr/>
        </p:nvGrpSpPr>
        <p:grpSpPr>
          <a:xfrm>
            <a:off x="3668760" y="2060640"/>
            <a:ext cx="5344560" cy="4665960"/>
            <a:chOff x="3668760" y="2060640"/>
            <a:chExt cx="5344560" cy="4665960"/>
          </a:xfrm>
        </p:grpSpPr>
        <p:grpSp>
          <p:nvGrpSpPr>
            <p:cNvPr id="264" name=""/>
            <p:cNvGrpSpPr/>
            <p:nvPr/>
          </p:nvGrpSpPr>
          <p:grpSpPr>
            <a:xfrm>
              <a:off x="4336560" y="2394000"/>
              <a:ext cx="4676760" cy="4332600"/>
              <a:chOff x="4336560" y="2394000"/>
              <a:chExt cx="4676760" cy="4332600"/>
            </a:xfrm>
          </p:grpSpPr>
          <p:sp>
            <p:nvSpPr>
              <p:cNvPr id="265" name=""/>
              <p:cNvSpPr/>
              <p:nvPr/>
            </p:nvSpPr>
            <p:spPr>
              <a:xfrm>
                <a:off x="7113240" y="2499840"/>
                <a:ext cx="645840" cy="1906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71200" y="2476440"/>
                <a:ext cx="645480" cy="1906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725440" y="2605320"/>
                <a:ext cx="1474920" cy="1819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693040" y="2685960"/>
                <a:ext cx="1452240" cy="176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6739920" y="4399920"/>
                <a:ext cx="1084320" cy="1372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6660720" y="4344480"/>
                <a:ext cx="1116000" cy="1420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5479200" y="4359600"/>
                <a:ext cx="1659240" cy="13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536800" y="4409280"/>
                <a:ext cx="1643040" cy="1372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346200">
                <a:off x="4401720" y="5068800"/>
                <a:ext cx="3533760" cy="1483560"/>
              </a:xfrm>
              <a:prstGeom prst="parallelogram">
                <a:avLst>
                  <a:gd name="adj" fmla="val 59549"/>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7146360" y="4384080"/>
                <a:ext cx="646200" cy="39240"/>
              </a:xfrm>
              <a:prstGeom prst="line">
                <a:avLst/>
              </a:prstGeom>
              <a:ln w="763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75" name=""/>
              <p:cNvGrpSpPr/>
              <p:nvPr/>
            </p:nvGrpSpPr>
            <p:grpSpPr>
              <a:xfrm>
                <a:off x="5343480" y="2394000"/>
                <a:ext cx="2208960" cy="515880"/>
                <a:chOff x="5343480" y="2394000"/>
                <a:chExt cx="2208960" cy="515880"/>
              </a:xfrm>
            </p:grpSpPr>
            <p:sp>
              <p:nvSpPr>
                <p:cNvPr id="276" name=""/>
                <p:cNvSpPr/>
                <p:nvPr/>
              </p:nvSpPr>
              <p:spPr>
                <a:xfrm flipV="1">
                  <a:off x="5526360" y="2399400"/>
                  <a:ext cx="1672200" cy="163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5608800" y="2538000"/>
                  <a:ext cx="1672200" cy="163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65520" y="2554200"/>
                  <a:ext cx="286920" cy="197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190640" y="2394000"/>
                  <a:ext cx="286920" cy="19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5412240" y="2706480"/>
                  <a:ext cx="200160" cy="20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343480" y="2555640"/>
                  <a:ext cx="200160" cy="20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77560" y="2549880"/>
                  <a:ext cx="103320" cy="174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94880" y="2396880"/>
                  <a:ext cx="103320" cy="174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rot="669600">
                <a:off x="5423400" y="5620320"/>
                <a:ext cx="358560" cy="174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rot="85800">
                <a:off x="6479640" y="5694840"/>
                <a:ext cx="359280" cy="1591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953480" y="4583880"/>
                <a:ext cx="105984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ntógrafo Moderno</a:t>
                </a:r>
                <a:endParaRPr b="0" lang="en-US" sz="1200" spc="-1" strike="noStrike">
                  <a:solidFill>
                    <a:srgbClr val="000000"/>
                  </a:solidFill>
                  <a:latin typeface="Times New Roman"/>
                </a:endParaRPr>
              </a:p>
            </p:txBody>
          </p:sp>
          <p:sp>
            <p:nvSpPr>
              <p:cNvPr id="287" name=""/>
              <p:cNvSpPr/>
              <p:nvPr/>
            </p:nvSpPr>
            <p:spPr>
              <a:xfrm>
                <a:off x="5518080" y="6023160"/>
                <a:ext cx="8395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8" name=""/>
              <p:cNvSpPr/>
              <p:nvPr/>
            </p:nvSpPr>
            <p:spPr>
              <a:xfrm>
                <a:off x="5777280" y="5740560"/>
                <a:ext cx="8395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9" name=""/>
              <p:cNvSpPr/>
              <p:nvPr/>
            </p:nvSpPr>
            <p:spPr>
              <a:xfrm>
                <a:off x="6067440" y="5317560"/>
                <a:ext cx="8395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90" name=""/>
            <p:cNvSpPr/>
            <p:nvPr/>
          </p:nvSpPr>
          <p:spPr>
            <a:xfrm flipV="1">
              <a:off x="3865320" y="2060640"/>
              <a:ext cx="3101400" cy="32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668760" y="3997800"/>
              <a:ext cx="158436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ínea de Contacto</a:t>
              </a:r>
              <a:endParaRPr b="0" lang="en-US" sz="1200" spc="-1" strike="noStrike">
                <a:solidFill>
                  <a:srgbClr val="000000"/>
                </a:solidFill>
                <a:latin typeface="Times New Roman"/>
              </a:endParaRPr>
            </a:p>
          </p:txBody>
        </p:sp>
      </p:grpSp>
      <p:sp>
        <p:nvSpPr>
          <p:cNvPr id="292" name=""/>
          <p:cNvSpPr/>
          <p:nvPr/>
        </p:nvSpPr>
        <p:spPr>
          <a:xfrm>
            <a:off x="611280" y="6046920"/>
            <a:ext cx="259236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NTOGRAF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294" name=""/>
          <p:cNvSpPr/>
          <p:nvPr/>
        </p:nvSpPr>
        <p:spPr>
          <a:xfrm>
            <a:off x="533520" y="9810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ORRIENTE ALTERNA MONOFASICA DE FRECUENCIA ESPECI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Para la locomotora, el motor de inducción monofásico es de funcionamiento mucho más delicado que el de corriente continua. La causa es la forma alternativa del flujo. El parámetro nocivo es pues la frecuencia. De aquí la idea de adoptar para la tracción monofásica una corriente de frecuencia más baja que la frecuencia normal. En Europa se escogió el tercio de la frecuencia normal, 16 2/3 Hz.</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Este sistema se ha desarrollado principalmente en Europa Central: Suiza, Alemania, Austria, donde se han construido centrales y líneas A.T. de 16 2/3 Hz., una red de energía “del ferrocarril” distinta a la red general; en Suecia y en Noruega, donde las líneas de 16 2/3 Hz están empalmadas a la red general de 50 Hz mediante subestaciones de conversión de frecuenc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923400" y="277200"/>
            <a:ext cx="2496240" cy="3115800"/>
            <a:chOff x="923400" y="277200"/>
            <a:chExt cx="2496240" cy="3115800"/>
          </a:xfrm>
        </p:grpSpPr>
        <p:grpSp>
          <p:nvGrpSpPr>
            <p:cNvPr id="296" name=""/>
            <p:cNvGrpSpPr/>
            <p:nvPr/>
          </p:nvGrpSpPr>
          <p:grpSpPr>
            <a:xfrm>
              <a:off x="923400" y="277200"/>
              <a:ext cx="2496240" cy="3115800"/>
              <a:chOff x="923400" y="277200"/>
              <a:chExt cx="2496240" cy="3115800"/>
            </a:xfrm>
          </p:grpSpPr>
          <p:sp>
            <p:nvSpPr>
              <p:cNvPr id="297" name=""/>
              <p:cNvSpPr/>
              <p:nvPr/>
            </p:nvSpPr>
            <p:spPr>
              <a:xfrm flipH="1">
                <a:off x="923400" y="1429200"/>
                <a:ext cx="36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1170360" y="1045080"/>
                <a:ext cx="4334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9" name=""/>
              <p:cNvSpPr/>
              <p:nvPr/>
            </p:nvSpPr>
            <p:spPr>
              <a:xfrm>
                <a:off x="1303560" y="855000"/>
                <a:ext cx="28908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163600">
                <a:off x="1435320" y="316800"/>
                <a:ext cx="1173600" cy="1490040"/>
              </a:xfrm>
              <a:custGeom>
                <a:avLst/>
                <a:gdLst/>
                <a:ahLst/>
                <a:rect l="l" t="t" r="r" b="b"/>
                <a:pathLst>
                  <a:path stroke="0" w="21600" h="21600">
                    <a:moveTo>
                      <a:pt x="10800" y="0"/>
                    </a:moveTo>
                    <a:arcTo wR="10800" hR="10800" stAng="-5400000" swAng="4320177"/>
                    <a:lnTo>
                      <a:pt x="10800" y="10800"/>
                    </a:lnTo>
                    <a:close/>
                  </a:path>
                  <a:path fill="none" w="21600" h="21600">
                    <a:moveTo>
                      <a:pt x="10800" y="0"/>
                    </a:moveTo>
                    <a:arcTo wR="10800" hR="10800" stAng="-5400000" swAng="43201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941040" y="2023560"/>
                <a:ext cx="1294200" cy="849600"/>
                <a:chOff x="941040" y="2023560"/>
                <a:chExt cx="1294200" cy="849600"/>
              </a:xfrm>
            </p:grpSpPr>
            <p:sp>
              <p:nvSpPr>
                <p:cNvPr id="302" name=""/>
                <p:cNvSpPr/>
                <p:nvPr/>
              </p:nvSpPr>
              <p:spPr>
                <a:xfrm>
                  <a:off x="941040" y="2776320"/>
                  <a:ext cx="56196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3" name=""/>
                <p:cNvSpPr/>
                <p:nvPr/>
              </p:nvSpPr>
              <p:spPr>
                <a:xfrm rot="5400000">
                  <a:off x="1071000" y="2175840"/>
                  <a:ext cx="849600" cy="54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767240" y="243648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924120" y="2370960"/>
                <a:ext cx="1335960" cy="1021320"/>
                <a:chOff x="924120" y="2370960"/>
                <a:chExt cx="1335960" cy="1021320"/>
              </a:xfrm>
            </p:grpSpPr>
            <p:sp>
              <p:nvSpPr>
                <p:cNvPr id="306" name=""/>
                <p:cNvSpPr/>
                <p:nvPr/>
              </p:nvSpPr>
              <p:spPr>
                <a:xfrm flipH="1" flipV="1">
                  <a:off x="923760" y="2370600"/>
                  <a:ext cx="969480" cy="1021320"/>
                </a:xfrm>
                <a:custGeom>
                  <a:avLst/>
                  <a:gdLst/>
                  <a:ahLst/>
                  <a:rect l="l" t="t" r="r" b="b"/>
                  <a:pathLst>
                    <a:path stroke="0" w="21600" h="21600">
                      <a:moveTo>
                        <a:pt x="10986" y="2"/>
                      </a:moveTo>
                      <a:arcTo wR="10800" hR="10800" stAng="-5340949" swAng="5340949"/>
                      <a:lnTo>
                        <a:pt x="10800" y="10800"/>
                      </a:lnTo>
                      <a:close/>
                    </a:path>
                    <a:path fill="none" w="21600" h="21600">
                      <a:moveTo>
                        <a:pt x="10986" y="2"/>
                      </a:moveTo>
                      <a:arcTo wR="10800" hR="10800" stAng="-5340949" swAng="534094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06880" y="3391560"/>
                  <a:ext cx="44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706400" y="338904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 name=""/>
              <p:cNvSpPr/>
              <p:nvPr/>
            </p:nvSpPr>
            <p:spPr>
              <a:xfrm flipH="1">
                <a:off x="924480" y="1098000"/>
                <a:ext cx="730800" cy="71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419280" y="1430280"/>
                <a:ext cx="36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739240" y="1046160"/>
                <a:ext cx="4334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2" name=""/>
              <p:cNvSpPr/>
              <p:nvPr/>
            </p:nvSpPr>
            <p:spPr>
              <a:xfrm flipH="1">
                <a:off x="2758680" y="838800"/>
                <a:ext cx="28908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rot="4337400">
                <a:off x="1752480" y="317520"/>
                <a:ext cx="1173960" cy="1490040"/>
              </a:xfrm>
              <a:custGeom>
                <a:avLst/>
                <a:gdLst/>
                <a:ahLst/>
                <a:rect l="l" t="t" r="r" b="b"/>
                <a:pathLst>
                  <a:path stroke="0" w="21600" h="21600">
                    <a:moveTo>
                      <a:pt x="10800" y="0"/>
                    </a:moveTo>
                    <a:arcTo wR="10800" hR="10800" stAng="-5400000" swAng="4320177"/>
                    <a:lnTo>
                      <a:pt x="10800" y="10800"/>
                    </a:lnTo>
                    <a:close/>
                  </a:path>
                  <a:path fill="none" w="21600" h="21600">
                    <a:moveTo>
                      <a:pt x="10800" y="0"/>
                    </a:moveTo>
                    <a:arcTo wR="10800" hR="10800" stAng="-5400000" swAng="43201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2108160" y="2024640"/>
                <a:ext cx="1294200" cy="849600"/>
                <a:chOff x="2108160" y="2024640"/>
                <a:chExt cx="1294200" cy="849600"/>
              </a:xfrm>
            </p:grpSpPr>
            <p:sp>
              <p:nvSpPr>
                <p:cNvPr id="315" name=""/>
                <p:cNvSpPr/>
                <p:nvPr/>
              </p:nvSpPr>
              <p:spPr>
                <a:xfrm flipH="1">
                  <a:off x="2840400" y="2777400"/>
                  <a:ext cx="56196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6" name=""/>
                <p:cNvSpPr/>
                <p:nvPr/>
              </p:nvSpPr>
              <p:spPr>
                <a:xfrm flipH="1" rot="16200000">
                  <a:off x="2422080" y="2176920"/>
                  <a:ext cx="849600" cy="54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2108160" y="243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082960" y="2372400"/>
                <a:ext cx="1335960" cy="1020600"/>
                <a:chOff x="2082960" y="2372400"/>
                <a:chExt cx="1335960" cy="1020600"/>
              </a:xfrm>
            </p:grpSpPr>
            <p:sp>
              <p:nvSpPr>
                <p:cNvPr id="319" name=""/>
                <p:cNvSpPr/>
                <p:nvPr/>
              </p:nvSpPr>
              <p:spPr>
                <a:xfrm flipV="1">
                  <a:off x="2449440" y="2372040"/>
                  <a:ext cx="969480" cy="1020600"/>
                </a:xfrm>
                <a:custGeom>
                  <a:avLst/>
                  <a:gdLst/>
                  <a:ahLst/>
                  <a:rect l="l" t="t" r="r" b="b"/>
                  <a:pathLst>
                    <a:path stroke="0" w="21600" h="21600">
                      <a:moveTo>
                        <a:pt x="10986" y="2"/>
                      </a:moveTo>
                      <a:arcTo wR="10800" hR="10800" stAng="-5340949" swAng="5340949"/>
                      <a:lnTo>
                        <a:pt x="10800" y="10800"/>
                      </a:lnTo>
                      <a:close/>
                    </a:path>
                    <a:path fill="none" w="21600" h="21600">
                      <a:moveTo>
                        <a:pt x="10986" y="2"/>
                      </a:moveTo>
                      <a:arcTo wR="10800" hR="10800" stAng="-5340949" swAng="534094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494080" y="3392280"/>
                  <a:ext cx="44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2082960" y="338976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a:off x="2687400" y="1099080"/>
                <a:ext cx="730800" cy="71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1920240" y="462600"/>
                <a:ext cx="493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24" name=""/>
            <p:cNvSpPr/>
            <p:nvPr/>
          </p:nvSpPr>
          <p:spPr>
            <a:xfrm>
              <a:off x="1506600" y="1616760"/>
              <a:ext cx="1297800" cy="25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o o Cobre</a:t>
              </a:r>
              <a:endParaRPr b="0" lang="en-US" sz="1200" spc="-1" strike="noStrike">
                <a:solidFill>
                  <a:srgbClr val="000000"/>
                </a:solidFill>
                <a:latin typeface="Times New Roman"/>
              </a:endParaRPr>
            </a:p>
          </p:txBody>
        </p:sp>
        <p:sp>
          <p:nvSpPr>
            <p:cNvPr id="325" name=""/>
            <p:cNvSpPr/>
            <p:nvPr/>
          </p:nvSpPr>
          <p:spPr>
            <a:xfrm>
              <a:off x="1680840" y="2773440"/>
              <a:ext cx="978840" cy="25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ro</a:t>
              </a:r>
              <a:endParaRPr b="0" lang="en-US" sz="1200" spc="-1" strike="noStrike">
                <a:solidFill>
                  <a:srgbClr val="000000"/>
                </a:solidFill>
                <a:latin typeface="Times New Roman"/>
              </a:endParaRPr>
            </a:p>
          </p:txBody>
        </p:sp>
      </p:grpSp>
      <p:grpSp>
        <p:nvGrpSpPr>
          <p:cNvPr id="326" name=""/>
          <p:cNvGrpSpPr/>
          <p:nvPr/>
        </p:nvGrpSpPr>
        <p:grpSpPr>
          <a:xfrm>
            <a:off x="3122640" y="4191120"/>
            <a:ext cx="5640480" cy="1020240"/>
            <a:chOff x="3122640" y="4191120"/>
            <a:chExt cx="5640480" cy="1020240"/>
          </a:xfrm>
        </p:grpSpPr>
        <p:grpSp>
          <p:nvGrpSpPr>
            <p:cNvPr id="327" name=""/>
            <p:cNvGrpSpPr/>
            <p:nvPr/>
          </p:nvGrpSpPr>
          <p:grpSpPr>
            <a:xfrm>
              <a:off x="4297320" y="4191120"/>
              <a:ext cx="4465800" cy="1020240"/>
              <a:chOff x="4297320" y="4191120"/>
              <a:chExt cx="4465800" cy="1020240"/>
            </a:xfrm>
          </p:grpSpPr>
          <p:grpSp>
            <p:nvGrpSpPr>
              <p:cNvPr id="328" name=""/>
              <p:cNvGrpSpPr/>
              <p:nvPr/>
            </p:nvGrpSpPr>
            <p:grpSpPr>
              <a:xfrm>
                <a:off x="4297320" y="4191120"/>
                <a:ext cx="4465800" cy="518400"/>
                <a:chOff x="4297320" y="4191120"/>
                <a:chExt cx="4465800" cy="518400"/>
              </a:xfrm>
            </p:grpSpPr>
            <p:sp>
              <p:nvSpPr>
                <p:cNvPr id="329" name=""/>
                <p:cNvSpPr/>
                <p:nvPr/>
              </p:nvSpPr>
              <p:spPr>
                <a:xfrm>
                  <a:off x="4614840" y="4231800"/>
                  <a:ext cx="3829680" cy="47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297320" y="4191120"/>
                  <a:ext cx="446580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4584960" y="4575960"/>
                <a:ext cx="3838320" cy="635400"/>
                <a:chOff x="4584960" y="4575960"/>
                <a:chExt cx="3838320" cy="635400"/>
              </a:xfrm>
            </p:grpSpPr>
            <p:sp>
              <p:nvSpPr>
                <p:cNvPr id="332" name=""/>
                <p:cNvSpPr/>
                <p:nvPr/>
              </p:nvSpPr>
              <p:spPr>
                <a:xfrm>
                  <a:off x="4584960" y="5190480"/>
                  <a:ext cx="383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808160" y="4594320"/>
                  <a:ext cx="360" cy="61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266080" y="4668480"/>
                  <a:ext cx="0" cy="52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723280" y="469008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59600" y="472176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71080" y="472320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02360" y="471456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436520" y="4682520"/>
                  <a:ext cx="0" cy="52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8289000" y="4575960"/>
                  <a:ext cx="360" cy="61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859520" y="4636800"/>
                  <a:ext cx="0" cy="55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2" name=""/>
            <p:cNvSpPr/>
            <p:nvPr/>
          </p:nvSpPr>
          <p:spPr>
            <a:xfrm>
              <a:off x="3122640" y="4723560"/>
              <a:ext cx="1424880" cy="29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naria Compues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43" name="" descr=""/>
          <p:cNvPicPr/>
          <p:nvPr/>
        </p:nvPicPr>
        <p:blipFill>
          <a:blip r:embed="rId1"/>
          <a:stretch/>
        </p:blipFill>
        <p:spPr>
          <a:xfrm>
            <a:off x="2373480" y="6000840"/>
            <a:ext cx="7238880" cy="380880"/>
          </a:xfrm>
          <a:prstGeom prst="rect">
            <a:avLst/>
          </a:prstGeom>
          <a:ln w="0">
            <a:noFill/>
          </a:ln>
        </p:spPr>
      </p:pic>
      <p:sp>
        <p:nvSpPr>
          <p:cNvPr id="344" name=""/>
          <p:cNvSpPr/>
          <p:nvPr/>
        </p:nvSpPr>
        <p:spPr>
          <a:xfrm>
            <a:off x="973080" y="4653000"/>
            <a:ext cx="194328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NARIA</a:t>
            </a:r>
            <a:endParaRPr b="0" lang="en-US" sz="2000" spc="-1" strike="noStrike">
              <a:solidFill>
                <a:srgbClr val="000000"/>
              </a:solidFill>
              <a:latin typeface="Times New Roman"/>
            </a:endParaRPr>
          </a:p>
        </p:txBody>
      </p:sp>
      <p:sp>
        <p:nvSpPr>
          <p:cNvPr id="345" name=""/>
          <p:cNvSpPr/>
          <p:nvPr/>
        </p:nvSpPr>
        <p:spPr>
          <a:xfrm>
            <a:off x="3924360" y="1557360"/>
            <a:ext cx="230328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CION HILO DE CONTACTO</a:t>
            </a:r>
            <a:endParaRPr b="0" lang="en-US" sz="2000" spc="-1" strike="noStrike">
              <a:solidFill>
                <a:srgbClr val="000000"/>
              </a:solidFill>
              <a:latin typeface="Times New Roman"/>
            </a:endParaRPr>
          </a:p>
        </p:txBody>
      </p:sp>
      <p:sp>
        <p:nvSpPr>
          <p:cNvPr id="346" name=""/>
          <p:cNvSpPr/>
          <p:nvPr/>
        </p:nvSpPr>
        <p:spPr>
          <a:xfrm>
            <a:off x="1044720" y="5886360"/>
            <a:ext cx="194292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UACION DE EST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
          <p:cNvGrpSpPr/>
          <p:nvPr/>
        </p:nvGrpSpPr>
        <p:grpSpPr>
          <a:xfrm>
            <a:off x="1371600" y="609480"/>
            <a:ext cx="5486400" cy="4437360"/>
            <a:chOff x="1371600" y="609480"/>
            <a:chExt cx="5486400" cy="4437360"/>
          </a:xfrm>
        </p:grpSpPr>
        <p:grpSp>
          <p:nvGrpSpPr>
            <p:cNvPr id="348" name=""/>
            <p:cNvGrpSpPr/>
            <p:nvPr/>
          </p:nvGrpSpPr>
          <p:grpSpPr>
            <a:xfrm>
              <a:off x="1840680" y="609480"/>
              <a:ext cx="3145320" cy="3893400"/>
              <a:chOff x="1840680" y="609480"/>
              <a:chExt cx="3145320" cy="3893400"/>
            </a:xfrm>
          </p:grpSpPr>
          <p:sp>
            <p:nvSpPr>
              <p:cNvPr id="349" name=""/>
              <p:cNvSpPr/>
              <p:nvPr/>
            </p:nvSpPr>
            <p:spPr>
              <a:xfrm>
                <a:off x="3273840" y="2454840"/>
                <a:ext cx="180360" cy="123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168000" y="3670920"/>
                <a:ext cx="393480" cy="287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4164120"/>
                <a:ext cx="7956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2" name=""/>
              <p:cNvSpPr/>
              <p:nvPr/>
            </p:nvSpPr>
            <p:spPr>
              <a:xfrm>
                <a:off x="2651040" y="4163040"/>
                <a:ext cx="799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2582280" y="3757680"/>
                <a:ext cx="530640" cy="12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21960" y="3884760"/>
                <a:ext cx="871560" cy="24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270160" y="4331160"/>
                <a:ext cx="1562040" cy="1699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379960" y="4214520"/>
                <a:ext cx="446040" cy="116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832120" y="4129920"/>
                <a:ext cx="144000" cy="201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17919600">
                <a:off x="2009520" y="4053960"/>
                <a:ext cx="173880" cy="488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2381760" y="1300680"/>
                <a:ext cx="531360" cy="2478240"/>
                <a:chOff x="2381760" y="1300680"/>
                <a:chExt cx="531360" cy="2478240"/>
              </a:xfrm>
            </p:grpSpPr>
            <p:grpSp>
              <p:nvGrpSpPr>
                <p:cNvPr id="360" name=""/>
                <p:cNvGrpSpPr/>
                <p:nvPr/>
              </p:nvGrpSpPr>
              <p:grpSpPr>
                <a:xfrm>
                  <a:off x="2561760" y="2595960"/>
                  <a:ext cx="342000" cy="1150200"/>
                  <a:chOff x="2561760" y="2595960"/>
                  <a:chExt cx="342000" cy="1150200"/>
                </a:xfrm>
              </p:grpSpPr>
              <p:sp>
                <p:nvSpPr>
                  <p:cNvPr id="361" name=""/>
                  <p:cNvSpPr/>
                  <p:nvPr/>
                </p:nvSpPr>
                <p:spPr>
                  <a:xfrm>
                    <a:off x="2576160" y="2809800"/>
                    <a:ext cx="32760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570760" y="291672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571480" y="302400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566080" y="313092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566800" y="323784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561760" y="334476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2719080" y="2595960"/>
                    <a:ext cx="115920" cy="215280"/>
                    <a:chOff x="2719080" y="2595960"/>
                    <a:chExt cx="115920" cy="215280"/>
                  </a:xfrm>
                </p:grpSpPr>
                <p:sp>
                  <p:nvSpPr>
                    <p:cNvPr id="368" name=""/>
                    <p:cNvSpPr/>
                    <p:nvPr/>
                  </p:nvSpPr>
                  <p:spPr>
                    <a:xfrm>
                      <a:off x="2720520" y="259596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flipV="1">
                      <a:off x="2719080" y="262404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2691720" y="3530880"/>
                    <a:ext cx="115920" cy="215280"/>
                    <a:chOff x="2691720" y="3530880"/>
                    <a:chExt cx="115920" cy="215280"/>
                  </a:xfrm>
                </p:grpSpPr>
                <p:sp>
                  <p:nvSpPr>
                    <p:cNvPr id="371" name=""/>
                    <p:cNvSpPr/>
                    <p:nvPr/>
                  </p:nvSpPr>
                  <p:spPr>
                    <a:xfrm flipV="1">
                      <a:off x="2693160" y="361080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2691720" y="353088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 name=""/>
                <p:cNvSpPr/>
                <p:nvPr/>
              </p:nvSpPr>
              <p:spPr>
                <a:xfrm>
                  <a:off x="2381760" y="2248200"/>
                  <a:ext cx="138240" cy="153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519280" y="2449800"/>
                  <a:ext cx="30852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rot="2170800">
                  <a:off x="2564640" y="1697400"/>
                  <a:ext cx="166680" cy="66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710440" y="1300680"/>
                  <a:ext cx="20160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flipH="1">
                <a:off x="4175280" y="4166280"/>
                <a:ext cx="7956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8" name=""/>
              <p:cNvSpPr/>
              <p:nvPr/>
            </p:nvSpPr>
            <p:spPr>
              <a:xfrm flipH="1">
                <a:off x="4004640" y="4164840"/>
                <a:ext cx="799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9" name=""/>
              <p:cNvSpPr/>
              <p:nvPr/>
            </p:nvSpPr>
            <p:spPr>
              <a:xfrm flipH="1">
                <a:off x="3611520" y="3749040"/>
                <a:ext cx="541440" cy="13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3141000" y="3886560"/>
                <a:ext cx="871560" cy="24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2902320" y="4332960"/>
                <a:ext cx="1562040" cy="1699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3909240" y="4216320"/>
                <a:ext cx="446400" cy="116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759480" y="4131720"/>
                <a:ext cx="144000" cy="201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rot="3680400">
                <a:off x="4551480" y="4056120"/>
                <a:ext cx="173880" cy="488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 name=""/>
              <p:cNvGrpSpPr/>
              <p:nvPr/>
            </p:nvGrpSpPr>
            <p:grpSpPr>
              <a:xfrm>
                <a:off x="3822480" y="1302840"/>
                <a:ext cx="531360" cy="2477880"/>
                <a:chOff x="3822480" y="1302840"/>
                <a:chExt cx="531360" cy="2477880"/>
              </a:xfrm>
            </p:grpSpPr>
            <p:grpSp>
              <p:nvGrpSpPr>
                <p:cNvPr id="386" name=""/>
                <p:cNvGrpSpPr/>
                <p:nvPr/>
              </p:nvGrpSpPr>
              <p:grpSpPr>
                <a:xfrm>
                  <a:off x="3831120" y="2598120"/>
                  <a:ext cx="342000" cy="1150200"/>
                  <a:chOff x="3831120" y="2598120"/>
                  <a:chExt cx="342000" cy="1150200"/>
                </a:xfrm>
              </p:grpSpPr>
              <p:sp>
                <p:nvSpPr>
                  <p:cNvPr id="387" name=""/>
                  <p:cNvSpPr/>
                  <p:nvPr/>
                </p:nvSpPr>
                <p:spPr>
                  <a:xfrm flipH="1">
                    <a:off x="3831120" y="2811960"/>
                    <a:ext cx="32760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3836520" y="291888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3835800" y="302616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3841200" y="313308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3840480" y="324000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3845520" y="334692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3899880" y="2598120"/>
                    <a:ext cx="115920" cy="215280"/>
                    <a:chOff x="3899880" y="2598120"/>
                    <a:chExt cx="115920" cy="215280"/>
                  </a:xfrm>
                </p:grpSpPr>
                <p:sp>
                  <p:nvSpPr>
                    <p:cNvPr id="394" name=""/>
                    <p:cNvSpPr/>
                    <p:nvPr/>
                  </p:nvSpPr>
                  <p:spPr>
                    <a:xfrm>
                      <a:off x="4014360" y="25981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3899880" y="262620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927240" y="3533040"/>
                    <a:ext cx="115920" cy="215280"/>
                    <a:chOff x="3927240" y="3533040"/>
                    <a:chExt cx="115920" cy="215280"/>
                  </a:xfrm>
                </p:grpSpPr>
                <p:sp>
                  <p:nvSpPr>
                    <p:cNvPr id="397" name=""/>
                    <p:cNvSpPr/>
                    <p:nvPr/>
                  </p:nvSpPr>
                  <p:spPr>
                    <a:xfrm flipV="1">
                      <a:off x="4041720" y="361296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927240" y="353304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9" name=""/>
                <p:cNvSpPr/>
                <p:nvPr/>
              </p:nvSpPr>
              <p:spPr>
                <a:xfrm flipH="1">
                  <a:off x="4215600" y="2250000"/>
                  <a:ext cx="138240" cy="153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3906720" y="2451960"/>
                  <a:ext cx="30852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rot="19429200">
                  <a:off x="4003200" y="1699560"/>
                  <a:ext cx="166680" cy="66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3823200" y="1302840"/>
                  <a:ext cx="20160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3018600" y="1159920"/>
                <a:ext cx="680400" cy="95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936160" y="2118240"/>
                <a:ext cx="85068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 name=""/>
              <p:cNvSpPr/>
              <p:nvPr/>
            </p:nvSpPr>
            <p:spPr>
              <a:xfrm>
                <a:off x="2937240" y="1068480"/>
                <a:ext cx="85068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6" name=""/>
              <p:cNvSpPr/>
              <p:nvPr/>
            </p:nvSpPr>
            <p:spPr>
              <a:xfrm>
                <a:off x="3124800" y="2202480"/>
                <a:ext cx="478080" cy="319320"/>
              </a:xfrm>
              <a:custGeom>
                <a:avLst/>
                <a:gdLst>
                  <a:gd name="textAreaLeft" fmla="*/ 105120 w 478080"/>
                  <a:gd name="textAreaRight" fmla="*/ 372960 w 478080"/>
                  <a:gd name="textAreaTop" fmla="*/ 70200 h 319320"/>
                  <a:gd name="textAreaBottom" fmla="*/ 249120 h 3193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264120" y="654840"/>
                <a:ext cx="0" cy="4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459960" y="656280"/>
                <a:ext cx="0" cy="4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050360" y="609480"/>
                <a:ext cx="935640" cy="39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e comprimido</a:t>
                </a:r>
                <a:endParaRPr b="0" lang="en-US" sz="1000" spc="-1" strike="noStrike">
                  <a:solidFill>
                    <a:srgbClr val="000000"/>
                  </a:solidFill>
                  <a:latin typeface="Times New Roman"/>
                </a:endParaRPr>
              </a:p>
            </p:txBody>
          </p:sp>
        </p:grpSp>
        <p:grpSp>
          <p:nvGrpSpPr>
            <p:cNvPr id="410" name=""/>
            <p:cNvGrpSpPr/>
            <p:nvPr/>
          </p:nvGrpSpPr>
          <p:grpSpPr>
            <a:xfrm>
              <a:off x="1371600" y="4521240"/>
              <a:ext cx="5486400" cy="525600"/>
              <a:chOff x="1371600" y="4521240"/>
              <a:chExt cx="5486400" cy="525600"/>
            </a:xfrm>
          </p:grpSpPr>
          <p:sp>
            <p:nvSpPr>
              <p:cNvPr id="411" name=""/>
              <p:cNvSpPr/>
              <p:nvPr/>
            </p:nvSpPr>
            <p:spPr>
              <a:xfrm>
                <a:off x="1379160" y="452124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371600" y="466380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390320" y="504684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390320" y="500436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
            <p:cNvSpPr/>
            <p:nvPr/>
          </p:nvSpPr>
          <p:spPr>
            <a:xfrm>
              <a:off x="5618880" y="4180680"/>
              <a:ext cx="1084320" cy="23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cer riel (+)</a:t>
              </a:r>
              <a:endParaRPr b="0" lang="en-US" sz="1000" spc="-1" strike="noStrike">
                <a:solidFill>
                  <a:srgbClr val="000000"/>
                </a:solidFill>
                <a:latin typeface="Times New Roman"/>
              </a:endParaRPr>
            </a:p>
          </p:txBody>
        </p:sp>
      </p:grpSp>
      <p:sp>
        <p:nvSpPr>
          <p:cNvPr id="416" name=""/>
          <p:cNvSpPr/>
          <p:nvPr/>
        </p:nvSpPr>
        <p:spPr>
          <a:xfrm>
            <a:off x="900000" y="6046920"/>
            <a:ext cx="230364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TADOR A TERCER RI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257800" y="138240"/>
            <a:ext cx="37339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ea typeface="Times New Roman"/>
              </a:rPr>
              <a:t>HISTORIA DE LA TRACCION ELECTRICA</a:t>
            </a:r>
            <a:r>
              <a:rPr b="1" lang="es-ES" sz="1400" spc="-1" strike="noStrike">
                <a:solidFill>
                  <a:srgbClr val="0066ff"/>
                </a:solidFill>
                <a:latin typeface="Arial"/>
              </a:rPr>
              <a:t> </a:t>
            </a:r>
            <a:endParaRPr b="0" lang="en-US" sz="1400" spc="-1" strike="noStrike">
              <a:solidFill>
                <a:srgbClr val="000000"/>
              </a:solidFill>
              <a:latin typeface="Times New Roman"/>
            </a:endParaRPr>
          </a:p>
        </p:txBody>
      </p:sp>
      <p:sp>
        <p:nvSpPr>
          <p:cNvPr id="51" name=""/>
          <p:cNvSpPr/>
          <p:nvPr/>
        </p:nvSpPr>
        <p:spPr>
          <a:xfrm>
            <a:off x="533520" y="685800"/>
            <a:ext cx="8153280" cy="60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Unicode MS"/>
                <a:ea typeface="Arial Unicode MS"/>
              </a:rPr>
              <a:t>Electrificar una línea de ferrocarril suponía construir ex profeso los vehículos motores y producir localmente la corriente necesari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Unicode MS"/>
                <a:ea typeface="Arial Unicode MS"/>
              </a:rPr>
              <a:t>Predomina por tanto en aquella época, el supeditar la elección de la naturaleza y características de la corriente alterna a utilizar, a la eficacia y facilidad de construcción de los motores eléctricos a implantar en las locomotoras. Se produce la corriente en sitio y a medid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La primera electrificación española fue la de la línea Gérgal-Santa Fe, realizada por la Compañía del Sur de España en 1911. Esta línea soporta un importante tráfico de mineral de hierro que se lleva a embarcar al puerto de Almería. La línea tiene importantes rampas de 27 por mil, lo que aconsejó su electrificación, dadas las grandes dificultades que presentaba la tracción a vapor. La electrificación fue realizada por Brown Boveri (BBC) que ya había electrificado pocos años antes en 1906, el túnel de Simplón con corriente trifásic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En España, se utilizó corriente trifásica a 5.200 V. y 25 Hz. La línea aérea era de tipo tranvía y estaba constituida por dos hilos de contacto de cobre. BBC suministró siete tractores de 320 CV (235 kW) dotados de dos ejes motores de adherencia total (ningún eje portador). Eran de freno de recuperación, lo que tenía gran importancia dadas las características de la línea y el sentido descendente de los trenes cargados de material.</a:t>
            </a:r>
            <a:r>
              <a:rPr b="0" lang="es-ES" sz="1800" spc="-1" strike="noStrike">
                <a:solidFill>
                  <a:srgbClr val="000000"/>
                </a:solidFill>
                <a:latin typeface="Arial"/>
                <a:ea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sp>
        <p:nvSpPr>
          <p:cNvPr id="418" name=""/>
          <p:cNvSpPr/>
          <p:nvPr/>
        </p:nvSpPr>
        <p:spPr>
          <a:xfrm>
            <a:off x="533520" y="746280"/>
            <a:ext cx="81532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CAMINO DE RODADURA, LA VI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Para conseguir la rodadura y guiado de los vehículos con seguridad y confort, es necesario realizar un conjunto que soporte sin deformaciones, o mejor dicho con débiles deformaciones elásticas, los esfuerzos normales y anormales producidos por la circulación de los trenes; y que no transmita a la plataforma más que tensiones compatibles con la resistencia del terreno que la constituyen. Este conjunto que constituye el camino de rodadura de los vehículos ferroviarios es a lo que se llama vía férrea o simplemente ví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Debe distinguirse de línea férrea al estar ésta constituida por una, dos o más ví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533520" y="74628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PARTES DE LA VIA</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0" lang="es-ES_tradnl" sz="2000" spc="-1" strike="noStrike">
                <a:solidFill>
                  <a:srgbClr val="000000"/>
                </a:solidFill>
                <a:latin typeface="Times New Roman"/>
                <a:ea typeface="Arial Unicode MS"/>
              </a:rPr>
              <a:t> </a:t>
            </a:r>
            <a:r>
              <a:rPr b="0" lang="es-ES_tradnl" sz="2000" spc="-1" strike="noStrike">
                <a:solidFill>
                  <a:srgbClr val="000000"/>
                </a:solidFill>
                <a:latin typeface="Arial"/>
                <a:ea typeface="Arial Unicode MS"/>
              </a:rPr>
              <a:t>La infraestructura formada por la plataforma</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ea typeface="Arial Unicode MS"/>
              </a:rPr>
              <a:t>La superestructura formada por los rieles, las traviesas o durmientes, el balasto. Está formada por dos filas de rieles, por traviesas que son elementos transversales sobre los que se fijan los rieles y por el balasto, sobre el cual descansan las traviesas. Hay que añadir el pequeño material o accesorios de la vía: placas, bridas, clavazón, etc.</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sde los tiempos del comienzo de ferrocarril se viene utilizando la misma superestructura. El balasto se ha reemplazado por hormigón en algunos sistemas; es mayor el costo de inversión pero son mucho menor los costos de mantenimiento.</a:t>
            </a:r>
            <a:r>
              <a:rPr b="0" lang="es-ES" sz="2000" spc="-1" strike="noStrike">
                <a:solidFill>
                  <a:srgbClr val="000000"/>
                </a:solidFill>
                <a:latin typeface="Arial"/>
                <a:ea typeface="Arial Unicode MS"/>
              </a:rPr>
              <a:t> </a:t>
            </a:r>
            <a:endParaRPr b="0" lang="en-US" sz="2000" spc="-1" strike="noStrike">
              <a:solidFill>
                <a:srgbClr val="000000"/>
              </a:solidFill>
              <a:latin typeface="Times New Roman"/>
            </a:endParaRPr>
          </a:p>
        </p:txBody>
      </p:sp>
      <p:sp>
        <p:nvSpPr>
          <p:cNvPr id="420" name=""/>
          <p:cNvSpPr/>
          <p:nvPr/>
        </p:nvSpPr>
        <p:spPr>
          <a:xfrm>
            <a:off x="508464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533520" y="746280"/>
            <a:ext cx="8153280" cy="582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FUNCION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Unicode MS"/>
              </a:rPr>
              <a:t>RIELES</a:t>
            </a:r>
            <a:r>
              <a:rPr b="1" lang="es-ES"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El riel es el elemento resistente que soporta directamente las cargas de las ruedas. Dos funciones:</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1.Sustentación de cargas. Es decir soporta los esfuerzos a que está sometido, lo que realiza sin dificultad.</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2.Guiado del vehículo.  Gracias a las pestañas y forma de las ruedas. Presenta inconvenientes debido al rozamiento entre llantas y riel en las curvas como en recta, lo que origina problemas de conservación de la vía y del material rodante.</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ea typeface="Arial Unicode MS"/>
              </a:rPr>
              <a:t>DURMIENTES O TRAVIESAS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Las traviesas tienen por función mantener la separación de los rieles (arriostramiento) y transmitir los esfuerzos que reciben de los rieles al balasto. </a:t>
            </a:r>
            <a:endParaRPr b="0" lang="en-US" sz="2000" spc="-1" strike="noStrike">
              <a:solidFill>
                <a:srgbClr val="000000"/>
              </a:solidFill>
              <a:latin typeface="Times New Roman"/>
            </a:endParaRPr>
          </a:p>
        </p:txBody>
      </p:sp>
      <p:sp>
        <p:nvSpPr>
          <p:cNvPr id="422" name=""/>
          <p:cNvSpPr/>
          <p:nvPr/>
        </p:nvSpPr>
        <p:spPr>
          <a:xfrm>
            <a:off x="508464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533520" y="74628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FUNCION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BALASTO</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l balasto tiene por función transmitir y repartir sobre la plataforma, lo más uniformemente posible las cargas de los trenes y evacuar lo más rápidamente posible las aguas de lluvia del asiento de las traviesas. Además será también función del balasto la de arriostrar las traviesas por rozamiento para evitar el desplazamiento de la vía, constituir con ellas un lecho elástico y permitir la evaporación del agua de la plataforma por capilaridad.</a:t>
            </a: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424" name=""/>
          <p:cNvSpPr/>
          <p:nvPr/>
        </p:nvSpPr>
        <p:spPr>
          <a:xfrm>
            <a:off x="508464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33520" y="74628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p:txBody>
      </p:sp>
      <p:sp>
        <p:nvSpPr>
          <p:cNvPr id="426" name=""/>
          <p:cNvSpPr/>
          <p:nvPr/>
        </p:nvSpPr>
        <p:spPr>
          <a:xfrm>
            <a:off x="508464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grpSp>
        <p:nvGrpSpPr>
          <p:cNvPr id="427" name=""/>
          <p:cNvGrpSpPr/>
          <p:nvPr/>
        </p:nvGrpSpPr>
        <p:grpSpPr>
          <a:xfrm>
            <a:off x="1258920" y="1595520"/>
            <a:ext cx="6629040" cy="1904400"/>
            <a:chOff x="1258920" y="1595520"/>
            <a:chExt cx="6629040" cy="1904400"/>
          </a:xfrm>
        </p:grpSpPr>
        <p:grpSp>
          <p:nvGrpSpPr>
            <p:cNvPr id="428" name=""/>
            <p:cNvGrpSpPr/>
            <p:nvPr/>
          </p:nvGrpSpPr>
          <p:grpSpPr>
            <a:xfrm>
              <a:off x="1258920" y="2260080"/>
              <a:ext cx="6485400" cy="1239840"/>
              <a:chOff x="1258920" y="2260080"/>
              <a:chExt cx="6485400" cy="1239840"/>
            </a:xfrm>
          </p:grpSpPr>
          <p:grpSp>
            <p:nvGrpSpPr>
              <p:cNvPr id="429" name=""/>
              <p:cNvGrpSpPr/>
              <p:nvPr/>
            </p:nvGrpSpPr>
            <p:grpSpPr>
              <a:xfrm>
                <a:off x="2225160" y="2428560"/>
                <a:ext cx="372240" cy="731520"/>
                <a:chOff x="2225160" y="2428560"/>
                <a:chExt cx="372240" cy="731520"/>
              </a:xfrm>
            </p:grpSpPr>
            <p:sp>
              <p:nvSpPr>
                <p:cNvPr id="430" name=""/>
                <p:cNvSpPr/>
                <p:nvPr/>
              </p:nvSpPr>
              <p:spPr>
                <a:xfrm rot="8083200">
                  <a:off x="2292120" y="2829600"/>
                  <a:ext cx="237960" cy="288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79520" y="2428560"/>
                  <a:ext cx="288360" cy="237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339640" y="2666520"/>
                  <a:ext cx="144000" cy="237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960520" y="2428560"/>
                <a:ext cx="372240" cy="731520"/>
                <a:chOff x="5960520" y="2428560"/>
                <a:chExt cx="372240" cy="731520"/>
              </a:xfrm>
            </p:grpSpPr>
            <p:sp>
              <p:nvSpPr>
                <p:cNvPr id="434" name=""/>
                <p:cNvSpPr/>
                <p:nvPr/>
              </p:nvSpPr>
              <p:spPr>
                <a:xfrm rot="8083200">
                  <a:off x="6027480" y="2829960"/>
                  <a:ext cx="237960" cy="2880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014880" y="2428560"/>
                  <a:ext cx="288000" cy="237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075000" y="2666520"/>
                  <a:ext cx="144000" cy="237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p:nvPr/>
            </p:nvSpPr>
            <p:spPr>
              <a:xfrm>
                <a:off x="1258920" y="2974320"/>
                <a:ext cx="6485400" cy="52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7023600" y="2260080"/>
                <a:ext cx="432000" cy="713880"/>
                <a:chOff x="7023600" y="2260080"/>
                <a:chExt cx="432000" cy="713880"/>
              </a:xfrm>
            </p:grpSpPr>
            <p:sp>
              <p:nvSpPr>
                <p:cNvPr id="439" name=""/>
                <p:cNvSpPr/>
                <p:nvPr/>
              </p:nvSpPr>
              <p:spPr>
                <a:xfrm>
                  <a:off x="7023600" y="2260080"/>
                  <a:ext cx="432000" cy="237960"/>
                </a:xfrm>
                <a:prstGeom prst="downArrowCallout">
                  <a:avLst>
                    <a:gd name="adj1" fmla="val 45390"/>
                    <a:gd name="adj2" fmla="val 45386"/>
                    <a:gd name="adj3" fmla="val 16667"/>
                    <a:gd name="adj4" fmla="val 6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0800000">
                  <a:off x="7023600" y="2398680"/>
                  <a:ext cx="432000" cy="575280"/>
                </a:xfrm>
                <a:custGeom>
                  <a:avLst/>
                  <a:gdLst>
                    <a:gd name="textAreaLeft" fmla="*/ 95040 w 432000"/>
                    <a:gd name="textAreaRight" fmla="*/ 336960 w 432000"/>
                    <a:gd name="textAreaTop" fmla="*/ 126360 h 575280"/>
                    <a:gd name="textAreaBottom" fmla="*/ 448920 h 57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1" name=""/>
              <p:cNvSpPr/>
              <p:nvPr/>
            </p:nvSpPr>
            <p:spPr>
              <a:xfrm>
                <a:off x="3708720" y="2942640"/>
                <a:ext cx="115272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696840" y="297432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861800" y="297432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696840" y="3222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3997080" y="1714320"/>
              <a:ext cx="864720" cy="237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eles</a:t>
              </a:r>
              <a:endParaRPr b="0" lang="en-US" sz="1200" spc="-1" strike="noStrike">
                <a:solidFill>
                  <a:srgbClr val="000000"/>
                </a:solidFill>
                <a:latin typeface="Times New Roman"/>
              </a:endParaRPr>
            </a:p>
          </p:txBody>
        </p:sp>
        <p:sp>
          <p:nvSpPr>
            <p:cNvPr id="446" name=""/>
            <p:cNvSpPr/>
            <p:nvPr/>
          </p:nvSpPr>
          <p:spPr>
            <a:xfrm>
              <a:off x="6591240" y="1595520"/>
              <a:ext cx="1296720" cy="237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cer riel</a:t>
              </a:r>
              <a:endParaRPr b="0" lang="en-US" sz="1200" spc="-1" strike="noStrike">
                <a:solidFill>
                  <a:srgbClr val="000000"/>
                </a:solidFill>
                <a:latin typeface="Times New Roman"/>
              </a:endParaRPr>
            </a:p>
          </p:txBody>
        </p:sp>
        <p:sp>
          <p:nvSpPr>
            <p:cNvPr id="447" name=""/>
            <p:cNvSpPr/>
            <p:nvPr/>
          </p:nvSpPr>
          <p:spPr>
            <a:xfrm flipH="1">
              <a:off x="2700000" y="1952640"/>
              <a:ext cx="115272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12840" y="1910520"/>
              <a:ext cx="962280" cy="55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107840" y="1833480"/>
              <a:ext cx="14400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a:off x="5065560" y="764280"/>
            <a:ext cx="411480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 </a:t>
            </a:r>
            <a:r>
              <a:rPr b="1" lang="es-ES_tradnl" sz="1800" spc="-1" strike="noStrike">
                <a:solidFill>
                  <a:srgbClr val="3333cc"/>
                </a:solidFill>
                <a:latin typeface="Arial"/>
              </a:rPr>
              <a:t>VÍAS PARA RUEDAS DE ACERO</a:t>
            </a:r>
            <a:endParaRPr b="0" lang="en-US" sz="1800" spc="-1" strike="noStrike">
              <a:solidFill>
                <a:srgbClr val="000000"/>
              </a:solidFill>
              <a:latin typeface="Times New Roman"/>
            </a:endParaRPr>
          </a:p>
        </p:txBody>
      </p:sp>
      <p:sp>
        <p:nvSpPr>
          <p:cNvPr id="451" name=""/>
          <p:cNvSpPr/>
          <p:nvPr/>
        </p:nvSpPr>
        <p:spPr>
          <a:xfrm>
            <a:off x="5486400" y="3840120"/>
            <a:ext cx="3200400" cy="2475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99"/>
                </a:solidFill>
                <a:latin typeface="Arial"/>
              </a:rPr>
              <a:t>ELEMENTOS VÍAS RODADO RUEDAS DE ACERO</a:t>
            </a:r>
            <a:endParaRPr b="0" lang="en-US" sz="1400" spc="-1" strike="noStrike">
              <a:solidFill>
                <a:srgbClr val="000000"/>
              </a:solidFill>
              <a:latin typeface="Times New Roman"/>
            </a:endParaRPr>
          </a:p>
          <a:p>
            <a:pPr>
              <a:lnSpc>
                <a:spcPct val="5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Rieles</a:t>
            </a:r>
            <a:endParaRPr b="0" lang="en-US" sz="1800" spc="-1" strike="noStrike">
              <a:solidFill>
                <a:srgbClr val="000000"/>
              </a:solidFill>
              <a:latin typeface="Times New Roman"/>
            </a:endParaRPr>
          </a:p>
          <a:p>
            <a:pPr>
              <a:lnSpc>
                <a:spcPct val="5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isladores</a:t>
            </a:r>
            <a:endParaRPr b="0" lang="en-US" sz="1800" spc="-1" strike="noStrike">
              <a:solidFill>
                <a:srgbClr val="000000"/>
              </a:solidFill>
              <a:latin typeface="Times New Roman"/>
            </a:endParaRPr>
          </a:p>
          <a:p>
            <a:pPr>
              <a:lnSpc>
                <a:spcPct val="5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Tercer riel</a:t>
            </a:r>
            <a:endParaRPr b="0" lang="en-US" sz="1800" spc="-1" strike="noStrike">
              <a:solidFill>
                <a:srgbClr val="000000"/>
              </a:solidFill>
              <a:latin typeface="Times New Roman"/>
            </a:endParaRPr>
          </a:p>
          <a:p>
            <a:pPr>
              <a:lnSpc>
                <a:spcPct val="5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paratos de vía</a:t>
            </a:r>
            <a:endParaRPr b="0" lang="en-US" sz="1800" spc="-1" strike="noStrike">
              <a:solidFill>
                <a:srgbClr val="000000"/>
              </a:solidFill>
              <a:latin typeface="Times New Roman"/>
            </a:endParaRPr>
          </a:p>
          <a:p>
            <a:pPr>
              <a:lnSpc>
                <a:spcPct val="5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errojos de agujas:</a:t>
            </a:r>
            <a:endParaRPr b="0" lang="en-US" sz="1800" spc="-1" strike="noStrike">
              <a:solidFill>
                <a:srgbClr val="000000"/>
              </a:solidFill>
              <a:latin typeface="Times New Roman"/>
            </a:endParaRPr>
          </a:p>
          <a:p>
            <a:pPr lvl="1" marL="457200">
              <a:lnSpc>
                <a:spcPct val="5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errojo Axial.</a:t>
            </a:r>
            <a:endParaRPr b="0" lang="en-US" sz="1800" spc="-1" strike="noStrike">
              <a:solidFill>
                <a:srgbClr val="000000"/>
              </a:solidFill>
              <a:latin typeface="Times New Roman"/>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errojo individual</a:t>
            </a:r>
            <a:endParaRPr b="0" lang="en-US" sz="1800" spc="-1" strike="noStrike">
              <a:solidFill>
                <a:srgbClr val="000000"/>
              </a:solidFill>
              <a:latin typeface="Times New Roman"/>
            </a:endParaRPr>
          </a:p>
        </p:txBody>
      </p:sp>
      <p:sp>
        <p:nvSpPr>
          <p:cNvPr id="452" name=""/>
          <p:cNvSpPr/>
          <p:nvPr/>
        </p:nvSpPr>
        <p:spPr>
          <a:xfrm>
            <a:off x="1177920" y="3881160"/>
            <a:ext cx="3681360" cy="611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 </a:t>
            </a:r>
            <a:r>
              <a:rPr b="1" lang="es-ES_tradnl" sz="1600" spc="-1" strike="noStrike">
                <a:solidFill>
                  <a:srgbClr val="3333cc"/>
                </a:solidFill>
                <a:latin typeface="Arial"/>
              </a:rPr>
              <a:t>ALIMENTACION ELECTRICA POR TERCER RIE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326880" y="260280"/>
            <a:ext cx="8421840" cy="6335640"/>
          </a:xfrm>
          <a:prstGeom prst="rect">
            <a:avLst/>
          </a:prstGeom>
          <a:ln w="0">
            <a:noFill/>
          </a:ln>
        </p:spPr>
      </p:pic>
      <p:sp>
        <p:nvSpPr>
          <p:cNvPr id="454" name=""/>
          <p:cNvSpPr/>
          <p:nvPr/>
        </p:nvSpPr>
        <p:spPr>
          <a:xfrm>
            <a:off x="5651640" y="5877000"/>
            <a:ext cx="3097080" cy="73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TADOR A TERCER RIEL, EL TERCER RIEL ESTA DEL OTRO LADO DEL TR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95280" y="166680"/>
            <a:ext cx="8381880" cy="6276960"/>
          </a:xfrm>
          <a:prstGeom prst="rect">
            <a:avLst/>
          </a:prstGeom>
          <a:ln w="0">
            <a:noFill/>
          </a:ln>
        </p:spPr>
      </p:pic>
      <p:sp>
        <p:nvSpPr>
          <p:cNvPr id="456" name=""/>
          <p:cNvSpPr/>
          <p:nvPr/>
        </p:nvSpPr>
        <p:spPr>
          <a:xfrm>
            <a:off x="3276720" y="6330960"/>
            <a:ext cx="5790960" cy="550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 4</a:t>
            </a:r>
            <a:r>
              <a:rPr b="1" lang="en-US" sz="1400" spc="-1" strike="noStrike">
                <a:solidFill>
                  <a:srgbClr val="000000"/>
                </a:solidFill>
                <a:latin typeface="Arial"/>
              </a:rPr>
              <a:t>, RODADO RUEDAS DE ACERO, TUNEL DE TRES VIAS, VIA PRINCIPAL Y VIA DE ENLACE A TALLERES PUENTE AL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24000" y="836640"/>
            <a:ext cx="8534160" cy="3987720"/>
          </a:xfrm>
          <a:prstGeom prst="rect">
            <a:avLst/>
          </a:prstGeom>
          <a:ln w="0">
            <a:noFill/>
          </a:ln>
        </p:spPr>
      </p:pic>
      <p:sp>
        <p:nvSpPr>
          <p:cNvPr id="458" name=""/>
          <p:cNvSpPr/>
          <p:nvPr/>
        </p:nvSpPr>
        <p:spPr>
          <a:xfrm>
            <a:off x="4114800" y="135720"/>
            <a:ext cx="487692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VÍAS RODADO SOBRE NEUMÁTICOS</a:t>
            </a:r>
            <a:endParaRPr b="0" lang="en-US" sz="2000" spc="-1" strike="noStrike">
              <a:solidFill>
                <a:srgbClr val="000000"/>
              </a:solidFill>
              <a:latin typeface="Times New Roman"/>
            </a:endParaRPr>
          </a:p>
        </p:txBody>
      </p:sp>
      <p:sp>
        <p:nvSpPr>
          <p:cNvPr id="459" name=""/>
          <p:cNvSpPr/>
          <p:nvPr/>
        </p:nvSpPr>
        <p:spPr>
          <a:xfrm>
            <a:off x="914400" y="4027320"/>
            <a:ext cx="7391520" cy="22100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ROPORCIONAR LA SUPERFICIE DE RODADO DONDE SE SUSTENTAN LAS RUEDAS DE LOS TRENES.</a:t>
            </a:r>
            <a:endParaRPr b="0" lang="en-US" sz="1500" spc="-1" strike="noStrike">
              <a:solidFill>
                <a:srgbClr val="000000"/>
              </a:solidFill>
              <a:latin typeface="Times New Roman"/>
            </a:endParaRPr>
          </a:p>
          <a:p>
            <a:pPr marL="277560" indent="-2775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ROPORCIONAR LOS PLANOS VERTICALES DE APOYO DONDE RUEDAN LOS NEUMÁTICOS GUÍA DE LOS TRENES (FUNCIÓN GUIADO).</a:t>
            </a:r>
            <a:endParaRPr b="0" lang="en-US" sz="1500" spc="-1" strike="noStrike">
              <a:solidFill>
                <a:srgbClr val="000000"/>
              </a:solidFill>
              <a:latin typeface="Times New Roman"/>
            </a:endParaRPr>
          </a:p>
          <a:p>
            <a:pPr marL="277560" indent="-2775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ATERIALIZAR LOS MECANISMOS QUE PERMITEN A LOS TRENES CAMBIAR DE UNA VÍA A OTRA. (COMUNICACIONES, DESVÍOS).</a:t>
            </a:r>
            <a:endParaRPr b="0" lang="en-US" sz="1500" spc="-1" strike="noStrike">
              <a:solidFill>
                <a:srgbClr val="000000"/>
              </a:solidFill>
              <a:latin typeface="Times New Roman"/>
            </a:endParaRPr>
          </a:p>
          <a:p>
            <a:pPr marL="277560" indent="-2775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ROPORCIONAR LOS MEDIOS PARA LA CONDUCCIÓN ELÉCTRICA DE</a:t>
            </a:r>
            <a:endParaRPr b="0" lang="en-US" sz="1500" spc="-1" strike="noStrike">
              <a:solidFill>
                <a:srgbClr val="000000"/>
              </a:solidFill>
              <a:latin typeface="Times New Roman"/>
            </a:endParaRPr>
          </a:p>
          <a:p>
            <a:pPr lvl="3" marL="1296000" indent="-18504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BARRAS GUIAS PARA ALIMENTACION 750 V.</a:t>
            </a:r>
            <a:endParaRPr b="0" lang="en-US" sz="1500" spc="-1" strike="noStrike">
              <a:solidFill>
                <a:srgbClr val="000000"/>
              </a:solidFill>
              <a:latin typeface="Times New Roman"/>
            </a:endParaRPr>
          </a:p>
          <a:p>
            <a:pPr lvl="3" marL="1296000" indent="-18504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RETORNO DE LA CORRIENTE DE TRACCIÓN, EN 750 VCC.</a:t>
            </a:r>
            <a:endParaRPr b="0" lang="en-US" sz="1500" spc="-1" strike="noStrike">
              <a:solidFill>
                <a:srgbClr val="000000"/>
              </a:solidFill>
              <a:latin typeface="Times New Roman"/>
            </a:endParaRPr>
          </a:p>
          <a:p>
            <a:pPr lvl="3" marL="1296000" indent="-18504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LAS CORRIENTES DE SEÑALIZACIÓN.</a:t>
            </a:r>
            <a:endParaRPr b="0" lang="en-US" sz="1500" spc="-1" strike="noStrike">
              <a:solidFill>
                <a:srgbClr val="000000"/>
              </a:solidFill>
              <a:latin typeface="Times New Roman"/>
            </a:endParaRPr>
          </a:p>
          <a:p>
            <a:pPr lvl="3" marL="1296000" indent="-18504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LA CORRIENTE DE TELEFONÍA DE TREN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5624640" y="115920"/>
            <a:ext cx="3411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ARATO DE VIAS METRO SOBRE NEUMATICOS</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755640" y="752400"/>
            <a:ext cx="7696080" cy="5772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324480" y="914400"/>
            <a:ext cx="25146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argas que debe soportar cada parte de la vía.</a:t>
            </a: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463" name=""/>
          <p:cNvSpPr/>
          <p:nvPr/>
        </p:nvSpPr>
        <p:spPr>
          <a:xfrm>
            <a:off x="508464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sp>
        <p:nvSpPr>
          <p:cNvPr id="464" name=""/>
          <p:cNvSpPr/>
          <p:nvPr/>
        </p:nvSpPr>
        <p:spPr>
          <a:xfrm>
            <a:off x="0" y="-59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65" name=""/>
          <p:cNvGrpSpPr/>
          <p:nvPr/>
        </p:nvGrpSpPr>
        <p:grpSpPr>
          <a:xfrm>
            <a:off x="76320" y="42840"/>
            <a:ext cx="5976720" cy="6769080"/>
            <a:chOff x="76320" y="42840"/>
            <a:chExt cx="5976720" cy="6769080"/>
          </a:xfrm>
        </p:grpSpPr>
        <p:grpSp>
          <p:nvGrpSpPr>
            <p:cNvPr id="466" name=""/>
            <p:cNvGrpSpPr/>
            <p:nvPr/>
          </p:nvGrpSpPr>
          <p:grpSpPr>
            <a:xfrm>
              <a:off x="81000" y="47520"/>
              <a:ext cx="5967360" cy="6759720"/>
              <a:chOff x="81000" y="47520"/>
              <a:chExt cx="5967360" cy="6759720"/>
            </a:xfrm>
          </p:grpSpPr>
          <p:grpSp>
            <p:nvGrpSpPr>
              <p:cNvPr id="467" name=""/>
              <p:cNvGrpSpPr/>
              <p:nvPr/>
            </p:nvGrpSpPr>
            <p:grpSpPr>
              <a:xfrm>
                <a:off x="81000" y="47520"/>
                <a:ext cx="1989000" cy="1004760"/>
                <a:chOff x="81000" y="47520"/>
                <a:chExt cx="1989000" cy="1004760"/>
              </a:xfrm>
            </p:grpSpPr>
            <p:sp>
              <p:nvSpPr>
                <p:cNvPr id="468" name=""/>
                <p:cNvSpPr/>
                <p:nvPr/>
              </p:nvSpPr>
              <p:spPr>
                <a:xfrm>
                  <a:off x="125280" y="47520"/>
                  <a:ext cx="1900440" cy="100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Unicode MS"/>
                      <a:ea typeface="Arial Unicode MS"/>
                    </a:rPr>
                    <a:t>Contacto ent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
                <p:cNvSpPr/>
                <p:nvPr/>
              </p:nvSpPr>
              <p:spPr>
                <a:xfrm>
                  <a:off x="81000" y="47520"/>
                  <a:ext cx="19890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2070000" y="47520"/>
                <a:ext cx="1989360" cy="1004760"/>
                <a:chOff x="2070000" y="47520"/>
                <a:chExt cx="1989360" cy="1004760"/>
              </a:xfrm>
            </p:grpSpPr>
            <p:sp>
              <p:nvSpPr>
                <p:cNvPr id="471" name=""/>
                <p:cNvSpPr/>
                <p:nvPr/>
              </p:nvSpPr>
              <p:spPr>
                <a:xfrm>
                  <a:off x="2114640" y="47520"/>
                  <a:ext cx="1900080" cy="100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Unicode MS"/>
                      <a:ea typeface="Arial Unicode MS"/>
                    </a:rPr>
                    <a:t>Area de contacto (cm</a:t>
                  </a:r>
                  <a:r>
                    <a:rPr b="1" i="1" lang="es-ES_tradnl" sz="1800" spc="-1" strike="noStrike" baseline="30000">
                      <a:solidFill>
                        <a:srgbClr val="000000"/>
                      </a:solidFill>
                      <a:latin typeface="Arial Unicode MS"/>
                      <a:ea typeface="Arial Unicode MS"/>
                    </a:rPr>
                    <a:t>2</a:t>
                  </a:r>
                  <a:r>
                    <a:rPr b="1" i="1" lang="es-ES_tradnl"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
                <p:cNvSpPr/>
                <p:nvPr/>
              </p:nvSpPr>
              <p:spPr>
                <a:xfrm>
                  <a:off x="2070000" y="47520"/>
                  <a:ext cx="19893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4059360" y="47520"/>
                <a:ext cx="1989000" cy="1004760"/>
                <a:chOff x="4059360" y="47520"/>
                <a:chExt cx="1989000" cy="1004760"/>
              </a:xfrm>
            </p:grpSpPr>
            <p:sp>
              <p:nvSpPr>
                <p:cNvPr id="474" name=""/>
                <p:cNvSpPr/>
                <p:nvPr/>
              </p:nvSpPr>
              <p:spPr>
                <a:xfrm>
                  <a:off x="4103640" y="47520"/>
                  <a:ext cx="1900440" cy="100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Unicode MS"/>
                      <a:ea typeface="Arial Unicode MS"/>
                    </a:rPr>
                    <a:t>Carga (kg/cm</a:t>
                  </a:r>
                  <a:r>
                    <a:rPr b="1" i="1" lang="es-ES_tradnl" sz="1800" spc="-1" strike="noStrike" baseline="30000">
                      <a:solidFill>
                        <a:srgbClr val="000000"/>
                      </a:solidFill>
                      <a:latin typeface="Arial Unicode MS"/>
                      <a:ea typeface="Arial Unicode MS"/>
                    </a:rPr>
                    <a:t>2</a:t>
                  </a:r>
                  <a:r>
                    <a:rPr b="1" i="1" lang="es-ES_tradnl"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4059360" y="47520"/>
                  <a:ext cx="19890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81000" y="1052280"/>
                <a:ext cx="1989000" cy="1005120"/>
                <a:chOff x="81000" y="1052280"/>
                <a:chExt cx="1989000" cy="1005120"/>
              </a:xfrm>
            </p:grpSpPr>
            <p:sp>
              <p:nvSpPr>
                <p:cNvPr id="477" name=""/>
                <p:cNvSpPr/>
                <p:nvPr/>
              </p:nvSpPr>
              <p:spPr>
                <a:xfrm>
                  <a:off x="125280" y="1052280"/>
                  <a:ext cx="190044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Contacto rueda-rie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
                <p:cNvSpPr/>
                <p:nvPr/>
              </p:nvSpPr>
              <p:spPr>
                <a:xfrm>
                  <a:off x="81000" y="1052280"/>
                  <a:ext cx="198900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070000" y="1052280"/>
                <a:ext cx="1989360" cy="1005120"/>
                <a:chOff x="2070000" y="1052280"/>
                <a:chExt cx="1989360" cy="1005120"/>
              </a:xfrm>
            </p:grpSpPr>
            <p:sp>
              <p:nvSpPr>
                <p:cNvPr id="480" name=""/>
                <p:cNvSpPr/>
                <p:nvPr/>
              </p:nvSpPr>
              <p:spPr>
                <a:xfrm>
                  <a:off x="2114640" y="1052280"/>
                  <a:ext cx="1900080" cy="100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3</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
                <p:cNvSpPr/>
                <p:nvPr/>
              </p:nvSpPr>
              <p:spPr>
                <a:xfrm>
                  <a:off x="2070000" y="1052280"/>
                  <a:ext cx="19893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059360" y="1052280"/>
                <a:ext cx="1989000" cy="1005120"/>
                <a:chOff x="4059360" y="1052280"/>
                <a:chExt cx="1989000" cy="1005120"/>
              </a:xfrm>
            </p:grpSpPr>
            <p:sp>
              <p:nvSpPr>
                <p:cNvPr id="483" name=""/>
                <p:cNvSpPr/>
                <p:nvPr/>
              </p:nvSpPr>
              <p:spPr>
                <a:xfrm>
                  <a:off x="4103640" y="1052280"/>
                  <a:ext cx="1900440" cy="100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3.333</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
                <p:cNvSpPr/>
                <p:nvPr/>
              </p:nvSpPr>
              <p:spPr>
                <a:xfrm>
                  <a:off x="4059360" y="1052280"/>
                  <a:ext cx="198900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81000" y="2057400"/>
                <a:ext cx="1989000" cy="1187280"/>
                <a:chOff x="81000" y="2057400"/>
                <a:chExt cx="1989000" cy="1187280"/>
              </a:xfrm>
            </p:grpSpPr>
            <p:sp>
              <p:nvSpPr>
                <p:cNvPr id="486" name=""/>
                <p:cNvSpPr/>
                <p:nvPr/>
              </p:nvSpPr>
              <p:spPr>
                <a:xfrm>
                  <a:off x="125280" y="2057400"/>
                  <a:ext cx="1900440" cy="118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Contacto riel-placa apoy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
                <p:cNvSpPr/>
                <p:nvPr/>
              </p:nvSpPr>
              <p:spPr>
                <a:xfrm>
                  <a:off x="81000" y="2057400"/>
                  <a:ext cx="198900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2070000" y="2057400"/>
                <a:ext cx="1989360" cy="1187280"/>
                <a:chOff x="2070000" y="2057400"/>
                <a:chExt cx="1989360" cy="1187280"/>
              </a:xfrm>
            </p:grpSpPr>
            <p:sp>
              <p:nvSpPr>
                <p:cNvPr id="489" name=""/>
                <p:cNvSpPr/>
                <p:nvPr/>
              </p:nvSpPr>
              <p:spPr>
                <a:xfrm>
                  <a:off x="2114640" y="2057400"/>
                  <a:ext cx="1900080" cy="11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2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
                <p:cNvSpPr/>
                <p:nvPr/>
              </p:nvSpPr>
              <p:spPr>
                <a:xfrm>
                  <a:off x="2070000" y="2057400"/>
                  <a:ext cx="19893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4059360" y="2057400"/>
                <a:ext cx="1989000" cy="1187280"/>
                <a:chOff x="4059360" y="2057400"/>
                <a:chExt cx="1989000" cy="1187280"/>
              </a:xfrm>
            </p:grpSpPr>
            <p:sp>
              <p:nvSpPr>
                <p:cNvPr id="492" name=""/>
                <p:cNvSpPr/>
                <p:nvPr/>
              </p:nvSpPr>
              <p:spPr>
                <a:xfrm>
                  <a:off x="4103640" y="2057400"/>
                  <a:ext cx="1900440" cy="11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5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
                <p:cNvSpPr/>
                <p:nvPr/>
              </p:nvSpPr>
              <p:spPr>
                <a:xfrm>
                  <a:off x="4059360" y="2057400"/>
                  <a:ext cx="198900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81000" y="3244680"/>
                <a:ext cx="1989000" cy="1187640"/>
                <a:chOff x="81000" y="3244680"/>
                <a:chExt cx="1989000" cy="1187640"/>
              </a:xfrm>
            </p:grpSpPr>
            <p:sp>
              <p:nvSpPr>
                <p:cNvPr id="495" name=""/>
                <p:cNvSpPr/>
                <p:nvPr/>
              </p:nvSpPr>
              <p:spPr>
                <a:xfrm>
                  <a:off x="125280" y="3244680"/>
                  <a:ext cx="1900440" cy="118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Contacto placa de apoyo-durmi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81000" y="3244680"/>
                  <a:ext cx="198900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2070000" y="3244680"/>
                <a:ext cx="1989360" cy="1187640"/>
                <a:chOff x="2070000" y="3244680"/>
                <a:chExt cx="1989360" cy="1187640"/>
              </a:xfrm>
            </p:grpSpPr>
            <p:sp>
              <p:nvSpPr>
                <p:cNvPr id="498" name=""/>
                <p:cNvSpPr/>
                <p:nvPr/>
              </p:nvSpPr>
              <p:spPr>
                <a:xfrm>
                  <a:off x="2114640" y="3244680"/>
                  <a:ext cx="1900080" cy="1187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5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
                <p:cNvSpPr/>
                <p:nvPr/>
              </p:nvSpPr>
              <p:spPr>
                <a:xfrm>
                  <a:off x="2070000" y="3244680"/>
                  <a:ext cx="19893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059360" y="3244680"/>
                <a:ext cx="1989000" cy="1187640"/>
                <a:chOff x="4059360" y="3244680"/>
                <a:chExt cx="1989000" cy="1187640"/>
              </a:xfrm>
            </p:grpSpPr>
            <p:sp>
              <p:nvSpPr>
                <p:cNvPr id="501" name=""/>
                <p:cNvSpPr/>
                <p:nvPr/>
              </p:nvSpPr>
              <p:spPr>
                <a:xfrm>
                  <a:off x="4103640" y="3244680"/>
                  <a:ext cx="1900440" cy="1187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2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
                <p:cNvSpPr/>
                <p:nvPr/>
              </p:nvSpPr>
              <p:spPr>
                <a:xfrm>
                  <a:off x="4059360" y="3244680"/>
                  <a:ext cx="198900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81000" y="4432320"/>
                <a:ext cx="1989000" cy="1187280"/>
                <a:chOff x="81000" y="4432320"/>
                <a:chExt cx="1989000" cy="1187280"/>
              </a:xfrm>
            </p:grpSpPr>
            <p:sp>
              <p:nvSpPr>
                <p:cNvPr id="504" name=""/>
                <p:cNvSpPr/>
                <p:nvPr/>
              </p:nvSpPr>
              <p:spPr>
                <a:xfrm>
                  <a:off x="125280" y="4432320"/>
                  <a:ext cx="1900440" cy="118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Contacto durmiente-balas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81000" y="4432320"/>
                  <a:ext cx="198900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2070000" y="4432320"/>
                <a:ext cx="1989360" cy="1187280"/>
                <a:chOff x="2070000" y="4432320"/>
                <a:chExt cx="1989360" cy="1187280"/>
              </a:xfrm>
            </p:grpSpPr>
            <p:sp>
              <p:nvSpPr>
                <p:cNvPr id="507" name=""/>
                <p:cNvSpPr/>
                <p:nvPr/>
              </p:nvSpPr>
              <p:spPr>
                <a:xfrm>
                  <a:off x="2114640" y="4432320"/>
                  <a:ext cx="1900080" cy="11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2.0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
                <p:cNvSpPr/>
                <p:nvPr/>
              </p:nvSpPr>
              <p:spPr>
                <a:xfrm>
                  <a:off x="2070000" y="4432320"/>
                  <a:ext cx="19893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4059360" y="4432320"/>
                <a:ext cx="1989000" cy="1187280"/>
                <a:chOff x="4059360" y="4432320"/>
                <a:chExt cx="1989000" cy="1187280"/>
              </a:xfrm>
            </p:grpSpPr>
            <p:sp>
              <p:nvSpPr>
                <p:cNvPr id="510" name=""/>
                <p:cNvSpPr/>
                <p:nvPr/>
              </p:nvSpPr>
              <p:spPr>
                <a:xfrm>
                  <a:off x="4103640" y="4432320"/>
                  <a:ext cx="1900440" cy="11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1" name=""/>
                <p:cNvSpPr/>
                <p:nvPr/>
              </p:nvSpPr>
              <p:spPr>
                <a:xfrm>
                  <a:off x="4059360" y="4432320"/>
                  <a:ext cx="198900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81000" y="5619600"/>
                <a:ext cx="1989000" cy="1187640"/>
                <a:chOff x="81000" y="5619600"/>
                <a:chExt cx="1989000" cy="1187640"/>
              </a:xfrm>
            </p:grpSpPr>
            <p:sp>
              <p:nvSpPr>
                <p:cNvPr id="513" name=""/>
                <p:cNvSpPr/>
                <p:nvPr/>
              </p:nvSpPr>
              <p:spPr>
                <a:xfrm>
                  <a:off x="125280" y="5619600"/>
                  <a:ext cx="1900440" cy="118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Contacto balasto-plataform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81000" y="5619600"/>
                  <a:ext cx="198900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070000" y="5619600"/>
                <a:ext cx="1989360" cy="1187640"/>
                <a:chOff x="2070000" y="5619600"/>
                <a:chExt cx="1989360" cy="1187640"/>
              </a:xfrm>
            </p:grpSpPr>
            <p:sp>
              <p:nvSpPr>
                <p:cNvPr id="516" name=""/>
                <p:cNvSpPr/>
                <p:nvPr/>
              </p:nvSpPr>
              <p:spPr>
                <a:xfrm>
                  <a:off x="2114640" y="5619600"/>
                  <a:ext cx="1900080" cy="1187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10.0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
                <p:cNvSpPr/>
                <p:nvPr/>
              </p:nvSpPr>
              <p:spPr>
                <a:xfrm>
                  <a:off x="2070000" y="5619600"/>
                  <a:ext cx="19893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059360" y="5619600"/>
                <a:ext cx="1989000" cy="1187640"/>
                <a:chOff x="4059360" y="5619600"/>
                <a:chExt cx="1989000" cy="1187640"/>
              </a:xfrm>
            </p:grpSpPr>
            <p:sp>
              <p:nvSpPr>
                <p:cNvPr id="519" name=""/>
                <p:cNvSpPr/>
                <p:nvPr/>
              </p:nvSpPr>
              <p:spPr>
                <a:xfrm>
                  <a:off x="4103640" y="5619600"/>
                  <a:ext cx="1900440" cy="1187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
                <p:cNvSpPr/>
                <p:nvPr/>
              </p:nvSpPr>
              <p:spPr>
                <a:xfrm>
                  <a:off x="4059360" y="5619600"/>
                  <a:ext cx="198900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1" name=""/>
            <p:cNvSpPr/>
            <p:nvPr/>
          </p:nvSpPr>
          <p:spPr>
            <a:xfrm>
              <a:off x="76320" y="42840"/>
              <a:ext cx="5976720" cy="6769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 name=""/>
          <p:cNvSpPr/>
          <p:nvPr/>
        </p:nvSpPr>
        <p:spPr>
          <a:xfrm>
            <a:off x="0" y="68119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6227640" y="4125960"/>
            <a:ext cx="26654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nsión alimentación: -Ferrocarriles chilenos: 3.000 Vc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tro   :    750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257800" y="138240"/>
            <a:ext cx="37339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ea typeface="Times New Roman"/>
              </a:rPr>
              <a:t>HISTORIA DE LA TRACCION ELECTRICA</a:t>
            </a:r>
            <a:r>
              <a:rPr b="1" lang="es-ES" sz="1400" spc="-1" strike="noStrike">
                <a:solidFill>
                  <a:srgbClr val="0066ff"/>
                </a:solidFill>
                <a:latin typeface="Arial"/>
              </a:rPr>
              <a:t> </a:t>
            </a:r>
            <a:endParaRPr b="0" lang="en-US" sz="1400" spc="-1" strike="noStrike">
              <a:solidFill>
                <a:srgbClr val="000000"/>
              </a:solidFill>
              <a:latin typeface="Times New Roman"/>
            </a:endParaRPr>
          </a:p>
        </p:txBody>
      </p:sp>
      <p:sp>
        <p:nvSpPr>
          <p:cNvPr id="53" name=""/>
          <p:cNvSpPr/>
          <p:nvPr/>
        </p:nvSpPr>
        <p:spPr>
          <a:xfrm>
            <a:off x="533520" y="766800"/>
            <a:ext cx="8153280" cy="56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La electrificación del puerto Pajares, en la línea León-Gijón, fue la segunda electrificación española, con características diferentes a la de Almería. Ambas pueden incluirse entre las más antiguas del mundo en su género. Se inauguró en 1925.</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El trayecto electrificado, Busdongo-Ujo, tiene 62 km. de longitud y es uno de los más difíciles de la red española. La rampa es de 20 por mil en casi todo el recorrido, las curvas de 300 m. de radio son muy abundantes, el 52% de la línea está en curvas, y hay 70 túnel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Todo el trayecto es una notable obra de ingeniería que puede compararse con las más célebres del mundo en su género. Se eligió el sistema de 3000V. corriente continua inspirándose en la electrificación efectuada en 1914 por el ferrocarril Chicago-St. Paul Ry en los estados de Montana y Washingto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Unicode MS"/>
                <a:ea typeface="Times New Roman"/>
              </a:rPr>
              <a:t>Con corriente de estas características, corriente continua y 3000 V., se realizó la electrificación de la red ferroviaria de España, aunque en alguna zona del norte se emplearon al comienzo 1.500 V. los que posteriormente se convirtieron a 3000 V.</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609480" y="76320"/>
            <a:ext cx="800100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GO SOBRE FERROCARRILES</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TROCHA (ANCHO DE LA VIA)</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Al ancho de la vía se le denomina trocha y es la distancia medida entre las caras interiores de los rieles de uno y otro lado de la vía. Se mide en un plano situado a 15 mm. por debajo del plano de rodadura.</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El Ancho de la vía internacional adoptado por la mayoría de los países en la Conferencia de Berna de 1907 y constituye el 61,5% de las líneas del mundo, tiene un valor de 4’ 8,5”, equivalente a 1.435 mm. Este valor es el mínimo en alineación recta. En curva debido al problema de la inscripción de los vehículos, en especial de los vehículos dotados de ejes motores, se da un sobreancho en función del radio de la curva, siendo el máximo de 1.470 mm. El valor entre ejes de los rieles es aproximadamente 1.500 mm.</a:t>
            </a:r>
            <a:endParaRPr b="0" lang="en-US" sz="2000" spc="-1" strike="noStrike">
              <a:solidFill>
                <a:srgbClr val="000000"/>
              </a:solidFill>
              <a:latin typeface="Times New Roman"/>
            </a:endParaRPr>
          </a:p>
          <a:p>
            <a:pPr algn="just">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nSpc>
                <a:spcPct val="100000"/>
              </a:lnSpc>
              <a:tabLst>
                <a:tab algn="l" pos="0"/>
                <a:tab algn="l" pos="193680"/>
                <a:tab algn="l" pos="28260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l Metro de Santiago utiliza esta trocha de 1.435 mm, en cambio los Ferrocarriles en Chile tienen una trocha de 1.676 mm. y en el Norte de Chile la trocha es 1.000 mm.</a:t>
            </a: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525" name=""/>
          <p:cNvSpPr/>
          <p:nvPr/>
        </p:nvSpPr>
        <p:spPr>
          <a:xfrm>
            <a:off x="508464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ALGO SOBRE FERROCARRILES</a:t>
            </a:r>
            <a:endParaRPr b="0" lang="en-US" sz="1400" spc="-1" strike="noStrike">
              <a:solidFill>
                <a:srgbClr val="000000"/>
              </a:solidFill>
              <a:latin typeface="Times New Roman"/>
            </a:endParaRPr>
          </a:p>
        </p:txBody>
      </p:sp>
      <p:sp>
        <p:nvSpPr>
          <p:cNvPr id="526" name=""/>
          <p:cNvSpPr/>
          <p:nvPr/>
        </p:nvSpPr>
        <p:spPr>
          <a:xfrm>
            <a:off x="0" y="-5922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0" y="68119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257800" y="138240"/>
            <a:ext cx="37339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ea typeface="Times New Roman"/>
              </a:rPr>
              <a:t>HISTORIA DE LA TRACCION ELECTRICA</a:t>
            </a:r>
            <a:r>
              <a:rPr b="1" lang="es-ES" sz="1400" spc="-1" strike="noStrike">
                <a:solidFill>
                  <a:srgbClr val="0066ff"/>
                </a:solidFill>
                <a:latin typeface="Arial"/>
              </a:rPr>
              <a:t> </a:t>
            </a:r>
            <a:endParaRPr b="0" lang="en-US" sz="1400" spc="-1" strike="noStrike">
              <a:solidFill>
                <a:srgbClr val="000000"/>
              </a:solidFill>
              <a:latin typeface="Times New Roman"/>
            </a:endParaRPr>
          </a:p>
        </p:txBody>
      </p:sp>
      <p:sp>
        <p:nvSpPr>
          <p:cNvPr id="55" name=""/>
          <p:cNvSpPr/>
          <p:nvPr/>
        </p:nvSpPr>
        <p:spPr>
          <a:xfrm>
            <a:off x="533520" y="620640"/>
            <a:ext cx="815328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e desechó en España el otro sistema concurrente en esa época con la tracción en corriente continua, que era el de corriente alterna monofásica de frecuencia especial, 15 kV., 16 2/3 Hz., lo que posiblemente fue un acier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1954 hasta 1968 se electrificaron en España unos 2500 km., lo que supone una media anual de 1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e cometió el error de no haber adoptado en aquéllos años el nuevo sistema a 25 kV. y 50 Hz. el cual se ha desarrollado en muchísimos países a causa de sus notables ventajas técnicas y económ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s décadas de los 70 y 80 se llegó a 6258 km. electrificados, más de la mitad de la red, 51% y por ellas se realiza el 80% del transporte ferrovia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ínea AVE Madrid-Sevilla fue la primera línea férrea española electrificada con corriente monofásica de alta tensión y frecuencia industrial, 25.000 V. y 50 Hz..</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2981160" y="2349360"/>
            <a:ext cx="5407200" cy="2663640"/>
            <a:chOff x="2981160" y="2349360"/>
            <a:chExt cx="5407200" cy="2663640"/>
          </a:xfrm>
        </p:grpSpPr>
        <p:sp>
          <p:nvSpPr>
            <p:cNvPr id="57" name=""/>
            <p:cNvSpPr/>
            <p:nvPr/>
          </p:nvSpPr>
          <p:spPr>
            <a:xfrm>
              <a:off x="3674160" y="2349360"/>
              <a:ext cx="207972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ínea de Contacto</a:t>
              </a:r>
              <a:endParaRPr b="0" lang="en-US" sz="900" spc="-1" strike="noStrike">
                <a:solidFill>
                  <a:srgbClr val="000000"/>
                </a:solidFill>
                <a:latin typeface="Times New Roman"/>
              </a:endParaRPr>
            </a:p>
          </p:txBody>
        </p:sp>
        <p:sp>
          <p:nvSpPr>
            <p:cNvPr id="58" name=""/>
            <p:cNvSpPr/>
            <p:nvPr/>
          </p:nvSpPr>
          <p:spPr>
            <a:xfrm>
              <a:off x="5338080" y="3403080"/>
              <a:ext cx="1663560" cy="74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476680" y="4144320"/>
              <a:ext cx="13860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58480" y="4144320"/>
              <a:ext cx="13860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42640" y="4144320"/>
              <a:ext cx="13860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724440" y="4144320"/>
              <a:ext cx="13860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81160" y="4368240"/>
              <a:ext cx="540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81160" y="2847240"/>
              <a:ext cx="540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5615280" y="2847240"/>
              <a:ext cx="27720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615280" y="3032640"/>
              <a:ext cx="27720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599280" y="4036680"/>
              <a:ext cx="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599280" y="2847240"/>
              <a:ext cx="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119760" y="3102120"/>
              <a:ext cx="831600" cy="92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211920" y="3275640"/>
              <a:ext cx="7394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imes New Roman"/>
                </a:rPr>
                <a:t>Subestación</a:t>
              </a:r>
              <a:endParaRPr b="0" lang="en-US" sz="700" spc="-1" strike="noStrike">
                <a:solidFill>
                  <a:srgbClr val="000000"/>
                </a:solidFill>
                <a:latin typeface="Times New Roman"/>
              </a:endParaRPr>
            </a:p>
          </p:txBody>
        </p:sp>
        <p:sp>
          <p:nvSpPr>
            <p:cNvPr id="71" name=""/>
            <p:cNvSpPr/>
            <p:nvPr/>
          </p:nvSpPr>
          <p:spPr>
            <a:xfrm>
              <a:off x="3783960" y="4457160"/>
              <a:ext cx="207972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ircuito de retorno</a:t>
              </a:r>
              <a:endParaRPr b="0" lang="en-US" sz="1200" spc="-1" strike="noStrike">
                <a:solidFill>
                  <a:srgbClr val="000000"/>
                </a:solidFill>
                <a:latin typeface="Times New Roman"/>
              </a:endParaRPr>
            </a:p>
          </p:txBody>
        </p:sp>
        <p:sp>
          <p:nvSpPr>
            <p:cNvPr id="72" name=""/>
            <p:cNvSpPr/>
            <p:nvPr/>
          </p:nvSpPr>
          <p:spPr>
            <a:xfrm>
              <a:off x="5519880" y="3530880"/>
              <a:ext cx="124776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omotora</a:t>
              </a:r>
              <a:endParaRPr b="0" lang="en-US" sz="1200" spc="-1" strike="noStrike">
                <a:solidFill>
                  <a:srgbClr val="000000"/>
                </a:solidFill>
                <a:latin typeface="Times New Roman"/>
              </a:endParaRPr>
            </a:p>
          </p:txBody>
        </p:sp>
      </p:grpSp>
      <p:sp>
        <p:nvSpPr>
          <p:cNvPr id="73"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74" name=""/>
          <p:cNvSpPr/>
          <p:nvPr/>
        </p:nvSpPr>
        <p:spPr>
          <a:xfrm>
            <a:off x="533520" y="692280"/>
            <a:ext cx="8153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amos del funcionamiento de un esquema muy simple denominado </a:t>
            </a:r>
            <a:r>
              <a:rPr b="1" i="1" lang="es-ES_tradnl" sz="2000" spc="-1" strike="noStrike">
                <a:solidFill>
                  <a:srgbClr val="000000"/>
                </a:solidFill>
                <a:latin typeface="Arial"/>
              </a:rPr>
              <a:t>“circuito de tracción”.</a:t>
            </a:r>
            <a:r>
              <a:rPr b="0" lang="es-ES_tradnl" sz="2000" spc="-1" strike="noStrike">
                <a:solidFill>
                  <a:srgbClr val="000000"/>
                </a:solidFill>
                <a:latin typeface="Arial"/>
              </a:rPr>
              <a:t> Una fuente de energía, una línea de contacto (catenaria), una locomotora que utiliza la corriente y un conductor de retorno que cierra el circuito (los rieles). </a:t>
            </a:r>
            <a:r>
              <a:rPr b="1" i="1" lang="es-ES_tradnl" sz="2000" spc="-1" strike="noStrike">
                <a:solidFill>
                  <a:srgbClr val="000000"/>
                </a:solidFill>
                <a:latin typeface="Arial"/>
              </a:rPr>
              <a:t>Contrariamente a lo usual, este circuito se deforma, es más o menos largo según el desplazamiento del tren.</a:t>
            </a:r>
            <a:r>
              <a:rPr b="1"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 name=""/>
          <p:cNvSpPr/>
          <p:nvPr/>
        </p:nvSpPr>
        <p:spPr>
          <a:xfrm>
            <a:off x="611280" y="4676760"/>
            <a:ext cx="8153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ena de transporte entre las centrales y la vía férrea, es decir una subestación eléctrica. Una subestación que efectuará una transformación, es decir una conversión de corriente. Esta subestación que alimenta la línea de contacto estará a su vez alimentada por una línea de alta tensión, a partir de centrales generadoras o de subestaciones transformadoras.</a:t>
            </a:r>
            <a:endParaRPr b="0" lang="en-US" sz="2000" spc="-1" strike="noStrike">
              <a:solidFill>
                <a:srgbClr val="000000"/>
              </a:solidFill>
              <a:latin typeface="Times New Roman"/>
            </a:endParaRPr>
          </a:p>
        </p:txBody>
      </p:sp>
      <p:sp>
        <p:nvSpPr>
          <p:cNvPr id="76" name=""/>
          <p:cNvSpPr/>
          <p:nvPr/>
        </p:nvSpPr>
        <p:spPr>
          <a:xfrm>
            <a:off x="590400" y="2536920"/>
            <a:ext cx="2252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anto a la fuente de energía, no tiene por qué ser forzosamente una central. Será frecuentemente un eslabón en la </a:t>
            </a:r>
            <a:endParaRPr b="0" lang="en-US" sz="2000" spc="-1" strike="noStrike">
              <a:solidFill>
                <a:srgbClr val="000000"/>
              </a:solidFill>
              <a:latin typeface="Times New Roman"/>
            </a:endParaRPr>
          </a:p>
        </p:txBody>
      </p:sp>
      <p:sp>
        <p:nvSpPr>
          <p:cNvPr id="77" name=""/>
          <p:cNvSpPr/>
          <p:nvPr/>
        </p:nvSpPr>
        <p:spPr>
          <a:xfrm>
            <a:off x="533520" y="3049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STINTOS SISTE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79" name=""/>
          <p:cNvSpPr/>
          <p:nvPr/>
        </p:nvSpPr>
        <p:spPr>
          <a:xfrm>
            <a:off x="533520" y="765000"/>
            <a:ext cx="8153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Unicode MS"/>
              </a:rPr>
              <a:t>Un sistema de tracción eléctrica puede ser visto desde dos puntos de vista diferen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Arial Unicode MS"/>
              </a:rPr>
              <a:t>Por un lado el del transporte de la energía hasta el pantógrafo de la locomotora y por otro, el de la utilización de esta energía en el vehículo mo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o tanto en la tracción ferroviaria la utilización de la energía eléctrica puede ser abordada desde dos ángulos, el de </a:t>
            </a:r>
            <a:r>
              <a:rPr b="1" i="1" lang="es-ES_tradnl" sz="2400" spc="-1" strike="noStrike">
                <a:solidFill>
                  <a:srgbClr val="000000"/>
                </a:solidFill>
                <a:latin typeface="Arial"/>
                <a:ea typeface="Times New Roman"/>
              </a:rPr>
              <a:t>distribución de la energía</a:t>
            </a:r>
            <a:r>
              <a:rPr b="0" lang="es-ES_tradnl" sz="2400" spc="-1" strike="noStrike">
                <a:solidFill>
                  <a:srgbClr val="000000"/>
                </a:solidFill>
                <a:latin typeface="Arial"/>
                <a:ea typeface="Times New Roman"/>
              </a:rPr>
              <a:t> y el de la </a:t>
            </a:r>
            <a:r>
              <a:rPr b="1" i="1" lang="es-ES_tradnl" sz="2400" spc="-1" strike="noStrike">
                <a:solidFill>
                  <a:srgbClr val="000000"/>
                </a:solidFill>
                <a:latin typeface="Arial"/>
                <a:ea typeface="Times New Roman"/>
              </a:rPr>
              <a:t>utilización de la energ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932360" y="13824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81" name=""/>
          <p:cNvSpPr/>
          <p:nvPr/>
        </p:nvSpPr>
        <p:spPr>
          <a:xfrm>
            <a:off x="533520" y="404640"/>
            <a:ext cx="8153280" cy="664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CORRIENTE CONTINU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Fue la elección de los ingenieros que inicialmente se decantaron sobre el problema de su utilización, el problema de la mejor locomotora, escogieron el motor de corriente continua. Era el mejor motor de trac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mo no se sabía transformar de manera simple la tensión de una corriente continua, fue necesario adoptar sobre la línea de contacto una tensión de alimentación igual a la tensión de funcionamiento de los motores y de los equipos de las locomotoras: 700, 1500, 3000 V. como máxi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pues una tensión demasiado baja, muy alejada de los órdenes de magnitud de las tensiones de las líneas de alta tensión utilizadas en el transporte de energía eléctr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quí la necesidad de conducir por la línea de contacto grandes intensidades, miles de Amperes, para obtener las potencias deseadas. Y para no tener caídas de tensión prohibitivas será necesario instalar una catenaria de gran sección y puntos de alimentación a la catenaria, es decir subestaciones, bastante próximas, alrededor de 20 km. en 1500 V.</a:t>
            </a: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932360" y="44280"/>
            <a:ext cx="40593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66ff"/>
                </a:solidFill>
                <a:latin typeface="Arial"/>
                <a:ea typeface="Times New Roman"/>
              </a:rPr>
              <a:t>EL 603 </a:t>
            </a:r>
            <a:r>
              <a:rPr b="1" lang="es-ES_tradnl" sz="1400" spc="-1" strike="noStrike">
                <a:solidFill>
                  <a:srgbClr val="0066ff"/>
                </a:solidFill>
                <a:latin typeface="Arial"/>
                <a:ea typeface="Arial Unicode MS"/>
              </a:rPr>
              <a:t>TRACCION ELECTRIC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DISTINTOS SISTEMAS DE ELECTRIFICACION </a:t>
            </a:r>
            <a:endParaRPr b="0" lang="en-US" sz="1400" spc="-1" strike="noStrike">
              <a:solidFill>
                <a:srgbClr val="000000"/>
              </a:solidFill>
              <a:latin typeface="Times New Roman"/>
            </a:endParaRPr>
          </a:p>
        </p:txBody>
      </p:sp>
      <p:sp>
        <p:nvSpPr>
          <p:cNvPr id="83" name=""/>
          <p:cNvSpPr/>
          <p:nvPr/>
        </p:nvSpPr>
        <p:spPr>
          <a:xfrm>
            <a:off x="533520" y="189000"/>
            <a:ext cx="8153280" cy="664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Unicode MS"/>
              </a:rPr>
              <a:t>LA TRACCION TRIFAS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Este sistema que apareció en los albores de las electrificaciones del ferrocarril fue rápidamente abandonado, pues a su gran ventaja, utilizar motores trifásicos que son de bajo costo y robustos, añadía los inaceptables inconvenientes de requerir doble catenaria (la tercera fase es la vía) y era muy difícil la regulación de la velocidad, puesto que viene impuesta por la frecuencia de la corriente (n = 120 f / p, en que f es la frecuencia en Hz y p es el número de po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tenta años después de estas abandonadas experiencias, podemos decir que si hubiera que destacar una única innovación tecnológica en el campo del material motor ferroviario sería sin duda alguna la </a:t>
            </a:r>
            <a:r>
              <a:rPr b="1" lang="es-ES_tradnl" sz="2000" spc="-1" strike="noStrike">
                <a:solidFill>
                  <a:srgbClr val="000000"/>
                </a:solidFill>
                <a:latin typeface="Arial"/>
                <a:ea typeface="Times New Roman"/>
              </a:rPr>
              <a:t>“revolución trifásica”,</a:t>
            </a:r>
            <a:r>
              <a:rPr b="0" lang="es-ES_tradnl" sz="2000" spc="-1" strike="noStrike">
                <a:solidFill>
                  <a:srgbClr val="000000"/>
                </a:solidFill>
                <a:latin typeface="Arial"/>
                <a:ea typeface="Times New Roman"/>
              </a:rPr>
              <a:t> la tracción asíncrona y síncrona. La llegada de los motores sin colector representa un avance tal que sin él posiblemente no se habría podido llegar al record mundial de velocidad de prueba de 515,3 km/h. en mayo d 1990, y 572 km /h. en 2007. Entre el TGV Sudest, equipado con una motorización clásica, y el TGV Atlantique, que utiliza la tecnología trifásica, la potencia unitaria de los motores de tracción, a masa constante, se ha duplicado. Se ha llegado así a la locomotora Sybic de 5600 kW, locomotora universal y capaz de circular indistintamente bajo catenaria de 3.000 V., corriente continua o de 25 KV., 50 Hz.</a:t>
            </a:r>
            <a:r>
              <a:rPr b="0" lang="es-ES" sz="2000" spc="-1" strike="noStrike">
                <a:solidFill>
                  <a:srgbClr val="000000"/>
                </a:solidFill>
                <a:latin typeface="Arial"/>
                <a:ea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23:19:23Z</dcterms:created>
  <dc:creator>alucero</dc:creator>
  <dc:description/>
  <dc:language>en-US</dc:language>
  <cp:lastModifiedBy>alucero</cp:lastModifiedBy>
  <dcterms:modified xsi:type="dcterms:W3CDTF">2011-03-09T17:14:04Z</dcterms:modified>
  <cp:revision>36</cp:revision>
  <dc:subject/>
  <dc:title>Presentación de PowerPoint</dc:title>
</cp:coreProperties>
</file>