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6858000" cy="9144000"/>
  <p:notesSz cx="70770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6BC45-E787-4AD2-8E32-A0EC48C89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7FAD7-C823-4ED1-8589-71AAA4861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D8B8D-C69D-4463-BFDD-9C06B36CD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D8A7A-642C-4626-813F-BCD3DB529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8E2647-6802-4970-9899-A793F9A46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3192F-577A-42B7-BDE4-AA493BB25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505E5-CBCD-483D-81C7-D59FFE406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B58A0-FF61-48AC-9BCB-F25B9FAB7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AEE95-3968-4BED-82CF-8BF5A9C81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59844-9F90-4E1B-8275-AB75BF0D3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8D225-DAF5-4ECA-B943-AFEBA71F8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E503-34C1-4FE5-AF7C-8C8615321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575D0-4BC4-4629-9369-313D2CB08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204B8-9487-4F3D-9521-23B407DF4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A086E-E1B8-4E24-921C-CECF5AEDF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71B3B-D8F4-4231-BEFA-A75186895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3A8AD-815F-474A-96DE-8530E5176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C94FD-BA52-42A1-8628-A6BB9411C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7E91-F2DB-4E99-A02A-00D6283CC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854A2-90D9-47B0-A81B-DE7D02FB3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07DD1-7759-4389-B43C-00D025869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F9C9-96E3-417D-8CCA-B8DF1C09B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58A5-BB79-4039-A439-9D3E15F1E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AE66-EA42-4F4C-9220-DBC726733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77D1-3147-47D2-BD11-8A0FFD46D27B}"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4FCB-87A9-4179-A230-7B99D0DA486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85AB-BCCC-4BEA-8F4E-606261F89576}"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6A1D-59DB-4443-9FC8-D849572EBB9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49360" y="6948360"/>
            <a:ext cx="5775120" cy="113184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Jose Carrasco B</a:t>
            </a:r>
            <a:endParaRPr b="0" lang="en-US" sz="2000" spc="-1" strike="noStrike">
              <a:solidFill>
                <a:srgbClr val="000000"/>
              </a:solidFill>
              <a:latin typeface="Tahoma"/>
            </a:endParaRPr>
          </a:p>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Semestre  Otoño 2011</a:t>
            </a:r>
            <a:endParaRPr b="0" lang="en-US" sz="20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C96F2345-AAF6-4ECD-B677-C3662FFB2C2E}" type="datetime">
              <a:rPr b="1" lang="es-ES_tradnl" sz="600" spc="-1" strike="noStrike">
                <a:solidFill>
                  <a:srgbClr val="000000"/>
                </a:solidFill>
                <a:latin typeface="Times New Roman"/>
              </a:rPr>
              <a:t>28/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656C-626F-4E7D-ACA5-F386B2C4BB8D}"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C4DF-3E15-4F7B-A9D8-814989EEA78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21"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A650-F694-4C95-A22A-0AD2C247452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2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462C-4A1D-4BBD-A3BF-191A788AD4C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25"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6AF4-3534-4573-955D-91DE98D200B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2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947B-3DEA-4295-85AD-F55FDC349D0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9" name="Object 3"/>
          <p:cNvGraphicFramePr/>
          <p:nvPr/>
        </p:nvGraphicFramePr>
        <p:xfrm>
          <a:off x="957240" y="3541680"/>
          <a:ext cx="5313240" cy="3800520"/>
        </p:xfrm>
        <a:graphic>
          <a:graphicData uri="http://schemas.openxmlformats.org/presentationml/2006/ole">
            <p:oleObj progId="Word.Document.12" r:id="rId1" spid="">
              <p:embed/>
              <p:pic>
                <p:nvPicPr>
                  <p:cNvPr id="130"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31"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0B8D-5E2C-4D2B-A412-E06D9431E88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3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FEE1-C6B2-4C9C-9672-F79B9EB53DF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35"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3133-7574-4B8B-9672-9D862931939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37"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9953-E2CC-4C55-8092-EE7AF5EBEE5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9"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40"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41"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0B6D-755F-499F-B582-26CC76E8EEDD}"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4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76F6-6214-47D0-B6BA-F3C5B4AEFEA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45"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46"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17D4-4140-4A93-8EF0-FA905896C1B3}"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48"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7B5E-8625-4447-A40F-D2D1EA38B0D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50"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51"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53"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 Construc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0516-5AA5-4657-8CFE-23A0E41FB21B}"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5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C350-29D3-4356-A865-0AFB05334AC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57"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8"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9FEA-CE25-4EFA-9055-B6C41B833EB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FB0D-0A31-456B-91BB-5A8283A7129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62"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5701-3DF8-4C33-ABD0-BF078E92F8C8}"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6307-5F68-4C12-BA85-0AF32084E43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9000"/>
          </a:bodyPr>
          <a:p>
            <a:pPr marL="188280" indent="-1882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82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8280" indent="-1882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82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82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a:t>
            </a: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0706</a:t>
            </a: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s celulare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9874-6514 – 7768-8581</a:t>
            </a: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s electrónic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82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nsejero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 (Past-President)</a:t>
            </a:r>
            <a:endParaRPr b="0" lang="en-US" sz="1400" spc="-1" strike="noStrike">
              <a:solidFill>
                <a:srgbClr val="000000"/>
              </a:solidFill>
              <a:latin typeface="Tahoma"/>
            </a:endParaRPr>
          </a:p>
          <a:p>
            <a:pPr marL="1882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82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8280" indent="-1882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016</a:t>
            </a:r>
            <a:endParaRPr b="0" lang="en-US" sz="1400" spc="-1" strike="noStrike">
              <a:solidFill>
                <a:srgbClr val="000000"/>
              </a:solidFill>
              <a:latin typeface="Tahoma"/>
            </a:endParaRPr>
          </a:p>
          <a:p>
            <a:pPr marL="1882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8578-61EC-4D8F-AC40-0224E7C07AF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2830-5205-4CC0-9A7C-A986E3FD2A8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6"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3E7A-C6F7-44A2-A606-54486E9B8C7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5C36-4E51-4368-A4A6-34D590D515F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70"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a:bodyPr>
          <a:p>
            <a:pPr marL="285840" indent="-28584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54080" indent="-3873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54080" indent="-38736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marL="285840" indent="-285840" algn="just">
              <a:lnSpc>
                <a:spcPct val="90000"/>
              </a:lnSpc>
              <a:spcBef>
                <a:spcPts val="451"/>
              </a:spcBef>
              <a:spcAft>
                <a:spcPts val="60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a:t>
            </a:r>
            <a:endParaRPr b="0" lang="en-US" sz="1800" spc="-1" strike="noStrike">
              <a:solidFill>
                <a:srgbClr val="000000"/>
              </a:solidFill>
              <a:latin typeface="Tahoma"/>
            </a:endParaRPr>
          </a:p>
          <a:p>
            <a:pPr marL="285840" indent="-285840" algn="just">
              <a:lnSpc>
                <a:spcPct val="90000"/>
              </a:lnSpc>
              <a:spcBef>
                <a:spcPts val="451"/>
              </a:spcBef>
              <a:spcAft>
                <a:spcPts val="60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5840" indent="-285840" algn="just">
              <a:lnSpc>
                <a:spcPct val="90000"/>
              </a:lnSpc>
              <a:spcBef>
                <a:spcPts val="451"/>
              </a:spcBef>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5840" indent="-28584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584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1B13-6D68-44E3-9BEC-200950C34367}"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7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1C01-9872-47EA-98E1-37A61C66179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74"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3BB0-10BE-430D-ACE2-D5B867F1C717}"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7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EE3EF-342F-4D8F-844C-6F9FC35B5C5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36F7-4945-4F7F-ADE5-B54EC78C1A94}"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8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9C97-1E2E-470D-B359-8D750D44365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82"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9000"/>
          </a:bodyPr>
          <a:p>
            <a:pPr marL="259200" indent="-25920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804600" indent="-427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804600" indent="-427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804600" indent="-427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35600" indent="-48060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35600" indent="-48060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35600" indent="-48060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35600" indent="-48060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35600" indent="-48060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9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9200" indent="-25920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804600" indent="-427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804600" indent="-427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804600" indent="-427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35600" indent="-48060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35600" indent="-48060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35600" indent="-48060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9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9200" indent="-25920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804600" indent="-427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804600" indent="-427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35600" indent="-48060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C9F4-30F0-4B88-BC96-8087631D036F}"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84"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149F-A5C2-4918-B262-360BEE5D4CD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86"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r libros de diseño de transformadores en internet</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8"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033AF-14DB-40ED-9D1A-956D6A5F427D}"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2E23-622F-442F-9503-AE9AEF45A9A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3"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4"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C09A-EA90-47BF-9AAB-5F9B53E48BB2}"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0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C3316-F016-4493-86C0-0C5081A7BAE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4"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05"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36"/>
          <p:cNvSpPr/>
          <p:nvPr/>
        </p:nvSpPr>
        <p:spPr>
          <a:xfrm>
            <a:off x="250020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1CE4-45A0-41E2-B883-D63E24226D2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1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08B9-DBC2-480F-AFFF-F5CD59EFD01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6"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17"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AA32-808F-4937-8E13-FAAB7EA0BF61}"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5F8C-59F8-4E8E-AA4C-93185162207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93"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a:bodyPr>
          <a:p>
            <a:pPr marL="190440" indent="-19044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9044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José Carrasco B</a:t>
            </a:r>
            <a:endParaRPr b="0" lang="en-US" sz="1400" spc="-1" strike="noStrike">
              <a:solidFill>
                <a:srgbClr val="000000"/>
              </a:solidFill>
              <a:latin typeface="Tahoma"/>
            </a:endParaRPr>
          </a:p>
          <a:p>
            <a:pPr marL="190440" indent="-19044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9044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s celulare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s electrónic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endParaRPr b="0" lang="en-US" sz="1400" spc="-1" strike="noStrike">
              <a:solidFill>
                <a:srgbClr val="000000"/>
              </a:solidFill>
              <a:latin typeface="Tahoma"/>
            </a:endParaRPr>
          </a:p>
          <a:p>
            <a:pPr marL="19044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0F20-785D-4052-865F-8D79987DB250}"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2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74E0-F3B9-49D7-B0BA-26FDED6B9F4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6"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27"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269D-95B6-458C-9F38-35E5F7D7F241}"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3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2BA7-586D-4EC5-8987-21094D90EE7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3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D730-B1AA-4047-B756-3E954FDD1E71}"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4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A142-8069-4D5D-B3E8-D37606F68B8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44"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45"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1"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3"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4"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6"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147A-F5A0-4F13-9DF4-0F4E603A48A1}"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6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5506-9F65-4E82-8CCB-F59009E15C2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71"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E4BF-49BB-4343-84E0-D2242A418F4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73"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9329-0987-477C-9873-936A7FE004B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75"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76"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CDA1-E3F1-44AC-8E94-199E31C52870}"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7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058F-D47A-4793-8C57-D249412D3A3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80" name="Object 0"/>
          <p:cNvGraphicFramePr/>
          <p:nvPr/>
        </p:nvGraphicFramePr>
        <p:xfrm>
          <a:off x="981000" y="2736720"/>
          <a:ext cx="5419800" cy="4156200"/>
        </p:xfrm>
        <a:graphic>
          <a:graphicData uri="http://schemas.openxmlformats.org/presentationml/2006/ole">
            <p:oleObj progId="Word.Document.12" r:id="rId1" spid="">
              <p:embed/>
              <p:pic>
                <p:nvPicPr>
                  <p:cNvPr id="281" name="Object 0" descr=""/>
                  <p:cNvPicPr/>
                  <p:nvPr/>
                </p:nvPicPr>
                <p:blipFill>
                  <a:blip r:embed="rId2"/>
                  <a:stretch/>
                </p:blipFill>
                <p:spPr>
                  <a:xfrm>
                    <a:off x="981000" y="2736720"/>
                    <a:ext cx="5419800" cy="415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85ED-2880-473D-9762-0E7ADCDD51C0}"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22A4-E60C-4A4A-83FF-7A219D0522F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85"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8E2A-C7E0-48A8-BA8D-D407D3FF157B}"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E8B5-A976-4F5D-958D-D101B6D3309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68B7-C088-431D-8A81-CAFFBA23784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FDBE-CFCC-4686-8E10-3D87D5344B9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93"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1973-C0F3-4230-9FEE-32F040A17F6D}"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0BA9-E246-455A-9B58-DF2F81B0DED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7"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el diseño y construcción de equipos eléctricos, además de conocer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EBEE-8D53-4459-96CC-3CBD6F7CB04C}"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724A-0E67-441C-8175-2CA8CBFEB2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10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 del equipo a construi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 del equipo a construi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 : 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ea typeface="Times New Roman"/>
              </a:rPr>
              <a:t>NOTA: ESTE CALENDARIO DE ACTIVIDADES SE DEBE ADECUAR A LA SITUACIÓN PARTICULAR DEL MOMENTO</a:t>
            </a:r>
            <a:endParaRPr b="0" lang="en-US" sz="1500" spc="-1" strike="noStrike">
              <a:solidFill>
                <a:srgbClr val="000000"/>
              </a:solidFill>
              <a:latin typeface="Tahoma"/>
            </a:endParaRPr>
          </a:p>
          <a:p>
            <a:pPr marL="173160" indent="0">
              <a:lnSpc>
                <a:spcPct val="90000"/>
              </a:lnSpc>
              <a:spcBef>
                <a:spcPts val="1125"/>
              </a:spcBef>
              <a:buNone/>
              <a:tabLst>
                <a:tab algn="l" pos="0"/>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6400"/>
                <a:tab algn="l" pos="1162080"/>
                <a:tab algn="l" pos="1257480"/>
                <a:tab algn="l" pos="3048120"/>
                <a:tab algn="l" pos="322884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00B0-DBAB-42EC-96A6-149FF7B5980C}"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FDE2-30CA-497F-8970-5B8976A54ED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5"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5000"/>
          </a:bodyPr>
          <a:p>
            <a:pPr marL="339120" indent="-339120" algn="just">
              <a:lnSpc>
                <a:spcPct val="90000"/>
              </a:lnSpc>
              <a:spcBef>
                <a:spcPts val="349"/>
              </a:spcBef>
              <a:buClr>
                <a:srgbClr val="ffcc00"/>
              </a:buClr>
              <a:buFont typeface="Monotype Sorts" charset="2"/>
              <a:buChar char=""/>
              <a:tabLst>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Conforme a las pautas de la escuela, se coloca nota a:</a:t>
            </a:r>
            <a:endParaRPr b="0" lang="en-US" sz="1400" spc="-1" strike="noStrike">
              <a:solidFill>
                <a:srgbClr val="000000"/>
              </a:solidFill>
              <a:latin typeface="Tahoma"/>
            </a:endParaRPr>
          </a:p>
          <a:p>
            <a:pPr lvl="1" marL="808200" indent="-271440" algn="just">
              <a:lnSpc>
                <a:spcPct val="90000"/>
              </a:lnSpc>
              <a:spcBef>
                <a:spcPts val="799"/>
              </a:spcBef>
              <a:buClr>
                <a:srgbClr val="ffcc00"/>
              </a:buClr>
              <a:buFont typeface="Monotype Sorts" charset="2"/>
              <a:buChar char=""/>
              <a:tabLst>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Una nota de Control:</a:t>
            </a:r>
            <a:endParaRPr b="0" lang="en-US" sz="1400" spc="-1" strike="noStrike">
              <a:solidFill>
                <a:srgbClr val="000000"/>
              </a:solidFill>
              <a:latin typeface="Tahoma"/>
            </a:endParaRPr>
          </a:p>
          <a:p>
            <a:pPr lvl="1" marL="808200" indent="0" algn="just">
              <a:lnSpc>
                <a:spcPct val="90000"/>
              </a:lnSpc>
              <a:spcBef>
                <a:spcPts val="349"/>
              </a:spcBef>
              <a:buNone/>
              <a:tabLst>
                <a:tab algn="l" pos="0"/>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	</a:t>
            </a:r>
            <a:r>
              <a:rPr b="0" lang="es-ES_tradnl" sz="1400" spc="-1" strike="noStrike">
                <a:solidFill>
                  <a:srgbClr val="000000"/>
                </a:solidFill>
                <a:latin typeface="Times New Roman"/>
                <a:ea typeface="Times New Roman"/>
              </a:rPr>
              <a:t>Corresponde a la nota de la Memoria de Cálculo y Diseño.</a:t>
            </a:r>
            <a:endParaRPr b="0" lang="en-US" sz="1400" spc="-1" strike="noStrike">
              <a:solidFill>
                <a:srgbClr val="000000"/>
              </a:solidFill>
              <a:latin typeface="Tahoma"/>
            </a:endParaRPr>
          </a:p>
          <a:p>
            <a:pPr lvl="1" marL="808200" indent="-271440" algn="just">
              <a:lnSpc>
                <a:spcPct val="90000"/>
              </a:lnSpc>
              <a:spcBef>
                <a:spcPts val="799"/>
              </a:spcBef>
              <a:buClr>
                <a:srgbClr val="ffcc00"/>
              </a:buClr>
              <a:buFont typeface="Monotype Sorts" charset="2"/>
              <a:buChar char=""/>
              <a:tabLst>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Una nota de Ejercicio:</a:t>
            </a:r>
            <a:endParaRPr b="0" lang="en-US" sz="1400" spc="-1" strike="noStrike">
              <a:solidFill>
                <a:srgbClr val="000000"/>
              </a:solidFill>
              <a:latin typeface="Tahoma"/>
            </a:endParaRPr>
          </a:p>
          <a:p>
            <a:pPr lvl="1" marL="808200" indent="0" algn="just">
              <a:lnSpc>
                <a:spcPct val="90000"/>
              </a:lnSpc>
              <a:spcBef>
                <a:spcPts val="349"/>
              </a:spcBef>
              <a:buNone/>
              <a:tabLst>
                <a:tab algn="l" pos="0"/>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	</a:t>
            </a:r>
            <a:r>
              <a:rPr b="0" lang="es-ES_tradnl" sz="1400" spc="-1" strike="noStrike">
                <a:solidFill>
                  <a:srgbClr val="000000"/>
                </a:solidFill>
                <a:latin typeface="Times New Roman"/>
                <a:ea typeface="Times New Roman"/>
              </a:rPr>
              <a:t>Corresponde a la nota de la investigación con su respectiva disertación.</a:t>
            </a:r>
            <a:endParaRPr b="0" lang="en-US" sz="1400" spc="-1" strike="noStrike">
              <a:solidFill>
                <a:srgbClr val="000000"/>
              </a:solidFill>
              <a:latin typeface="Tahoma"/>
            </a:endParaRPr>
          </a:p>
          <a:p>
            <a:pPr lvl="1" marL="808200" indent="-271440" algn="just">
              <a:lnSpc>
                <a:spcPct val="90000"/>
              </a:lnSpc>
              <a:spcBef>
                <a:spcPts val="799"/>
              </a:spcBef>
              <a:buClr>
                <a:srgbClr val="ffcc00"/>
              </a:buClr>
              <a:buFont typeface="Monotype Sorts" charset="2"/>
              <a:buChar char=""/>
              <a:tabLst>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Una nota de Laboratorio</a:t>
            </a:r>
            <a:endParaRPr b="0" lang="en-US" sz="1400" spc="-1" strike="noStrike">
              <a:solidFill>
                <a:srgbClr val="000000"/>
              </a:solidFill>
              <a:latin typeface="Tahoma"/>
            </a:endParaRPr>
          </a:p>
          <a:p>
            <a:pPr lvl="1" marL="808200" indent="0" algn="just">
              <a:lnSpc>
                <a:spcPct val="90000"/>
              </a:lnSpc>
              <a:spcBef>
                <a:spcPts val="349"/>
              </a:spcBef>
              <a:buNone/>
              <a:tabLst>
                <a:tab algn="l" pos="0"/>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	</a:t>
            </a:r>
            <a:r>
              <a:rPr b="0" lang="es-ES_tradnl" sz="1400" spc="-1" strike="noStrike">
                <a:solidFill>
                  <a:srgbClr val="000000"/>
                </a:solidFill>
                <a:latin typeface="Times New Roman"/>
                <a:ea typeface="Times New Roman"/>
              </a:rPr>
              <a:t>Corresponde al promedio de la nota del plano que deba dibujarse para construir el equipo y de la nota del listado de materiales que se entrega al Departamento de Ingeniería Eléctrica, para su adquisición.</a:t>
            </a:r>
            <a:endParaRPr b="0" lang="en-US" sz="1400" spc="-1" strike="noStrike">
              <a:solidFill>
                <a:srgbClr val="000000"/>
              </a:solidFill>
              <a:latin typeface="Tahoma"/>
            </a:endParaRPr>
          </a:p>
          <a:p>
            <a:pPr lvl="1" marL="808200" indent="-271440" algn="just">
              <a:lnSpc>
                <a:spcPct val="90000"/>
              </a:lnSpc>
              <a:spcBef>
                <a:spcPts val="8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Una nota de Examen</a:t>
            </a:r>
            <a:endParaRPr b="0" lang="en-US" sz="1400" spc="-1" strike="noStrike">
              <a:solidFill>
                <a:srgbClr val="000000"/>
              </a:solidFill>
              <a:latin typeface="Tahoma"/>
            </a:endParaRPr>
          </a:p>
          <a:p>
            <a:pPr lvl="1" marL="808200" indent="0" algn="just">
              <a:lnSpc>
                <a:spcPct val="90000"/>
              </a:lnSpc>
              <a:spcBef>
                <a:spcPts val="349"/>
              </a:spcBef>
              <a:buNone/>
              <a:tabLst>
                <a:tab algn="l" pos="0"/>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	</a:t>
            </a:r>
            <a:r>
              <a:rPr b="0" lang="es-ES_tradnl" sz="1400" spc="-1" strike="noStrike">
                <a:solidFill>
                  <a:srgbClr val="000000"/>
                </a:solidFill>
                <a:latin typeface="Times New Roman"/>
                <a:ea typeface="Times New Roman"/>
              </a:rPr>
              <a:t>Corresponde al resultado de las Pruebas de Recepción, las que se realizan conforme a la Especificación Técnica elaborada durante el desarrollo del curso y a la norma definida  en ella.</a:t>
            </a:r>
            <a:endParaRPr b="0" lang="en-US" sz="1400" spc="-1" strike="noStrike">
              <a:solidFill>
                <a:srgbClr val="000000"/>
              </a:solidFill>
              <a:latin typeface="Tahoma"/>
            </a:endParaRPr>
          </a:p>
          <a:p>
            <a:pPr lvl="1" marL="808200" indent="0" algn="just">
              <a:lnSpc>
                <a:spcPct val="90000"/>
              </a:lnSpc>
              <a:spcBef>
                <a:spcPts val="201"/>
              </a:spcBef>
              <a:buNone/>
              <a:tabLst>
                <a:tab algn="l" pos="0"/>
                <a:tab algn="r" pos="5619600"/>
                <a:tab algn="l" pos="6400800"/>
                <a:tab algn="l" pos="7315200"/>
                <a:tab algn="l" pos="8229600"/>
                <a:tab algn="l" pos="9144000"/>
                <a:tab algn="l" pos="10058400"/>
              </a:tabLst>
            </a:pPr>
            <a:endParaRPr b="0" lang="en-US" sz="800" spc="-1" strike="noStrike">
              <a:solidFill>
                <a:srgbClr val="000000"/>
              </a:solidFill>
              <a:latin typeface="Tahoma"/>
            </a:endParaRPr>
          </a:p>
          <a:p>
            <a:pPr marL="339120" indent="-339120" algn="just">
              <a:lnSpc>
                <a:spcPct val="90000"/>
              </a:lnSpc>
              <a:buClr>
                <a:srgbClr val="ffcc00"/>
              </a:buClr>
              <a:buFont typeface="Monotype Sorts" charset="2"/>
              <a:buChar char=""/>
              <a:tabLst>
                <a:tab algn="r" pos="56196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En cada una de las notas influye la oportunidad y cumplimiento del plazo acordado para entregar el respectivo informe y la fecha de ejecución de las Pruebas de Recepción.  Por lo tanto:</a:t>
            </a:r>
            <a:endParaRPr b="0" lang="en-US" sz="1400" spc="-1" strike="noStrike">
              <a:solidFill>
                <a:srgbClr val="000000"/>
              </a:solidFill>
              <a:latin typeface="Tahoma"/>
            </a:endParaRPr>
          </a:p>
          <a:p>
            <a:pPr marL="339120" indent="-339120" algn="just">
              <a:lnSpc>
                <a:spcPct val="90000"/>
              </a:lnSpc>
              <a:spcBef>
                <a:spcPts val="300"/>
              </a:spcBef>
              <a:buClr>
                <a:srgbClr val="ffcc00"/>
              </a:buClr>
              <a:buFont typeface="Monotype Sorts" charset="2"/>
              <a:buChar char=""/>
              <a:tabLst>
                <a:tab algn="r" pos="56196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Se penalizará con 0,1 puntos de la nota final del curso EL57-C cuando:</a:t>
            </a:r>
            <a:endParaRPr b="0" lang="en-US" sz="1400" spc="-1" strike="noStrike">
              <a:solidFill>
                <a:srgbClr val="000000"/>
              </a:solidFill>
              <a:latin typeface="Tahoma"/>
            </a:endParaRPr>
          </a:p>
          <a:p>
            <a:pPr marL="339120" indent="0" algn="just">
              <a:lnSpc>
                <a:spcPct val="90000"/>
              </a:lnSpc>
              <a:spcBef>
                <a:spcPts val="300"/>
              </a:spcBef>
              <a:buNone/>
              <a:tabLst>
                <a:tab algn="l" pos="0"/>
                <a:tab algn="r" pos="56196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a:t>
            </a:r>
            <a:r>
              <a:rPr b="1" lang="es-CL" sz="1400" spc="-1" strike="noStrike">
                <a:solidFill>
                  <a:srgbClr val="000000"/>
                </a:solidFill>
                <a:latin typeface="Times New Roman"/>
                <a:ea typeface="Times New Roman"/>
              </a:rPr>
              <a:t>	</a:t>
            </a:r>
            <a:r>
              <a:rPr b="1" lang="es-CL" sz="1400" spc="-1" strike="noStrike">
                <a:solidFill>
                  <a:srgbClr val="000000"/>
                </a:solidFill>
                <a:latin typeface="Times New Roman"/>
                <a:ea typeface="Times New Roman"/>
              </a:rPr>
              <a:t>No se cumpla alguno de los hitos de la Carta Gantt, del respectivo grupo .</a:t>
            </a:r>
            <a:endParaRPr b="0" lang="en-US" sz="1400" spc="-1" strike="noStrike">
              <a:solidFill>
                <a:srgbClr val="000000"/>
              </a:solidFill>
              <a:latin typeface="Tahoma"/>
            </a:endParaRPr>
          </a:p>
          <a:p>
            <a:pPr marL="339120" indent="0" algn="just">
              <a:lnSpc>
                <a:spcPct val="90000"/>
              </a:lnSpc>
              <a:spcBef>
                <a:spcPts val="300"/>
              </a:spcBef>
              <a:buNone/>
              <a:tabLst>
                <a:tab algn="l" pos="0"/>
                <a:tab algn="r" pos="56196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r>
              <a:rPr b="1" lang="es-CL" sz="1400" spc="-1" strike="noStrike">
                <a:solidFill>
                  <a:srgbClr val="000000"/>
                </a:solidFill>
                <a:latin typeface="Times New Roman"/>
                <a:ea typeface="Times New Roman"/>
              </a:rPr>
              <a:t>	</a:t>
            </a:r>
            <a:r>
              <a:rPr b="1" lang="es-CL" sz="1400" spc="-1" strike="noStrike">
                <a:solidFill>
                  <a:srgbClr val="000000"/>
                </a:solidFill>
                <a:latin typeface="Times New Roman"/>
                <a:ea typeface="Times New Roman"/>
              </a:rPr>
              <a:t>No se asista a alguna presentación de un grupo del Taller de Diseño.</a:t>
            </a:r>
            <a:endParaRPr b="0" lang="en-US" sz="1400" spc="-1" strike="noStrike">
              <a:solidFill>
                <a:srgbClr val="000000"/>
              </a:solidFill>
              <a:latin typeface="Tahoma"/>
            </a:endParaRPr>
          </a:p>
          <a:p>
            <a:pPr marL="339120" indent="0" algn="just">
              <a:lnSpc>
                <a:spcPct val="90000"/>
              </a:lnSpc>
              <a:spcBef>
                <a:spcPts val="300"/>
              </a:spcBef>
              <a:buNone/>
              <a:tabLst>
                <a:tab algn="l" pos="0"/>
                <a:tab algn="r" pos="56196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Lo anterior estará sujeto a la negociación que pueda realizarse entre el Diseñador (Alumno) y el Cliente (Profesor).  Dicha negociación debe realizarse antes de la fecha de cumplimiento del hito o de la presentación, indicadas en la Carta Gantt del grupo que hace la presentación. </a:t>
            </a:r>
            <a:endParaRPr b="0" lang="en-US" sz="1400" spc="-1" strike="noStrike">
              <a:solidFill>
                <a:srgbClr val="000000"/>
              </a:solidFill>
              <a:latin typeface="Tahoma"/>
            </a:endParaRPr>
          </a:p>
          <a:p>
            <a:pPr marL="339120" indent="0" algn="just">
              <a:lnSpc>
                <a:spcPct val="90000"/>
              </a:lnSpc>
              <a:spcBef>
                <a:spcPts val="400"/>
              </a:spcBef>
              <a:buNone/>
              <a:tabLst>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marL="339120" indent="0" algn="just">
              <a:lnSpc>
                <a:spcPct val="90000"/>
              </a:lnSpc>
              <a:spcBef>
                <a:spcPts val="400"/>
              </a:spcBef>
              <a:buNone/>
              <a:tabLst>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marL="339120" indent="-33912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6-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9218-024B-4B54-B690-865D10C7D87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B02F-F8A7-41B0-A6F6-37ABAA0FD3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9"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1636-18A9-4132-AC79-6CC86B986F6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15B1-85E0-496E-A5D5-7416DC54E4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13"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a:bodyPr>
          <a:p>
            <a:pPr marL="343080" indent="-3430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Sesión de Laboratorio</a:t>
            </a:r>
            <a:endParaRPr b="0" lang="en-US" sz="2000" spc="-1" strike="noStrike">
              <a:solidFill>
                <a:srgbClr val="000000"/>
              </a:solidFill>
              <a:latin typeface="Tahoma"/>
            </a:endParaRPr>
          </a:p>
          <a:p>
            <a:pPr lvl="1" marL="743040" indent="-2858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ada grupo debe realizar en el Laboratorio de Máquinas, guiados por el Profesor Auxiliar, un ejercicio de "Pruebas de Recepción".</a:t>
            </a:r>
            <a:endParaRPr b="0" lang="en-US" sz="1800" spc="-1" strike="noStrike">
              <a:solidFill>
                <a:srgbClr val="000000"/>
              </a:solidFill>
              <a:latin typeface="Tahoma"/>
            </a:endParaRPr>
          </a:p>
          <a:p>
            <a:pPr lvl="1" marL="743040" indent="0" algn="just">
              <a:lnSpc>
                <a:spcPct val="9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CL" sz="1800" spc="-1" strike="noStrike">
                <a:solidFill>
                  <a:srgbClr val="000000"/>
                </a:solidFill>
                <a:latin typeface="Times New Roman"/>
              </a:rPr>
              <a:t>Esta actividad es sin nota pero es obligatoria y se debe hacer antes de dar el examen, en las fechas que cada grupo elija de las propuestas por el Profesor Auxiliar.</a:t>
            </a:r>
            <a:endParaRPr b="0" lang="en-US" sz="1800" spc="-1" strike="noStrike">
              <a:solidFill>
                <a:srgbClr val="000000"/>
              </a:solidFill>
              <a:latin typeface="Tahoma"/>
            </a:endParaRPr>
          </a:p>
          <a:p>
            <a:pPr lvl="1" marL="743040" indent="0" algn="just">
              <a:lnSpc>
                <a:spcPct val="9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90000"/>
              </a:lnSpc>
              <a:spcBef>
                <a:spcPts val="224"/>
              </a:spcBef>
              <a:buNone/>
              <a:tabLst>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2478-7F10-4E7F-8E27-6AEB8FE69B7D}"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A88C-28DD-43DF-9577-5598F457023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11-03-17T14:30:13Z</dcterms:modified>
  <cp:revision>307</cp:revision>
  <dc:subject>Taller de Diseño en Sistemas de Potencia I - EL-57C - TALLER DISEÑO I - U.CH. - 1997</dc:subject>
  <dc:title>Apuntes del Curso EL-57C</dc:title>
</cp:coreProperties>
</file>