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49D7-0565-4B2D-9741-78B0E893E4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088D-3284-4FD2-BF47-58932D3E3A9D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D9DF-02F3-437A-8BA8-D717A6405854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E63-C52F-4F72-B9C0-78CA8591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9DA-3EA7-4B6A-AFCC-9EAA26AF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D6B-B706-479E-A0CC-53A96A06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CE1-83FE-4AC8-A16F-50EB64F2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BFB5-49E5-47BA-90D6-1B80D3E7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3720-5057-43F7-B4CC-BB7F314B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8A0A-C9E9-4CB9-AD0E-7E0FBDBA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FEFA-5BCD-4A2D-BE48-8988E047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6113-AA73-4DAC-99AF-EEF7BDE3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2281-DDF7-49B9-94AF-B2C50770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AC8F-E1E8-45DE-9684-CB08AC36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DD1-787C-4AC5-A207-E10237B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4C37-A271-40AE-9605-B9507808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963E-E62A-464E-9156-2FC53663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C475-9D13-4FB8-895D-787B2BCA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934-96EB-4AD6-89CE-96412BB2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C940-BFEF-4657-B9C1-4640F9B2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6026-6E3D-4EB7-A51E-D493AF31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48A3-33DE-4EF5-8BA6-509F094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52817-2041-4D85-9FCE-64BF7F0C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9A49-20D3-48EB-8F2D-C2135401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CC72-A4A3-43A8-955F-AA5C649C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95E-BD02-49C7-9090-80111461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ACD2-8766-47F3-8661-ADD3190F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10AB-1566-49AB-BE76-973B720C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FD5C-886E-45D2-B82D-A5FE0A46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C517-BA6E-4859-8789-00E4A667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B176-5C29-4213-A36A-90D42B34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B47A-3703-4D6F-A9C0-B08D5C7E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3270-3D84-4A9B-B48C-EFD4553E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478-CFE0-4900-9C74-B00EA481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017-8E02-4357-90A8-E709D3DD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719-CCA3-44F9-B3F5-D68A8BF1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3C0-726F-4526-8094-F1BF405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FA4-E7FD-4316-84FB-41CB4860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BD0-1A73-46C7-8F96-B4C07A3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B7B9-937E-4C47-B1B9-265047D25D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70E-5A5A-476D-986A-6351F86BE7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399D-FFEF-44F7-89F6-4E04E34E0346}" type="slidenum"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2071800"/>
            <a:ext cx="7340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iseño de procesos para la producción de Biocombustibl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200"/>
            </a:br>
            <a:br>
              <a:rPr sz="4000"/>
            </a:b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Tarea 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0040" y="43578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s. M.Elena Lienqueo y Oriana Salazar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1 Título"/>
          <p:cNvGrpSpPr/>
          <p:nvPr/>
        </p:nvGrpSpPr>
        <p:grpSpPr>
          <a:xfrm>
            <a:off x="378000" y="689040"/>
            <a:ext cx="3608280" cy="682560"/>
            <a:chOff x="378000" y="689040"/>
            <a:chExt cx="3608280" cy="682560"/>
          </a:xfrm>
        </p:grpSpPr>
        <p:pic>
          <p:nvPicPr>
            <p:cNvPr id="181" name="1 Título" descr=""/>
            <p:cNvPicPr/>
            <p:nvPr/>
          </p:nvPicPr>
          <p:blipFill>
            <a:blip r:embed="rId1"/>
            <a:stretch/>
          </p:blipFill>
          <p:spPr>
            <a:xfrm>
              <a:off x="378000" y="689040"/>
              <a:ext cx="3608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38120" y="723960"/>
              <a:ext cx="3490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500" spc="-1" strike="noStrike">
                  <a:solidFill>
                    <a:srgbClr val="eaeaea"/>
                  </a:solidFill>
                  <a:latin typeface="Verdana"/>
                </a:rPr>
                <a:t>Proceso en Estudio</a:t>
              </a:r>
              <a:endParaRPr b="0" lang="en-US" sz="2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83" name="1 Título"/>
          <p:cNvGrpSpPr/>
          <p:nvPr/>
        </p:nvGrpSpPr>
        <p:grpSpPr>
          <a:xfrm>
            <a:off x="298440" y="676440"/>
            <a:ext cx="5187960" cy="828360"/>
            <a:chOff x="298440" y="676440"/>
            <a:chExt cx="5187960" cy="828360"/>
          </a:xfrm>
        </p:grpSpPr>
        <p:pic>
          <p:nvPicPr>
            <p:cNvPr id="184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51879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28760" y="714240"/>
              <a:ext cx="50004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 General del Taller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6" name="22 Rectángulo"/>
          <p:cNvSpPr/>
          <p:nvPr/>
        </p:nvSpPr>
        <p:spPr>
          <a:xfrm>
            <a:off x="642960" y="178596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Realizar el diseño conceptual de plantas productoras de biocombustible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Verdana"/>
              </a:rPr>
              <a:t>Promover el trabajo en equipo y la expresión oral y escrita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14240" y="10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 la materia prim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duct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entrada y salid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Balance de mas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bloqu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fluj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Economía Poten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57120" y="30492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ontenido Fundamental de cada infor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sumiendo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Informe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1000080" y="40719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tenidos del Informe (detalles en la próxima clas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Introduc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sultados y Disc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Materia Prim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Produc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cl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ferenci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1000080" y="142884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Actividad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ocidos los diferentes tipos de biocombustibles vistos en clases cada grupo deberán seleccionar uno y la materia prima a partir de la cual lo generará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Ejemplo: Bioetanol de 2da generación a partir de residuos de trigo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6 Rectángulo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93" name="7 CuadroTexto"/>
          <p:cNvGrpSpPr/>
          <p:nvPr/>
        </p:nvGrpSpPr>
        <p:grpSpPr>
          <a:xfrm>
            <a:off x="-60480" y="6559560"/>
            <a:ext cx="9259920" cy="390600"/>
            <a:chOff x="-60480" y="6559560"/>
            <a:chExt cx="9259920" cy="390600"/>
          </a:xfrm>
        </p:grpSpPr>
        <p:pic>
          <p:nvPicPr>
            <p:cNvPr id="194" name="7 CuadroTexto" descr=""/>
            <p:cNvPicPr/>
            <p:nvPr/>
          </p:nvPicPr>
          <p:blipFill>
            <a:blip r:embed="rId1"/>
            <a:stretch/>
          </p:blipFill>
          <p:spPr>
            <a:xfrm>
              <a:off x="-60480" y="6559560"/>
              <a:ext cx="92599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597720"/>
              <a:ext cx="914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Verdana"/>
                </a:rPr>
                <a:t>Diseño de procesos para la producción de Biocombustibles </a:t>
              </a:r>
              <a:r>
                <a:rPr b="1" lang="es-CL" sz="1200" spc="-1" strike="noStrike">
                  <a:solidFill>
                    <a:srgbClr val="006666"/>
                  </a:solidFill>
                  <a:latin typeface="Arial"/>
                  <a:ea typeface="Linux Libertine"/>
                </a:rPr>
                <a:t>	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96" name="10 Diagrama" descr=""/>
          <p:cNvPicPr/>
          <p:nvPr/>
        </p:nvPicPr>
        <p:blipFill>
          <a:blip r:embed="rId2"/>
          <a:stretch/>
        </p:blipFill>
        <p:spPr>
          <a:xfrm>
            <a:off x="7132680" y="-6480"/>
            <a:ext cx="2023920" cy="6443640"/>
          </a:xfrm>
          <a:prstGeom prst="rect">
            <a:avLst/>
          </a:prstGeom>
          <a:ln w="0">
            <a:noFill/>
          </a:ln>
        </p:spPr>
      </p:pic>
      <p:sp>
        <p:nvSpPr>
          <p:cNvPr id="197" name="6 Rectángulo"/>
          <p:cNvSpPr/>
          <p:nvPr/>
        </p:nvSpPr>
        <p:spPr>
          <a:xfrm>
            <a:off x="1097280" y="35712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9966"/>
                </a:solidFill>
                <a:latin typeface="Tahoma"/>
              </a:rPr>
              <a:t>Activida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28760" y="357120"/>
          <a:ext cx="8715240" cy="6303960"/>
        </p:xfrm>
        <a:graphic>
          <a:graphicData uri="http://schemas.openxmlformats.org/drawingml/2006/table">
            <a:tbl>
              <a:tblPr/>
              <a:tblGrid>
                <a:gridCol w="1528560"/>
                <a:gridCol w="1773360"/>
                <a:gridCol w="541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8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Introducción-Formación de grupos-Presentacione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5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Concepto de Biomasa-Presentacione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2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9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Biodiesel y Biogá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ioetanol y Biobutanol – Selección del Tema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Informes-Laboratorio de BIOGA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9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1-Descripcion del Biocombustible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6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troducción al Diseño conceptual de Proceso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diagramas de entrada y salid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alance de Masa sin y  con reacción Químic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4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iagramas de Bloques y  de flujo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1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2-Descripcion del Proceso 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Taller sobre elaboración de Flowsheet-calculo economía potencial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1-Jul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xame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Presentaciones (mel-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ject 12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324680" cy="5067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11-04-05T16:29:14Z</dcterms:modified>
  <cp:revision>192</cp:revision>
  <dc:subject/>
  <dc:title>Diapositiva 1</dc:title>
</cp:coreProperties>
</file>